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11.gif" ContentType="image/gif"/>
  <Override PartName="/ppt/media/image31.jpeg" ContentType="image/jpeg"/>
  <Override PartName="/ppt/media/image32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0.png" ContentType="image/png"/>
  <Override PartName="/ppt/media/image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applause.wav" ContentType="audio/x-wav"/>
  <Override PartName="/ppt/media/image43.jpeg" ContentType="image/jpe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526-008B-42A6-B03D-CBFA2FD36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91;&#1089;&#1089;&#1080;&#1103;" TargetMode="External"/><Relationship Id="rId2" Type="http://schemas.openxmlformats.org/officeDocument/2006/relationships/hyperlink" Target="http://ru.wikipedia.org/wiki/&#1050;&#1091;&#1088;&#1092;&#1102;&#1088;&#1089;&#1090;" TargetMode="External"/><Relationship Id="rId3" Type="http://schemas.openxmlformats.org/officeDocument/2006/relationships/hyperlink" Target="http://ru.wikipedia.org/w/index.php?title=&#1051;&#1077;&#1085;&#1085;&#1072;&#1103;_&#1079;&#1072;&#1074;&#1080;&#1089;&#1080;&#1084;&#1086;&#1089;&#1090;&#1100;&amp;action=edit&amp;redlink=1" TargetMode="External"/><Relationship Id="rId4" Type="http://schemas.openxmlformats.org/officeDocument/2006/relationships/hyperlink" Target="http://ru.wikipedia.org/wiki/&#1055;&#1086;&#1083;&#1100;&#1096;&#1072;" TargetMode="External"/><Relationship Id="rId5" Type="http://schemas.openxmlformats.org/officeDocument/2006/relationships/hyperlink" Target="http://ru.wikipedia.org/wiki/&#1057;&#1077;&#1074;&#1077;&#1088;&#1085;&#1072;&#1103;_&#1074;&#1086;&#1081;&#1085;&#1072;_(1655&#8212;1660)" TargetMode="External"/><Relationship Id="rId6" Type="http://schemas.openxmlformats.org/officeDocument/2006/relationships/hyperlink" Target="http://ru.wikipedia.org/wiki/&#1057;&#1077;&#1074;&#1077;&#1088;&#1085;&#1072;&#1103;_&#1074;&#1086;&#1081;&#1085;&#1072;_(1655&#8212;1660)" TargetMode="External"/><Relationship Id="rId7" Type="http://schemas.openxmlformats.org/officeDocument/2006/relationships/hyperlink" Target="http://ru.wikipedia.org/wiki/1656_&#1075;&#1086;&#1076;" TargetMode="External"/><Relationship Id="rId8" Type="http://schemas.openxmlformats.org/officeDocument/2006/relationships/hyperlink" Target="http://ru.wikipedia.org/wiki/&#1050;&#1105;&#1085;&#1080;&#1075;&#1089;&#1073;&#1077;&#1088;&#1075;" TargetMode="External"/><Relationship Id="rId9" Type="http://schemas.openxmlformats.org/officeDocument/2006/relationships/hyperlink" Target="http://ru.wikipedia.org/wiki/&#1052;&#1072;&#1088;&#1080;&#1077;&#1085;&#1073;&#1091;&#1088;&#1075;" TargetMode="External"/><Relationship Id="rId10" Type="http://schemas.openxmlformats.org/officeDocument/2006/relationships/hyperlink" Target="http://ru.wikipedia.org/wiki/1656_&#1075;&#1086;&#1076;" TargetMode="External"/><Relationship Id="rId11" Type="http://schemas.openxmlformats.org/officeDocument/2006/relationships/hyperlink" Target="http://ru.wikipedia.org/wiki/&#1050;&#1072;&#1088;&#1083;_X_(&#1082;&#1086;&#1088;&#1086;&#1083;&#1100;_&#1064;&#1074;&#1077;&#1094;&#1080;&#1080;)" TargetMode="External"/><Relationship Id="rId12" Type="http://schemas.openxmlformats.org/officeDocument/2006/relationships/hyperlink" Target="http://ru.wikipedia.org/wiki/&#1042;&#1072;&#1088;&#1096;&#1072;&#1074;&#1072;" TargetMode="External"/><Relationship Id="rId13" Type="http://schemas.openxmlformats.org/officeDocument/2006/relationships/hyperlink" Target="http://ru.wikipedia.org/wiki/20_&#1085;&#1086;&#1103;&#1073;&#1088;&#1103;" TargetMode="External"/><Relationship Id="rId14" Type="http://schemas.openxmlformats.org/officeDocument/2006/relationships/hyperlink" Target="http://ru.wikipedia.org/wiki/&#1051;&#1072;&#1073;&#1080;&#1072;&#1091;" TargetMode="External"/><Relationship Id="rId15" Type="http://schemas.openxmlformats.org/officeDocument/2006/relationships/hyperlink" Target="http://ru.wikipedia.org/wiki/&#1057;&#1091;&#1074;&#1077;&#1088;&#1077;&#1085;&#1080;&#1090;&#1077;&#1090;" TargetMode="External"/><Relationship Id="rId16" Type="http://schemas.openxmlformats.org/officeDocument/2006/relationships/hyperlink" Target="http://ru.wikipedia.org/wiki/&#1048;&#1084;&#1087;&#1077;&#1088;&#1072;&#1090;&#1086;&#1088;" TargetMode="External"/><Relationship Id="rId17" Type="http://schemas.openxmlformats.org/officeDocument/2006/relationships/hyperlink" Target="http://ru.wikipedia.org/wiki/1657_&#1075;&#1086;&#1076;" TargetMode="External"/><Relationship Id="rId18" Type="http://schemas.openxmlformats.org/officeDocument/2006/relationships/hyperlink" Target="http://ru.wikipedia.org/wiki/&#1042;&#1077;&#1083;&#1072;&#1091;" TargetMode="External"/><Relationship Id="rId19" Type="http://schemas.openxmlformats.org/officeDocument/2006/relationships/hyperlink" Target="http://ru.wikipedia.org/wiki/6_&#1085;&#1086;&#1103;&#1073;&#1088;&#1103;" TargetMode="External"/><Relationship Id="rId20" Type="http://schemas.openxmlformats.org/officeDocument/2006/relationships/hyperlink" Target="http://ru.wikipedia.org/wiki/&#1041;&#1088;&#1086;&#1084;&#1073;&#1077;&#1088;&#1075;" TargetMode="External"/><Relationship Id="rId21" Type="http://schemas.openxmlformats.org/officeDocument/2006/relationships/hyperlink" Target="http://ru.wikipedia.org/wiki/&#1054;&#1083;&#1080;&#1074;&#1089;&#1082;&#1080;&#1081;_&#1084;&#1080;&#1088;" TargetMode="External"/><Relationship Id="rId22" Type="http://schemas.openxmlformats.org/officeDocument/2006/relationships/hyperlink" Target="http://ru.wikipedia.org/wiki/&#1054;&#1083;&#1080;&#1074;&#1089;&#1082;&#1080;&#1081;_&#1084;&#1080;&#1088;" TargetMode="External"/><Relationship Id="rId23" Type="http://schemas.openxmlformats.org/officeDocument/2006/relationships/hyperlink" Target="http://ru.wikipedia.org/wiki/1660_&#1075;&#1086;&#1076;" TargetMode="External"/><Relationship Id="rId24" Type="http://schemas.openxmlformats.org/officeDocument/2006/relationships/hyperlink" Target="http://ru.wikipedia.org/wiki/&#1057;&#1091;&#1074;&#1077;&#1088;&#1077;&#1085;" TargetMode="External"/><Relationship Id="rId25" Type="http://schemas.openxmlformats.org/officeDocument/2006/relationships/slide" Target="../slides/slide31.xml"/><Relationship Id="rId26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372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по­ли­ти­че­ской си­сте­ме об­ще­ства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 со­став по­ли­ти­че­ской си­сте­мы об­ще­ства могут вхо­дить об­ще­ствен­ные ор­га­ни­за­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В по­ли­ти­че­скую си­сте­му об­ще­ства вхо­дят ор­га­ны го­су­дар­ствен­ной вла­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По­ли­ти­че­ская си­сте­ма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− мно­го­функ­ци­о­наль­ный ме­ха­низм, вклю­ча­ю­щий го­су­дар­ствен­ные и не­го­су­дар­ствен­ные со­ци­аль­ные ин­сти­ту­ты, ко­то­рые осу­ществ­ля­ют по­ли­ти­че­ские функ­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Эк­за­ме­на­ци­он­ная работа ЕГЭ — 2013. Центр: ва­ри­ант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A 16 № 3303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по­ли­ти­че­ских эли­тах?А. По­ми­мо фор­маль­ной власт­ной элиты в каж­дой стра­не фор­ми­ру­ет­ся кон­тр­э­ли­та, в ко­то­рую вхо­дят ли­де­ры, на­хо­дя­щи­е­ся в не­при­ми­ри­мой, ра­ди­каль­ной оп­по­зи­ции и не участ­ву­ю­щие в де­я­тель­но­сти вы­бор­ных пред­ста­ви­тель­ных ор­га­нов вла­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. Важ­ным ин­сти­ту­том для ре­кру­ти­ро­ва­ния элиты яв­ля­ют­ся молодёжные дви­же­ния и об­ще­ствен­ные объ­еди­не­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­ли­ти­че­ская элита — груп­па лиц, за­ни­ма­ю­щая при­ви­ле­ги­ро­ван­ное по­ло­же­ние, не­по­сред­ствен­ное и си­сте­ма­ти­че­ски вли­я­ю­щая на при­ня­тие ре­ше­ний го­су­дар­ствен­ной вла­ст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­глас­но тео­рии элиты, кроме груп­пы лиц, на­хо­дя­щей­ся у вла­сти, есть люди, спо­соб­ные управ­лять, но до­ступ к вла­сти ко­то­рой пе­ре­крыт из-за со­ци­аль­но­го ста­ту­са и раз­лич­ных ба­рье­ров. Как толь­ко пра­вя­щий класс не может удер­жи­вать власть ему на смену при­хо­дит кон­тр­э­ли­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­ми­ро­ва­ние (ре­кру­ти­ро­ва­ние) элиты про­ис­хо­дит бла­го­да­ря раз­лич­ным де­мо­кра­ти­че­ским ин­сти­ту­там, свя­зан­ным с вы­бо­ра­ми и по­ли­ти­че­ской кон­ку­рен­ци­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­виль­ный ответ: верны оба суж­де­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рятать пояснение 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 - верно, это одна из пря­мых задач по­ли­ти­че­ской эл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не­вер­но в пер­во­быт­ном об­ще­стве по­ли­ти­че­ской элиты не су­ще­ство­ва­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: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Тре­ни­ро­воч­ная ра­бо­та 1 10.10.13 Ва­ри­ант ОБ101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108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ы ли сле­ду­ю­щие суж­де­ния о по­ли­ти­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о на­прав­ле­ни­ям де­я­тель­но­сти по­ли­ти­ка под­раз­де­ля­ет­ся на внут­рен­нюю и внеш­ню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о сфе­рам охва­та по­ли­ти­ка может быть эко­но­ми­че­ской, со­ци­аль­ной, на­ци­о­наль­ной, куль­тур­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го­су­дар­ства есть два курса —  внут­рен­ний и внеш­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 же по­ли­ти­че­ская де­я­тель­ность де­лить­ся по со­ци­аль­ным сфе­рам: эко­но­ми­че­ская, ду­хов­ная, со­ци­аль­ная, на­ци­о­наль­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 ука­зан под но­ме­ром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имание Фридриха-Вильгельма направляется с этих пор на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уссию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которой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урфюрст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владели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енной зависим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от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льш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Желание уничтожить эту зависимость и достигнуть суверенитета Пруссии заставило курфюрста принять участие в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шведско-польской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войне 1655—1661 год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 января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656 год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был заключён договор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Кёнигсберг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который обязывал курфюрста иметь наготове для шведов значительные военные силы. Новый договор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ариенбург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(июнь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56 год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ещё теснее связывал курфюрста с королем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Карлом X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Победа над поляками в трехдневной битве под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Варшав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одержанная при помощи бранденбургских войск, подняла военный престиж курфюрста.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20 ноябр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Карл Χ заключил с курфюрстом третий договор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Лабиа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по которому Фридрих-Вильгельм получал полный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уверенитет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в Прусс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тигнув своей цели, курфюрст стал подумывать о перемене фронта и о сближении с польско-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императорск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партией. Ему было очень важно получить именно от польского короля санкцию суверенитета в Пруссии. О перемене позиции курфюрста его бывшие союзники узнали только тогда, когда она была уже совершившимся факт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лету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1657 год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дипломатическое сближение курфюрста с Польшей значительно подвинулось вперед. В сентябре этого года заключен был договор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Вела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обеспечивший за курфюрстом верховную власть над Пруссией.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6 ноябр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Велауский трактат был ратифицирован в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Бромберг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Оливский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мир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1660 год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подтвердил Велауское соглаш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перь все старания курфюрста были направлены на то, чтобы фактически осуществить свою власть в Пруссии. Предстояла борьба с привилегированным населением городов и с дворянами. Сословия отказались присягать своему новому </a:t>
            </a: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уверен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и искали сближения с Польшей. Во главе городской оппозиции стал Иероним Роде из Кёнигсберга, а во главе дворянской — фон Калькштейн. Фридрих-Вильгельм действовал с неутомимой энергией и большой строгостью. Заключив главнейших вожаков восстания в тюрьму, он в 1663 годы усмирил недовольных классы. Калькштейн, убежав из тюрьмы в 1668 году, явился к польскому королю с просьбой о помощи против тирана; он уверял короля, что Пруссия ищет лишь случая вернуться под польский суверенитет. Курфюрст тщетно требовал выдачи преступника. Хитростью завлечённый в Мемель, Калькштейн былказнён в 1671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412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вла­сти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ущ­ность вла­сти за­клю­ча­ет­ся в це­ле­на­прав­лен­ном воз­дей­ствии воли од­но­го че­ло­ве­ка на волю дру­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В со­вре­мен­ном де­мо­кра­ти­че­ском об­ще­стве по­ли­ти­че­ская власть со­сре­до­то­че­на ис­клю­чи­тель­но в руках го­су­дар­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ж­де­ние А 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ж­де­ние Б не­вер­но.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­зя отож­деств­лять по­ли­ти­че­скую власть с го­су­дар­ствен­ной. По­ли­ти­че­ская власть осу­ществ­ля­ет­ся в рам­ках пар­тий, проф­со­ю­зов, меж­ду­на­род­ных ор­га­ни­за­ций, не яв­ля­ю­щих­ся ор­га­на­ми го­су­дар­ствен­ной вла­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Эк­за­ме­на­ци­он­ная работа ЕГЭ — 2013. Сибирь: ва­ри­ант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263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го­су­дар­ствен­ной вла­сти?А. Го­су­дар­ствен­ная власть яв­ля­ет­ся раз­но­вид­но­стью по­ли­ти­че­ской вла­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Любое про­яв­ле­ние власт­ных от­но­ше­ний в об­ще­стве свя­за­но с де­я­тель­но­стью го­су­дар­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­ли­ти­че­ская власть - это право, спо­соб­ность и воз­мож­ность от­ста­и­вать и пре­тво­рять в жизнь опре­де­лен­ные по­ли­ти­че­ские взгля­ды, уста­нов­ки,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­су­дар­ствен­ная власть - один из видов вла­сти в об­ще­стве, где в ка­че­стве субъ­ек­та вла­сти (того, кто её осу­ществ­ля­ет) вы­сту­па­ет го­су­дар­ство в лице своих ор­га­нов, долж­ност­ных лиц, а в ка­че­стве объ­ек­та вла­сти - на­се­ле­ние стра­ны. Сле­до­ва­тель­но го­су­дар­ствен­ная власть раз­но­вид­ность вла­сти по­ли­ти­че­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про­яв­ле­ние власт­ных от­но­ше­ний в об­ще­стве не все­гда свя­за­но с го­су­дар­ством (власть ро­ди­те­лей, свя­щен­ни­ка, на­чаль­ства на ра­бо­т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 ука­зан под но­ме­ром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326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при­ро­де вла­сти? Власть пред­став­ля­ет собойА. осо­бый тип об­ще­ствен­ных от­но­ше­ний, свя­зан­ный с функ­ци­ей со­ци­аль­но­го управ­ле­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во­ле­вое дей­ствие, при ко­то­ром воля и же­ла­ния од­но­го субъ­ек­та опре­де­ля­ют по­ве­де­ние дру­гих субъ­ек­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а суж­де­ния о вла­сти вер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A 16 № 71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по­ли­ти­че­ской вла­сти?А. Власть по­яви­лась с воз­ник­но­ве­ни­ем че­ло­ве­че­ско­го об­ще­ства и будет в той или иной форме все­гда со­пут­ство­вать его раз­ви­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Власть есть при­су­щее об­ще­ству во­ле­вое от­но­ше­ние между лю­дь­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­виль­ный ответ ука­зан под но­ме­ром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A 16 № 3905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Верны ли сле­ду­ю­щие суж­де­ния о по­ли­ти­ке?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. По­ли­ти­ка на­прав­ле­на на за­во­е­ва­ние и ис­поль­зо­ва­ние го­су­дар­ствен­ной вла­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. Любой во­прос может стать по­ли­ти­че­ским, если в опре­делённых усло­ви­ях он за­тра­ги­ва­ет ин­те­ре­сы всего об­ще­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) верно толь­ко А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) верно толь­ко Б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 верны оба суж­де­ни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) оба суж­де­ния не­вер­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­яс­не­ние.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уж­де­ние А верно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Ядром по­ли­ти­че­ской де­я­тель­но­сти яв­ля­ют­ся от­но­ше­ния и дей­ствия, свя­зан­ные с за­во­е­ва­ни­ем, удер­жа­ни­ем и ис­поль­зо­ва­ни­ем го­су­дар­ствен­ной вла­сти, уча­сти­ем в фор­ми­ро­ва­нии такой вла­сти, в опре­де­ле­нии форм, задач и со­дер­жа­ния ее де­я­тель­но­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уж­де­ние Б верно.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для ре­ше­ния куль­тур­ных, эко­но­ми­че­ских и др. во­про­сов, как пра­ви­ло за­тра­ги­ва­ю­щих ин­те­ре­сы всего об­ще­ства (боль­шой груп­пы) тре­бу­ет­ся ис­поль­зо­ва­ние го­су­дар­ствен­ной вла­сти, то такие во­про­сы ста­но­вят­ся по­ли­ти­че­ски­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­виль­ный ответ: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Эк­за­ме­на­ци­он­ная работа ЕГЭ — 2013. Даль­ний Восток: ва­ри­ант 2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1BC0-A259-4346-BC03-D4A5BC9C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6AA3-531F-476E-A080-B6BB415A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800A-96D8-495F-9E33-9CF59E5D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A487-F2E7-4F86-BF62-E35335DF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0944-21F3-4996-BE55-F98729DF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1A5-3E56-452C-A602-D3E31F0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A086-19C7-48B6-81F9-0717D10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8BA-E7BF-4F84-9A39-237C7B6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EA5C-F7C2-492F-8DF7-1C47A287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BC24-A891-4ED6-BEA4-CC156ADA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EC87-E56F-49FC-90A3-D914288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A124-F356-414A-9744-4F8C8744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B72C-3C86-4A3E-86EE-1DF79AA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9D1C-B86E-4BFE-A013-E2A259B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A5B-34D8-405A-BB72-58FB65C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D41-7152-4B54-B5AA-C4FB670D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C94B-55DA-4A1C-B74A-D7448244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4713-C270-4FD2-9711-1424CB67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6BCC-4B71-4234-BF95-4B328028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A014-6014-4F53-BA20-6A463DDB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CBF4-436A-4191-81DF-61E9375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1955-7161-48D3-98E1-7F6BF15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37B7-F483-4686-B1E9-01DDA81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3FA7-2F67-4153-894B-3D92EFB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7EB1-F442-41F0-B814-BDA798347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E3B-6732-4A5B-9413-7E670B661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21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литическая деятельность челове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58920" y="4292280"/>
            <a:ext cx="571500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47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24360" y="189000"/>
            <a:ext cx="453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cccce6"/>
                </a:solidFill>
                <a:latin typeface="Mistral"/>
              </a:rPr>
              <a:t>Обществознание</a:t>
            </a:r>
            <a:endParaRPr b="0" lang="en-US" sz="4400" spc="1" strike="noStrike">
              <a:ln w="9360">
                <a:solidFill>
                  <a:srgbClr val="666699"/>
                </a:solidFill>
                <a:miter/>
              </a:ln>
              <a:solidFill>
                <a:srgbClr val="cccce6"/>
              </a:solidFill>
              <a:latin typeface="Mistral"/>
              <a:ea typeface="Mistr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63640" y="189000"/>
            <a:ext cx="1324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cccce6"/>
                </a:solidFill>
                <a:latin typeface="Mistral"/>
              </a:rPr>
              <a:t>10 класс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cccce6"/>
              </a:solidFill>
              <a:latin typeface="Mistral"/>
              <a:ea typeface="Mistral"/>
            </a:endParaRPr>
          </a:p>
        </p:txBody>
      </p:sp>
      <p:sp>
        <p:nvSpPr>
          <p:cNvPr id="117" name=""/>
          <p:cNvSpPr/>
          <p:nvPr/>
        </p:nvSpPr>
        <p:spPr>
          <a:xfrm rot="20626800">
            <a:off x="6048360" y="4735080"/>
            <a:ext cx="3095640" cy="2122560"/>
          </a:xfrm>
          <a:custGeom>
            <a:avLst/>
            <a:gdLst>
              <a:gd name="textAreaLeft" fmla="*/ 706680 w 3095640"/>
              <a:gd name="textAreaRight" fmla="*/ 2388960 w 3095640"/>
              <a:gd name="textAreaTop" fmla="*/ 484560 h 2122560"/>
              <a:gd name="textAreaBottom" fmla="*/ 1638000 h 212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\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и за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ыб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1052640"/>
            <a:ext cx="3168720" cy="647640"/>
          </a:xfrm>
          <a:prstGeom prst="rect">
            <a:avLst/>
          </a:prstGeom>
          <a:solidFill>
            <a:srgbClr val="9999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4F07-4413-4773-92BE-FFCA64CB8CCE}" type="datetime3">
              <a:rPr b="0" lang="en-US" sz="28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9959" t="0" r="24499" b="0"/>
          <a:stretch/>
        </p:blipFill>
        <p:spPr>
          <a:xfrm>
            <a:off x="539640" y="3573360"/>
            <a:ext cx="1893960" cy="289584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БОУ СОШ г. Багратионовска                           Сомова С.Г.</a:t>
            </a: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332000" y="549360"/>
            <a:ext cx="3598920" cy="254484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15700" r="0" b="55044"/>
          <a:stretch/>
        </p:blipFill>
        <p:spPr>
          <a:xfrm>
            <a:off x="395280" y="3645000"/>
            <a:ext cx="4464000" cy="218268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435640" y="1197000"/>
            <a:ext cx="3241800" cy="249084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435640" y="4005360"/>
            <a:ext cx="2809800" cy="210816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067280" y="2708280"/>
            <a:ext cx="1895400" cy="189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5903 C 0.05538 0.09884 0.10573 0.13889 0.12014 0.19352 C 0.13455 0.24838 0.11979 0.33565 0.09097 0.38773 C 0.06233 0.43981 0.01215 0.48449 -0.05191 0.50648 C -0.1158 0.52847 -0.22239 0.53518 -0.29219 0.5206 C -0.36215 0.50625 -0.43177 0.47014 -0.47135 0.42014 C -0.51094 0.37014 -0.5276 0.29514 -0.52969 0.2206 C -0.5316 0.14606 -0.49323 0.02569 -0.48316 -0.02732 C -0.47292 -0.08033 -0.47066 -0.08889 -0.46857 -0.09746 E">
                                      <p:cBhvr>
                                        <p:cTn id="176" dur="3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C 0.10469 -0.03055 0.20955 -0.06088 0.28628 -0.01412 C 0.36302 0.03264 0.43854 0.1831 0.46059 0.28079 C 0.48264 0.37847 0.47066 0.50718 0.41823 0.57176 C 0.3658 0.63634 0.23455 0.67245 0.14549 0.66875 C 0.05642 0.66505 -0.06875 0.59537 -0.11667 0.54954 C -0.16458 0.5037 -0.13802 0.41991 -0.14236 0.39398 E">
                                      <p:cBhvr>
                                        <p:cTn id="178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18519E-006 C -0.03976 -0.02917 -0.07952 -0.05834 -0.09549 -0.10926 C -0.11147 -0.16019 -0.10782 -0.25116 -0.09549 -0.3051 C -0.08317 -0.35903 -0.07327 -0.39445 -0.02119 -0.43241 C 0.0309 -0.47038 0.14843 -0.52362 0.21666 -0.53334 C 0.28489 -0.54306 0.34513 -0.51459 0.38784 -0.49098 C 0.43055 -0.46737 0.4493 -0.4632 0.47274 -0.3919 C 0.49617 -0.32061 0.546 -0.14862 0.52881 -0.06274 C 0.51162 0.02314 0.39617 0.09212 0.36961 0.12314 E">
                                      <p:cBhvr>
                                        <p:cTn id="180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C -0.00417 0.06366 -0.00816 0.12731 -0.05608 0.15972 C -0.10399 0.19213 -0.22604 0.20579 -0.28785 0.19398 C -0.34965 0.18218 -0.40243 0.11204 -0.42726 0.08889 C -0.45208 0.06574 -0.43108 0.07778 -0.43628 0.05463 C -0.44149 0.03148 -0.46458 0.00417 -0.45903 -0.05046 C -0.45347 -0.10509 -0.42587 -0.20671 -0.40295 -0.27269 C -0.38003 -0.33866 -0.38194 -0.41852 -0.32118 -0.44653 C -0.26042 -0.47454 -0.09583 -0.46111 -0.03785 -0.44028 C 0.02014 -0.41944 0.01788 -0.34259 0.02726 -0.32107 C 0.03663 -0.29954 0.02743 -0.30532 0.01823 -0.31111 E">
                                      <p:cBhvr>
                                        <p:cTn id="182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и объекты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1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212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213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67652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уя учебник стр. 238-239 составьте схем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Субъекты поли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53680" y="2205000"/>
            <a:ext cx="4370760" cy="4370040"/>
            <a:chOff x="2353680" y="2205000"/>
            <a:chExt cx="4370760" cy="4370040"/>
          </a:xfrm>
        </p:grpSpPr>
        <p:sp>
          <p:nvSpPr>
            <p:cNvPr id="221" name="_s73743"/>
            <p:cNvSpPr/>
            <p:nvPr/>
          </p:nvSpPr>
          <p:spPr>
            <a:xfrm flipH="1">
              <a:off x="3446280" y="4390200"/>
              <a:ext cx="546480" cy="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73742"/>
            <p:cNvSpPr/>
            <p:nvPr/>
          </p:nvSpPr>
          <p:spPr>
            <a:xfrm>
              <a:off x="2353680" y="3843720"/>
              <a:ext cx="109260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73740"/>
            <p:cNvSpPr/>
            <p:nvPr/>
          </p:nvSpPr>
          <p:spPr>
            <a:xfrm>
              <a:off x="4539240" y="4936320"/>
              <a:ext cx="0" cy="54612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73739"/>
            <p:cNvSpPr/>
            <p:nvPr/>
          </p:nvSpPr>
          <p:spPr>
            <a:xfrm>
              <a:off x="3993120" y="548244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73738"/>
            <p:cNvSpPr/>
            <p:nvPr/>
          </p:nvSpPr>
          <p:spPr>
            <a:xfrm>
              <a:off x="5085360" y="4390200"/>
              <a:ext cx="546480" cy="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73737"/>
            <p:cNvSpPr/>
            <p:nvPr/>
          </p:nvSpPr>
          <p:spPr>
            <a:xfrm>
              <a:off x="5632200" y="384372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73736"/>
            <p:cNvSpPr/>
            <p:nvPr/>
          </p:nvSpPr>
          <p:spPr>
            <a:xfrm flipV="1">
              <a:off x="4539240" y="3297240"/>
              <a:ext cx="0" cy="54612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73735"/>
            <p:cNvSpPr/>
            <p:nvPr/>
          </p:nvSpPr>
          <p:spPr>
            <a:xfrm>
              <a:off x="3993120" y="220500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73734"/>
            <p:cNvSpPr/>
            <p:nvPr/>
          </p:nvSpPr>
          <p:spPr>
            <a:xfrm>
              <a:off x="3993120" y="384372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"/>
            <p:cNvCxnSpPr/>
            <p:nvPr/>
          </p:nvCxnSpPr>
          <p:spPr>
            <a:xfrm flipH="1" rot="16200000">
              <a:off x="2916360" y="500688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/>
            <p:nvPr/>
          </p:nvCxnSpPr>
          <p:spPr>
            <a:xfrm flipV="1">
              <a:off x="5101200" y="500724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/>
            <p:nvPr/>
          </p:nvCxnSpPr>
          <p:spPr>
            <a:xfrm flipV="1" rot="16200000">
              <a:off x="5101200" y="282204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/>
            <p:nvPr/>
          </p:nvCxnSpPr>
          <p:spPr>
            <a:xfrm flipV="1" rot="10800000">
              <a:off x="2915640" y="282132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</p:grpSp>
      <p:sp>
        <p:nvSpPr>
          <p:cNvPr id="234" name=""/>
          <p:cNvSpPr/>
          <p:nvPr/>
        </p:nvSpPr>
        <p:spPr>
          <a:xfrm>
            <a:off x="2411280" y="234936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924280"/>
            <a:ext cx="102852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443700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300640"/>
            <a:ext cx="102852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2" idx="4"/>
            <a:endCxn id="237" idx="0"/>
          </p:cNvCxnSpPr>
          <p:nvPr/>
        </p:nvCxnSpPr>
        <p:spPr>
          <a:xfrm flipH="1">
            <a:off x="2709360" y="4937040"/>
            <a:ext cx="19152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2" idx="3"/>
            <a:endCxn id="236" idx="6"/>
          </p:cNvCxnSpPr>
          <p:nvPr/>
        </p:nvCxnSpPr>
        <p:spPr>
          <a:xfrm flipH="1">
            <a:off x="2215440" y="4776840"/>
            <a:ext cx="29916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2" idx="0"/>
            <a:endCxn id="234" idx="4"/>
          </p:cNvCxnSpPr>
          <p:nvPr/>
        </p:nvCxnSpPr>
        <p:spPr>
          <a:xfrm flipV="1">
            <a:off x="2900520" y="3403080"/>
            <a:ext cx="2592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2" idx="1"/>
            <a:endCxn id="235" idx="5"/>
          </p:cNvCxnSpPr>
          <p:nvPr/>
        </p:nvCxnSpPr>
        <p:spPr>
          <a:xfrm flipH="1" flipV="1">
            <a:off x="2208960" y="3823920"/>
            <a:ext cx="3056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588000" y="285264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3860640"/>
            <a:ext cx="1028520" cy="1054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4941720"/>
            <a:ext cx="1028520" cy="1054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26" idx="7"/>
            <a:endCxn id="242" idx="3"/>
          </p:cNvCxnSpPr>
          <p:nvPr/>
        </p:nvCxnSpPr>
        <p:spPr>
          <a:xfrm flipV="1">
            <a:off x="6563880" y="3753000"/>
            <a:ext cx="175320" cy="25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26" idx="6"/>
            <a:endCxn id="243" idx="2"/>
          </p:cNvCxnSpPr>
          <p:nvPr/>
        </p:nvCxnSpPr>
        <p:spPr>
          <a:xfrm flipV="1">
            <a:off x="6724440" y="4386960"/>
            <a:ext cx="369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26" idx="5"/>
            <a:endCxn id="244" idx="1"/>
          </p:cNvCxnSpPr>
          <p:nvPr/>
        </p:nvCxnSpPr>
        <p:spPr>
          <a:xfrm>
            <a:off x="6564240" y="4776840"/>
            <a:ext cx="246960" cy="3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353680" y="2276640"/>
            <a:ext cx="4370760" cy="4370040"/>
            <a:chOff x="2353680" y="2276640"/>
            <a:chExt cx="4370760" cy="4370040"/>
          </a:xfrm>
        </p:grpSpPr>
        <p:sp>
          <p:nvSpPr>
            <p:cNvPr id="249" name="_s76806"/>
            <p:cNvSpPr/>
            <p:nvPr/>
          </p:nvSpPr>
          <p:spPr>
            <a:xfrm flipH="1">
              <a:off x="3446280" y="4461840"/>
              <a:ext cx="546480" cy="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76807"/>
            <p:cNvSpPr/>
            <p:nvPr/>
          </p:nvSpPr>
          <p:spPr>
            <a:xfrm>
              <a:off x="2353680" y="3915360"/>
              <a:ext cx="109260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бщ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76808"/>
            <p:cNvSpPr/>
            <p:nvPr/>
          </p:nvSpPr>
          <p:spPr>
            <a:xfrm>
              <a:off x="4539240" y="5007960"/>
              <a:ext cx="0" cy="54612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76809"/>
            <p:cNvSpPr/>
            <p:nvPr/>
          </p:nvSpPr>
          <p:spPr>
            <a:xfrm>
              <a:off x="3993120" y="555408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эли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76810"/>
            <p:cNvSpPr/>
            <p:nvPr/>
          </p:nvSpPr>
          <p:spPr>
            <a:xfrm>
              <a:off x="5085360" y="4461840"/>
              <a:ext cx="546480" cy="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76811"/>
            <p:cNvSpPr/>
            <p:nvPr/>
          </p:nvSpPr>
          <p:spPr>
            <a:xfrm>
              <a:off x="5632200" y="391536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литическ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рганизац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и объедин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76812"/>
            <p:cNvSpPr/>
            <p:nvPr/>
          </p:nvSpPr>
          <p:spPr>
            <a:xfrm flipV="1">
              <a:off x="4539240" y="3368880"/>
              <a:ext cx="0" cy="546120"/>
            </a:xfrm>
            <a:prstGeom prst="line">
              <a:avLst/>
            </a:prstGeom>
            <a:ln w="7632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6813"/>
            <p:cNvSpPr/>
            <p:nvPr/>
          </p:nvSpPr>
          <p:spPr>
            <a:xfrm>
              <a:off x="3993120" y="227664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ич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76814"/>
            <p:cNvSpPr/>
            <p:nvPr/>
          </p:nvSpPr>
          <p:spPr>
            <a:xfrm>
              <a:off x="3993120" y="3915360"/>
              <a:ext cx="1092240" cy="1092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убъек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0" idx="4"/>
              <a:endCxn id="252" idx="2"/>
            </p:cNvCxnSpPr>
            <p:nvPr/>
          </p:nvCxnSpPr>
          <p:spPr>
            <a:xfrm flipH="1" rot="16200000">
              <a:off x="2899080" y="500724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2" idx="6"/>
              <a:endCxn id="254" idx="4"/>
            </p:cNvCxnSpPr>
            <p:nvPr/>
          </p:nvCxnSpPr>
          <p:spPr>
            <a:xfrm flipV="1">
              <a:off x="5085000" y="500760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4" idx="0"/>
              <a:endCxn id="256" idx="6"/>
            </p:cNvCxnSpPr>
            <p:nvPr/>
          </p:nvCxnSpPr>
          <p:spPr>
            <a:xfrm flipV="1" rot="16200000">
              <a:off x="5085000" y="282204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6" idx="2"/>
              <a:endCxn id="250" idx="0"/>
            </p:cNvCxnSpPr>
            <p:nvPr/>
          </p:nvCxnSpPr>
          <p:spPr>
            <a:xfrm flipV="1" rot="10800000">
              <a:off x="2899440" y="2821320"/>
              <a:ext cx="1092960" cy="1092960"/>
            </a:xfrm>
            <a:prstGeom prst="curvedConnector2">
              <a:avLst/>
            </a:prstGeom>
            <a:ln w="76320">
              <a:solidFill>
                <a:srgbClr val="00007d"/>
              </a:solidFill>
              <a:miter/>
              <a:tailEnd len="med" type="triangle" w="med"/>
            </a:ln>
          </p:spPr>
        </p:cxnSp>
      </p:grpSp>
      <p:sp>
        <p:nvSpPr>
          <p:cNvPr id="262" name=""/>
          <p:cNvSpPr/>
          <p:nvPr/>
        </p:nvSpPr>
        <p:spPr>
          <a:xfrm>
            <a:off x="2050920" y="256536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321300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450864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530064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50" idx="4"/>
            <a:endCxn id="265" idx="0"/>
          </p:cNvCxnSpPr>
          <p:nvPr/>
        </p:nvCxnSpPr>
        <p:spPr>
          <a:xfrm flipH="1">
            <a:off x="2564640" y="5008320"/>
            <a:ext cx="335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0" idx="3"/>
            <a:endCxn id="264" idx="6"/>
          </p:cNvCxnSpPr>
          <p:nvPr/>
        </p:nvCxnSpPr>
        <p:spPr>
          <a:xfrm flipH="1">
            <a:off x="2215440" y="4847760"/>
            <a:ext cx="29916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0" idx="0"/>
            <a:endCxn id="262" idx="4"/>
          </p:cNvCxnSpPr>
          <p:nvPr/>
        </p:nvCxnSpPr>
        <p:spPr>
          <a:xfrm flipH="1" flipV="1">
            <a:off x="2564640" y="3619440"/>
            <a:ext cx="33588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0" idx="1"/>
            <a:endCxn id="263" idx="6"/>
          </p:cNvCxnSpPr>
          <p:nvPr/>
        </p:nvCxnSpPr>
        <p:spPr>
          <a:xfrm flipH="1" flipV="1">
            <a:off x="2144160" y="3739320"/>
            <a:ext cx="37044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6588000" y="2924280"/>
            <a:ext cx="102888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93080" y="3932280"/>
            <a:ext cx="102852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5013360"/>
            <a:ext cx="1028520" cy="1054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сс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54" idx="7"/>
            <a:endCxn id="270" idx="3"/>
          </p:cNvCxnSpPr>
          <p:nvPr/>
        </p:nvCxnSpPr>
        <p:spPr>
          <a:xfrm flipV="1">
            <a:off x="6563880" y="3823560"/>
            <a:ext cx="17532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4" idx="6"/>
            <a:endCxn id="271" idx="2"/>
          </p:cNvCxnSpPr>
          <p:nvPr/>
        </p:nvCxnSpPr>
        <p:spPr>
          <a:xfrm flipV="1">
            <a:off x="6724440" y="4458600"/>
            <a:ext cx="369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4" idx="5"/>
            <a:endCxn id="272" idx="1"/>
          </p:cNvCxnSpPr>
          <p:nvPr/>
        </p:nvCxnSpPr>
        <p:spPr>
          <a:xfrm>
            <a:off x="6564240" y="4847760"/>
            <a:ext cx="246960" cy="3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4572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уя учебник стр. 238-239 составьте схему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Субъекты поли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ые общности – субъекты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84640"/>
            <a:ext cx="1619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ая империя февраль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1557360"/>
            <a:ext cx="1368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анция 1789 – 1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360" y="2060280"/>
            <a:ext cx="381636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социальные общности (группы) участвовали в данных событ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эти события изменили ход исто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еще события вы можете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08000" y="692280"/>
            <a:ext cx="2690640" cy="246852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619280" y="2625840"/>
            <a:ext cx="3095640" cy="217152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4"/>
          <a:srcRect l="0" t="0" r="4409" b="0"/>
          <a:stretch/>
        </p:blipFill>
        <p:spPr>
          <a:xfrm>
            <a:off x="468360" y="4581360"/>
            <a:ext cx="3097080" cy="205740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284" name=""/>
          <p:cNvSpPr/>
          <p:nvPr/>
        </p:nvSpPr>
        <p:spPr>
          <a:xfrm>
            <a:off x="3635280" y="5734080"/>
            <a:ext cx="144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раина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991280" cy="124308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ческие личности – субъекты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3280" y="1980720"/>
            <a:ext cx="4105440" cy="44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ход каких событий в истории повлияли эти лич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и качествами должны обладать исторические лич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771640" cy="207936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1835280" y="3068640"/>
            <a:ext cx="2376360" cy="178272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3203640" y="198900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тузов М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16360" y="566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ов А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3716280"/>
            <a:ext cx="143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олыпин П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468360" y="4724280"/>
            <a:ext cx="2376360" cy="178272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7840" y="3573360"/>
            <a:ext cx="2017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декабря 1825 г. Восстание декабр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1590840"/>
            <a:ext cx="201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30 г. Анна Иоановна разрывает кон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2744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иты – субъекты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64000" y="1628640"/>
            <a:ext cx="360072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элиты принимали участие в этих событ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о влияние этих событий на истор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808360" cy="187344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2952720" cy="221436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68360" y="4568760"/>
            <a:ext cx="2590920" cy="197820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3203640" y="532116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формы в России в 90-х гг. ХХ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итические партии – субъекты поли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4356000" cy="45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влияние оказывают политические партии на полит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эти партии повлияли на российское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еще партии вы можете наз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952720" cy="212256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1836720" cy="243828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592360" cy="194472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306" name=""/>
          <p:cNvSpPr/>
          <p:nvPr/>
        </p:nvSpPr>
        <p:spPr>
          <a:xfrm>
            <a:off x="3348000" y="1197000"/>
            <a:ext cx="115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СДРП в начале ХХ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3508200"/>
            <a:ext cx="194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ПСС в середине ХХ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524988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Россия в нача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 16 № 3720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ческой системе общества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. В состав политической системы общества могут входить общественные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В политическую систему общества входят органы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35800" y="499284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16 № 330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ческих эли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Помимо формальной властной элиты в каждой стране формируется контр элита, в которую входят лидеры, находящиеся в непримиримой, радикальной оппозиции и не участвующие в деятельности выборных представительных органов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 Важным институтом для рекрутирования элиты являются молодёжные движения и общественные объ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391440" y="5641920"/>
            <a:ext cx="178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052640"/>
            <a:ext cx="6048360" cy="5805360"/>
          </a:xfrm>
          <a:prstGeom prst="octagon">
            <a:avLst>
              <a:gd name="adj" fmla="val 2928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66852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феры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1700280"/>
            <a:ext cx="201636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1700280"/>
            <a:ext cx="201600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4218120"/>
            <a:ext cx="201636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4219560"/>
            <a:ext cx="2016000" cy="187344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22560" y="2131920"/>
            <a:ext cx="1876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номи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ск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59280" y="2131920"/>
            <a:ext cx="1847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ити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ск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66920" y="4592520"/>
            <a:ext cx="1638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-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ьн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95800" y="4684680"/>
            <a:ext cx="1419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хов-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130" name=""/>
          <p:cNvCxnSpPr>
            <a:stCxn id="122" idx="3"/>
            <a:endCxn id="123" idx="1"/>
          </p:cNvCxnSpPr>
          <p:nvPr/>
        </p:nvCxnSpPr>
        <p:spPr>
          <a:xfrm>
            <a:off x="4067280" y="2636640"/>
            <a:ext cx="721440" cy="108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4" idx="3"/>
            <a:endCxn id="125" idx="1"/>
          </p:cNvCxnSpPr>
          <p:nvPr/>
        </p:nvCxnSpPr>
        <p:spPr>
          <a:xfrm>
            <a:off x="4067280" y="5154120"/>
            <a:ext cx="721440" cy="252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stCxn id="122" idx="2"/>
            <a:endCxn id="124" idx="0"/>
          </p:cNvCxnSpPr>
          <p:nvPr/>
        </p:nvCxnSpPr>
        <p:spPr>
          <a:xfrm>
            <a:off x="3058920" y="3573000"/>
            <a:ext cx="1080" cy="64548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>
            <a:stCxn id="123" idx="2"/>
            <a:endCxn id="125" idx="0"/>
          </p:cNvCxnSpPr>
          <p:nvPr/>
        </p:nvCxnSpPr>
        <p:spPr>
          <a:xfrm>
            <a:off x="5795640" y="3573000"/>
            <a:ext cx="1080" cy="64692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780000" y="3284640"/>
            <a:ext cx="1368360" cy="1224000"/>
          </a:xfrm>
          <a:prstGeom prst="line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80000" y="3284640"/>
            <a:ext cx="1296720" cy="1224000"/>
          </a:xfrm>
          <a:prstGeom prst="line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475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ческой эли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Политическая элита существовала во всех исторических типах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Политическая элита должна создавать механизм воплощения политических замы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300720" y="494172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6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297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298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912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екты полит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2951280" cy="264492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457200" y="1773360"/>
            <a:ext cx="6130080" cy="4607280"/>
            <a:chOff x="457200" y="1773360"/>
            <a:chExt cx="6130080" cy="4607280"/>
          </a:xfrm>
        </p:grpSpPr>
        <p:cxnSp>
          <p:nvCxnSpPr>
            <p:cNvPr id="331" name="_s82963"/>
            <p:cNvCxnSpPr>
              <a:stCxn id="332" idx="0"/>
              <a:endCxn id="333" idx="2"/>
            </p:cNvCxnSpPr>
            <p:nvPr/>
          </p:nvCxnSpPr>
          <p:spPr>
            <a:xfrm flipV="1">
              <a:off x="5172840" y="4652280"/>
              <a:ext cx="3600" cy="5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82961"/>
            <p:cNvCxnSpPr>
              <a:stCxn id="335" idx="0"/>
              <a:endCxn id="336" idx="2"/>
            </p:cNvCxnSpPr>
            <p:nvPr/>
          </p:nvCxnSpPr>
          <p:spPr>
            <a:xfrm flipV="1">
              <a:off x="1871640" y="4652280"/>
              <a:ext cx="3600" cy="5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82958"/>
            <p:cNvCxnSpPr>
              <a:stCxn id="333" idx="0"/>
              <a:endCxn id="338" idx="2"/>
            </p:cNvCxnSpPr>
            <p:nvPr/>
          </p:nvCxnSpPr>
          <p:spPr>
            <a:xfrm flipV="1" rot="16200000">
              <a:off x="4058640" y="2386800"/>
              <a:ext cx="576360" cy="1651320"/>
            </a:xfrm>
            <a:prstGeom prst="bentConnector3">
              <a:avLst>
                <a:gd name="adj1" fmla="val 218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82956"/>
            <p:cNvCxnSpPr>
              <a:stCxn id="336" idx="0"/>
              <a:endCxn id="338" idx="2"/>
            </p:cNvCxnSpPr>
            <p:nvPr/>
          </p:nvCxnSpPr>
          <p:spPr>
            <a:xfrm flipH="1" flipV="1" rot="5400000">
              <a:off x="2408400" y="2387160"/>
              <a:ext cx="576360" cy="1650600"/>
            </a:xfrm>
            <a:prstGeom prst="bentConnector3">
              <a:avLst>
                <a:gd name="adj1" fmla="val 218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82952"/>
            <p:cNvSpPr/>
            <p:nvPr/>
          </p:nvSpPr>
          <p:spPr>
            <a:xfrm>
              <a:off x="2107080" y="1773360"/>
              <a:ext cx="2829240" cy="1151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ли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82953"/>
            <p:cNvSpPr/>
            <p:nvPr/>
          </p:nvSpPr>
          <p:spPr>
            <a:xfrm>
              <a:off x="457200" y="3501000"/>
              <a:ext cx="2829240" cy="1151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нутрення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82955"/>
            <p:cNvSpPr/>
            <p:nvPr/>
          </p:nvSpPr>
          <p:spPr>
            <a:xfrm>
              <a:off x="3758040" y="3501000"/>
              <a:ext cx="2829240" cy="1151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нешня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82960"/>
            <p:cNvSpPr/>
            <p:nvPr/>
          </p:nvSpPr>
          <p:spPr>
            <a:xfrm>
              <a:off x="457200" y="5229000"/>
              <a:ext cx="2829240" cy="11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– обще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нутри стр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82962"/>
            <p:cNvSpPr/>
            <p:nvPr/>
          </p:nvSpPr>
          <p:spPr>
            <a:xfrm>
              <a:off x="3758040" y="5229000"/>
              <a:ext cx="2829240" cy="11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ъект – миров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ообще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2752" t="4072" r="3685" b="4951"/>
          <a:stretch/>
        </p:blipFill>
        <p:spPr>
          <a:xfrm>
            <a:off x="1547640" y="1916280"/>
            <a:ext cx="6264360" cy="4054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08360" y="3860640"/>
            <a:ext cx="2514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утрення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и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556000" y="1989000"/>
            <a:ext cx="401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778120" y="5950080"/>
            <a:ext cx="4019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 rot="5400000">
            <a:off x="6568920" y="4168800"/>
            <a:ext cx="4019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5400000">
            <a:off x="-1424160" y="4097160"/>
            <a:ext cx="4019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205000"/>
            <a:ext cx="720720" cy="936720"/>
          </a:xfrm>
          <a:prstGeom prst="upArrow">
            <a:avLst>
              <a:gd name="adj1" fmla="val 65194"/>
              <a:gd name="adj2" fmla="val 63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4356000" y="5373720"/>
            <a:ext cx="720720" cy="936720"/>
          </a:xfrm>
          <a:prstGeom prst="upArrow">
            <a:avLst>
              <a:gd name="adj1" fmla="val 65194"/>
              <a:gd name="adj2" fmla="val 63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863640" y="3968640"/>
            <a:ext cx="720720" cy="936720"/>
          </a:xfrm>
          <a:prstGeom prst="upArrow">
            <a:avLst>
              <a:gd name="adj1" fmla="val 65194"/>
              <a:gd name="adj2" fmla="val 63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7848720" y="3897360"/>
            <a:ext cx="720720" cy="936720"/>
          </a:xfrm>
          <a:prstGeom prst="upArrow">
            <a:avLst>
              <a:gd name="adj1" fmla="val 65194"/>
              <a:gd name="adj2" fmla="val 632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 Верны ли следующие суждения о полит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По направлениям деятельности политика подразделяется на внутреннюю и внешню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По сферам охвата политика может быть экономической, социальной, национальной, культу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462720" y="515772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7" dur="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57200" y="1628640"/>
            <a:ext cx="8228520" cy="3885120"/>
            <a:chOff x="457200" y="1628640"/>
            <a:chExt cx="8228520" cy="3885120"/>
          </a:xfrm>
        </p:grpSpPr>
        <p:cxnSp>
          <p:nvCxnSpPr>
            <p:cNvPr id="366" name="_s85004"/>
            <p:cNvCxnSpPr>
              <a:stCxn id="367" idx="0"/>
              <a:endCxn id="368" idx="2"/>
            </p:cNvCxnSpPr>
            <p:nvPr/>
          </p:nvCxnSpPr>
          <p:spPr>
            <a:xfrm flipV="1" rot="16200000">
              <a:off x="5289840" y="2462760"/>
              <a:ext cx="777600" cy="22161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9" name="_s85002"/>
            <p:cNvCxnSpPr>
              <a:stCxn id="370" idx="0"/>
              <a:endCxn id="368" idx="2"/>
            </p:cNvCxnSpPr>
            <p:nvPr/>
          </p:nvCxnSpPr>
          <p:spPr>
            <a:xfrm flipH="1" flipV="1" rot="5400000">
              <a:off x="3074400" y="2463480"/>
              <a:ext cx="777600" cy="22154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_s84998"/>
            <p:cNvSpPr/>
            <p:nvPr/>
          </p:nvSpPr>
          <p:spPr>
            <a:xfrm>
              <a:off x="2671920" y="162864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Цели политической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84999"/>
            <p:cNvSpPr/>
            <p:nvPr/>
          </p:nvSpPr>
          <p:spPr>
            <a:xfrm>
              <a:off x="457200" y="395964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олгосрочные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(стратегические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85001"/>
            <p:cNvSpPr/>
            <p:nvPr/>
          </p:nvSpPr>
          <p:spPr>
            <a:xfrm>
              <a:off x="4888080" y="395964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текущ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457200" y="1981080"/>
            <a:ext cx="8228880" cy="3885120"/>
            <a:chOff x="457200" y="1981080"/>
            <a:chExt cx="8228880" cy="3885120"/>
          </a:xfrm>
        </p:grpSpPr>
        <p:cxnSp>
          <p:nvCxnSpPr>
            <p:cNvPr id="372" name="_s87052"/>
            <p:cNvCxnSpPr>
              <a:stCxn id="373" idx="0"/>
              <a:endCxn id="374" idx="2"/>
            </p:cNvCxnSpPr>
            <p:nvPr/>
          </p:nvCxnSpPr>
          <p:spPr>
            <a:xfrm flipV="1" rot="16200000">
              <a:off x="5622840" y="248292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5" name="_s87051"/>
            <p:cNvCxnSpPr>
              <a:stCxn id="376" idx="0"/>
              <a:endCxn id="374" idx="2"/>
            </p:cNvCxnSpPr>
            <p:nvPr/>
          </p:nvCxnSpPr>
          <p:spPr>
            <a:xfrm flipV="1">
              <a:off x="4571280" y="353484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87050"/>
            <p:cNvCxnSpPr>
              <a:stCxn id="378" idx="0"/>
              <a:endCxn id="374" idx="2"/>
            </p:cNvCxnSpPr>
            <p:nvPr/>
          </p:nvCxnSpPr>
          <p:spPr>
            <a:xfrm flipH="1" flipV="1" rot="5400000">
              <a:off x="2742480" y="248328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4" name="_s87046"/>
            <p:cNvSpPr/>
            <p:nvPr/>
          </p:nvSpPr>
          <p:spPr>
            <a:xfrm>
              <a:off x="3337200" y="1981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ели политическо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87047"/>
            <p:cNvSpPr/>
            <p:nvPr/>
          </p:nvSpPr>
          <p:spPr>
            <a:xfrm>
              <a:off x="45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туаль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_s87048"/>
            <p:cNvSpPr/>
            <p:nvPr/>
          </p:nvSpPr>
          <p:spPr>
            <a:xfrm>
              <a:off x="333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оритет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_s87049"/>
            <p:cNvSpPr/>
            <p:nvPr/>
          </p:nvSpPr>
          <p:spPr>
            <a:xfrm>
              <a:off x="621756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 актуаль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457200" y="1981080"/>
            <a:ext cx="8228520" cy="3885120"/>
            <a:chOff x="457200" y="1981080"/>
            <a:chExt cx="8228520" cy="3885120"/>
          </a:xfrm>
        </p:grpSpPr>
        <p:cxnSp>
          <p:nvCxnSpPr>
            <p:cNvPr id="381" name="_s89100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5289840" y="2815200"/>
              <a:ext cx="777600" cy="22161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4" name="_s89098"/>
            <p:cNvCxnSpPr>
              <a:stCxn id="385" idx="0"/>
              <a:endCxn id="383" idx="2"/>
            </p:cNvCxnSpPr>
            <p:nvPr/>
          </p:nvCxnSpPr>
          <p:spPr>
            <a:xfrm flipH="1" flipV="1" rot="5400000">
              <a:off x="3074400" y="2815920"/>
              <a:ext cx="777600" cy="22154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3" name="_s89094"/>
            <p:cNvSpPr/>
            <p:nvPr/>
          </p:nvSpPr>
          <p:spPr>
            <a:xfrm>
              <a:off x="2671920" y="1981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Цели политической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9095"/>
            <p:cNvSpPr/>
            <p:nvPr/>
          </p:nvSpPr>
          <p:spPr>
            <a:xfrm>
              <a:off x="45720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ре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_s89097"/>
            <p:cNvSpPr/>
            <p:nvPr/>
          </p:nvSpPr>
          <p:spPr>
            <a:xfrm>
              <a:off x="488808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не ре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8" dur="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429" dur="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430" dur="2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4619520" cy="102744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итика 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60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ос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яз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ь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2952720" cy="235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06920" y="0"/>
            <a:ext cx="4537080" cy="308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156360" y="3668760"/>
            <a:ext cx="3313080" cy="318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22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те высказывание Н. Макиавелли в учебнике на стр.241-2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 ли он? Аргументируйте сво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Portrait of Niccolò Machiavelli by Santi di Tito.jpg"/>
          <p:cNvPicPr/>
          <p:nvPr/>
        </p:nvPicPr>
        <p:blipFill>
          <a:blip r:embed="rId2"/>
          <a:stretch/>
        </p:blipFill>
        <p:spPr>
          <a:xfrm>
            <a:off x="5867280" y="1341360"/>
            <a:ext cx="2686320" cy="345600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400" name=""/>
          <p:cNvSpPr/>
          <p:nvPr/>
        </p:nvSpPr>
        <p:spPr>
          <a:xfrm>
            <a:off x="5724360" y="5013360"/>
            <a:ext cx="3168720" cy="160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коло́ Макиаве́л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469 -1527,) — итальянский мыслитель, философ, писатель, политический дея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492360" y="1916280"/>
            <a:ext cx="5183280" cy="44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курса ИЗР вспомните  что сделал этот правитель для истории Пру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цениваете его политику с точки зрения высказывания Н. Макиавел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Фридрих Вильгельм I Бранденбургский"/>
          <p:cNvPicPr/>
          <p:nvPr/>
        </p:nvPicPr>
        <p:blipFill>
          <a:blip r:embed="rId2"/>
          <a:stretch/>
        </p:blipFill>
        <p:spPr>
          <a:xfrm>
            <a:off x="468360" y="1871640"/>
            <a:ext cx="2666880" cy="338148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sp>
        <p:nvSpPr>
          <p:cNvPr id="403" name=""/>
          <p:cNvSpPr/>
          <p:nvPr/>
        </p:nvSpPr>
        <p:spPr>
          <a:xfrm>
            <a:off x="324000" y="539892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ридрих Вильгельм I Бранденбург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0 — 16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полит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8452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оправдывает сред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63640" y="1916280"/>
            <a:ext cx="489744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02744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Политики нередко оказываются перед дилеммой: либо принимать непопулярные меры, либо, отказавшись от этого, еще более ухудшить ситуацию в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Государство является одним из основных субъектов п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391440" y="5137200"/>
            <a:ext cx="178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708360" y="1052640"/>
            <a:ext cx="2808360" cy="1224000"/>
          </a:xfrm>
          <a:prstGeom prst="wedgeRectCallout">
            <a:avLst>
              <a:gd name="adj1" fmla="val -46212"/>
              <a:gd name="adj2" fmla="val 168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ия по достижению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9" dur="2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500" dur="2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501" dur="2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1547280" y="1317600"/>
            <a:ext cx="5544360" cy="5540040"/>
            <a:chOff x="1547280" y="1317600"/>
            <a:chExt cx="5544360" cy="5540040"/>
          </a:xfrm>
        </p:grpSpPr>
        <p:sp>
          <p:nvSpPr>
            <p:cNvPr id="422" name="_s97311"/>
            <p:cNvSpPr/>
            <p:nvPr/>
          </p:nvSpPr>
          <p:spPr>
            <a:xfrm flipH="1" flipV="1">
              <a:off x="3381120" y="2462040"/>
              <a:ext cx="712800" cy="12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97310"/>
            <p:cNvSpPr/>
            <p:nvPr/>
          </p:nvSpPr>
          <p:spPr>
            <a:xfrm>
              <a:off x="2706480" y="162756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изи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авительственны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елегац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97309"/>
            <p:cNvSpPr/>
            <p:nvPr/>
          </p:nvSpPr>
          <p:spPr>
            <a:xfrm flipH="1" flipV="1">
              <a:off x="2694960" y="3147840"/>
              <a:ext cx="1234080" cy="71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97308"/>
            <p:cNvSpPr/>
            <p:nvPr/>
          </p:nvSpPr>
          <p:spPr>
            <a:xfrm>
              <a:off x="1857960" y="2478240"/>
              <a:ext cx="89820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государ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еговор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97307"/>
            <p:cNvSpPr/>
            <p:nvPr/>
          </p:nvSpPr>
          <p:spPr>
            <a:xfrm flipH="1">
              <a:off x="2443680" y="4085280"/>
              <a:ext cx="1425960" cy="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97306"/>
            <p:cNvSpPr/>
            <p:nvPr/>
          </p:nvSpPr>
          <p:spPr>
            <a:xfrm>
              <a:off x="1547280" y="363924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еферендум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97305"/>
            <p:cNvSpPr/>
            <p:nvPr/>
          </p:nvSpPr>
          <p:spPr>
            <a:xfrm flipH="1">
              <a:off x="2694960" y="4311720"/>
              <a:ext cx="1236240" cy="71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97304"/>
            <p:cNvSpPr/>
            <p:nvPr/>
          </p:nvSpPr>
          <p:spPr>
            <a:xfrm>
              <a:off x="1859760" y="4800600"/>
              <a:ext cx="898920" cy="89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азработку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литическ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97303"/>
            <p:cNvSpPr/>
            <p:nvPr/>
          </p:nvSpPr>
          <p:spPr>
            <a:xfrm flipH="1">
              <a:off x="3380760" y="4474800"/>
              <a:ext cx="715320" cy="123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97302"/>
            <p:cNvSpPr/>
            <p:nvPr/>
          </p:nvSpPr>
          <p:spPr>
            <a:xfrm>
              <a:off x="2711160" y="564912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бращ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 народ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97301"/>
            <p:cNvSpPr/>
            <p:nvPr/>
          </p:nvSpPr>
          <p:spPr>
            <a:xfrm>
              <a:off x="4318560" y="4533120"/>
              <a:ext cx="180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97300"/>
            <p:cNvSpPr/>
            <p:nvPr/>
          </p:nvSpPr>
          <p:spPr>
            <a:xfrm>
              <a:off x="3872520" y="595908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ове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артийны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съездо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97299"/>
            <p:cNvSpPr/>
            <p:nvPr/>
          </p:nvSpPr>
          <p:spPr>
            <a:xfrm>
              <a:off x="4545000" y="4472280"/>
              <a:ext cx="711000" cy="123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97298"/>
            <p:cNvSpPr/>
            <p:nvPr/>
          </p:nvSpPr>
          <p:spPr>
            <a:xfrm>
              <a:off x="5033520" y="5646960"/>
              <a:ext cx="898920" cy="89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иплома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еговор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97297"/>
            <p:cNvSpPr/>
            <p:nvPr/>
          </p:nvSpPr>
          <p:spPr>
            <a:xfrm>
              <a:off x="4707720" y="4307040"/>
              <a:ext cx="1234080" cy="71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97296"/>
            <p:cNvSpPr/>
            <p:nvPr/>
          </p:nvSpPr>
          <p:spPr>
            <a:xfrm>
              <a:off x="5882760" y="4795920"/>
              <a:ext cx="898920" cy="89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ли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митинг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97295"/>
            <p:cNvSpPr/>
            <p:nvPr/>
          </p:nvSpPr>
          <p:spPr>
            <a:xfrm>
              <a:off x="4766760" y="4083120"/>
              <a:ext cx="1425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97294"/>
            <p:cNvSpPr/>
            <p:nvPr/>
          </p:nvSpPr>
          <p:spPr>
            <a:xfrm>
              <a:off x="6192720" y="3635280"/>
              <a:ext cx="898920" cy="89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ыступлени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в парламент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97292"/>
            <p:cNvSpPr/>
            <p:nvPr/>
          </p:nvSpPr>
          <p:spPr>
            <a:xfrm flipV="1">
              <a:off x="4705560" y="3147840"/>
              <a:ext cx="1236240" cy="71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97291"/>
            <p:cNvSpPr/>
            <p:nvPr/>
          </p:nvSpPr>
          <p:spPr>
            <a:xfrm>
              <a:off x="5880600" y="2476440"/>
              <a:ext cx="898200" cy="897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избирате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ка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97290"/>
            <p:cNvSpPr/>
            <p:nvPr/>
          </p:nvSpPr>
          <p:spPr>
            <a:xfrm flipV="1">
              <a:off x="4542840" y="2462400"/>
              <a:ext cx="712800" cy="123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97289"/>
            <p:cNvSpPr/>
            <p:nvPr/>
          </p:nvSpPr>
          <p:spPr>
            <a:xfrm>
              <a:off x="5031720" y="162756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ринят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реш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97288"/>
            <p:cNvSpPr/>
            <p:nvPr/>
          </p:nvSpPr>
          <p:spPr>
            <a:xfrm flipV="1">
              <a:off x="4318560" y="2213640"/>
              <a:ext cx="0" cy="142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97287"/>
            <p:cNvSpPr/>
            <p:nvPr/>
          </p:nvSpPr>
          <p:spPr>
            <a:xfrm>
              <a:off x="3870360" y="131760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арт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97286"/>
            <p:cNvSpPr/>
            <p:nvPr/>
          </p:nvSpPr>
          <p:spPr>
            <a:xfrm>
              <a:off x="3870360" y="3639240"/>
              <a:ext cx="898920" cy="898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олитическ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95280" y="404640"/>
            <a:ext cx="8229600" cy="93672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457200" y="1981080"/>
            <a:ext cx="8228880" cy="3885120"/>
            <a:chOff x="457200" y="1981080"/>
            <a:chExt cx="8228880" cy="3885120"/>
          </a:xfrm>
        </p:grpSpPr>
        <p:cxnSp>
          <p:nvCxnSpPr>
            <p:cNvPr id="449" name="_s99340"/>
            <p:cNvCxnSpPr>
              <a:stCxn id="450" idx="0"/>
              <a:endCxn id="451" idx="2"/>
            </p:cNvCxnSpPr>
            <p:nvPr/>
          </p:nvCxnSpPr>
          <p:spPr>
            <a:xfrm flipV="1" rot="16200000">
              <a:off x="5622840" y="248292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52" name="_s99339"/>
            <p:cNvCxnSpPr>
              <a:stCxn id="453" idx="0"/>
              <a:endCxn id="451" idx="2"/>
            </p:cNvCxnSpPr>
            <p:nvPr/>
          </p:nvCxnSpPr>
          <p:spPr>
            <a:xfrm flipV="1">
              <a:off x="4571280" y="353484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54" name="_s99338"/>
            <p:cNvCxnSpPr>
              <a:stCxn id="455" idx="0"/>
              <a:endCxn id="451" idx="2"/>
            </p:cNvCxnSpPr>
            <p:nvPr/>
          </p:nvCxnSpPr>
          <p:spPr>
            <a:xfrm flipH="1" flipV="1" rot="5400000">
              <a:off x="2742480" y="248328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51" name="_s99334"/>
            <p:cNvSpPr/>
            <p:nvPr/>
          </p:nvSpPr>
          <p:spPr>
            <a:xfrm>
              <a:off x="3337200" y="1981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литическ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99335"/>
            <p:cNvSpPr/>
            <p:nvPr/>
          </p:nvSpPr>
          <p:spPr>
            <a:xfrm>
              <a:off x="45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делать что-т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99336"/>
            <p:cNvSpPr/>
            <p:nvPr/>
          </p:nvSpPr>
          <p:spPr>
            <a:xfrm>
              <a:off x="333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 допусти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его-т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99337"/>
            <p:cNvSpPr/>
            <p:nvPr/>
          </p:nvSpPr>
          <p:spPr>
            <a:xfrm>
              <a:off x="621756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кратить что-т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457200" y="1981080"/>
            <a:ext cx="8228520" cy="3885120"/>
            <a:chOff x="457200" y="1981080"/>
            <a:chExt cx="8228520" cy="3885120"/>
          </a:xfrm>
        </p:grpSpPr>
        <p:cxnSp>
          <p:nvCxnSpPr>
            <p:cNvPr id="458" name="_s101388"/>
            <p:cNvCxnSpPr>
              <a:stCxn id="459" idx="0"/>
              <a:endCxn id="460" idx="2"/>
            </p:cNvCxnSpPr>
            <p:nvPr/>
          </p:nvCxnSpPr>
          <p:spPr>
            <a:xfrm flipV="1" rot="16200000">
              <a:off x="5289840" y="2815200"/>
              <a:ext cx="777600" cy="22161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1" name="_s101386"/>
            <p:cNvCxnSpPr>
              <a:stCxn id="462" idx="0"/>
              <a:endCxn id="460" idx="2"/>
            </p:cNvCxnSpPr>
            <p:nvPr/>
          </p:nvCxnSpPr>
          <p:spPr>
            <a:xfrm flipH="1" flipV="1" rot="5400000">
              <a:off x="3074400" y="2815920"/>
              <a:ext cx="777600" cy="22154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0" name="_s101382"/>
            <p:cNvSpPr/>
            <p:nvPr/>
          </p:nvSpPr>
          <p:spPr>
            <a:xfrm>
              <a:off x="2671920" y="1981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литическа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1383"/>
            <p:cNvSpPr/>
            <p:nvPr/>
          </p:nvSpPr>
          <p:spPr>
            <a:xfrm>
              <a:off x="45720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йств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1385"/>
            <p:cNvSpPr/>
            <p:nvPr/>
          </p:nvSpPr>
          <p:spPr>
            <a:xfrm>
              <a:off x="488808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бездейств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457200" y="1981080"/>
            <a:ext cx="8228520" cy="3885120"/>
            <a:chOff x="457200" y="1981080"/>
            <a:chExt cx="8228520" cy="3885120"/>
          </a:xfrm>
        </p:grpSpPr>
        <p:cxnSp>
          <p:nvCxnSpPr>
            <p:cNvPr id="465" name="_s103436"/>
            <p:cNvCxnSpPr>
              <a:stCxn id="466" idx="0"/>
              <a:endCxn id="467" idx="2"/>
            </p:cNvCxnSpPr>
            <p:nvPr/>
          </p:nvCxnSpPr>
          <p:spPr>
            <a:xfrm flipV="1" rot="16200000">
              <a:off x="5289840" y="2815200"/>
              <a:ext cx="777600" cy="22161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8" name="_s103434"/>
            <p:cNvCxnSpPr>
              <a:stCxn id="469" idx="0"/>
              <a:endCxn id="467" idx="2"/>
            </p:cNvCxnSpPr>
            <p:nvPr/>
          </p:nvCxnSpPr>
          <p:spPr>
            <a:xfrm flipH="1" flipV="1" rot="5400000">
              <a:off x="3074400" y="2815920"/>
              <a:ext cx="777600" cy="22154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7" name="_s103430"/>
            <p:cNvSpPr/>
            <p:nvPr/>
          </p:nvSpPr>
          <p:spPr>
            <a:xfrm>
              <a:off x="2671920" y="1981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йствия субъектов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_s103431"/>
            <p:cNvSpPr/>
            <p:nvPr/>
          </p:nvSpPr>
          <p:spPr>
            <a:xfrm>
              <a:off x="45720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рацион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433"/>
            <p:cNvSpPr/>
            <p:nvPr/>
          </p:nvSpPr>
          <p:spPr>
            <a:xfrm>
              <a:off x="488808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ррацион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457200" y="1981080"/>
            <a:ext cx="8228520" cy="3885120"/>
            <a:chOff x="457200" y="1981080"/>
            <a:chExt cx="8228520" cy="3885120"/>
          </a:xfrm>
        </p:grpSpPr>
        <p:cxnSp>
          <p:nvCxnSpPr>
            <p:cNvPr id="472" name="_s105484"/>
            <p:cNvCxnSpPr>
              <a:stCxn id="473" idx="0"/>
              <a:endCxn id="474" idx="2"/>
            </p:cNvCxnSpPr>
            <p:nvPr/>
          </p:nvCxnSpPr>
          <p:spPr>
            <a:xfrm flipV="1" rot="16200000">
              <a:off x="5289840" y="2815200"/>
              <a:ext cx="777600" cy="22161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5" name="_s105482"/>
            <p:cNvCxnSpPr>
              <a:stCxn id="476" idx="0"/>
              <a:endCxn id="474" idx="2"/>
            </p:cNvCxnSpPr>
            <p:nvPr/>
          </p:nvCxnSpPr>
          <p:spPr>
            <a:xfrm flipH="1" flipV="1" rot="5400000">
              <a:off x="3074400" y="2815920"/>
              <a:ext cx="777600" cy="22154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4" name="_s105478"/>
            <p:cNvSpPr/>
            <p:nvPr/>
          </p:nvSpPr>
          <p:spPr>
            <a:xfrm>
              <a:off x="2671920" y="1981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ейств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убъектов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105479"/>
            <p:cNvSpPr/>
            <p:nvPr/>
          </p:nvSpPr>
          <p:spPr>
            <a:xfrm>
              <a:off x="45720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тихий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105481"/>
            <p:cNvSpPr/>
            <p:nvPr/>
          </p:nvSpPr>
          <p:spPr>
            <a:xfrm>
              <a:off x="4888080" y="4312080"/>
              <a:ext cx="37976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организова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03280" y="1052640"/>
            <a:ext cx="6048360" cy="5805360"/>
          </a:xfrm>
          <a:prstGeom prst="octagon">
            <a:avLst>
              <a:gd name="adj" fmla="val 2928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04640"/>
            <a:ext cx="8218440" cy="66852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итическая 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1700280"/>
            <a:ext cx="201636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700280"/>
            <a:ext cx="201600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4218120"/>
            <a:ext cx="2016360" cy="187308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4219560"/>
            <a:ext cx="2016000" cy="1873440"/>
          </a:xfrm>
          <a:prstGeom prst="octagon">
            <a:avLst>
              <a:gd name="adj" fmla="val 29287"/>
            </a:avLst>
          </a:prstGeom>
          <a:solidFill>
            <a:srgbClr val="9999ff">
              <a:alpha val="59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22560" y="2131920"/>
            <a:ext cx="1876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номи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ск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59280" y="2131920"/>
            <a:ext cx="1847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ити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ск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66920" y="4592520"/>
            <a:ext cx="1638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ци-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ьн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95800" y="4684680"/>
            <a:ext cx="14194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хов-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я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151" name=""/>
          <p:cNvCxnSpPr>
            <a:stCxn id="143" idx="3"/>
            <a:endCxn id="144" idx="1"/>
          </p:cNvCxnSpPr>
          <p:nvPr/>
        </p:nvCxnSpPr>
        <p:spPr>
          <a:xfrm>
            <a:off x="4067280" y="2636640"/>
            <a:ext cx="721440" cy="108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1"/>
          </p:cNvCxnSpPr>
          <p:nvPr/>
        </p:nvCxnSpPr>
        <p:spPr>
          <a:xfrm>
            <a:off x="4067280" y="5154120"/>
            <a:ext cx="721440" cy="252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"/>
          <p:cNvCxnSpPr>
            <a:stCxn id="143" idx="2"/>
            <a:endCxn id="145" idx="0"/>
          </p:cNvCxnSpPr>
          <p:nvPr/>
        </p:nvCxnSpPr>
        <p:spPr>
          <a:xfrm>
            <a:off x="3058920" y="3573000"/>
            <a:ext cx="1080" cy="64548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stCxn id="144" idx="2"/>
            <a:endCxn id="146" idx="0"/>
          </p:cNvCxnSpPr>
          <p:nvPr/>
        </p:nvCxnSpPr>
        <p:spPr>
          <a:xfrm>
            <a:off x="5795640" y="3573000"/>
            <a:ext cx="1080" cy="646920"/>
          </a:xfrm>
          <a:prstGeom prst="straightConnector1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780000" y="3284640"/>
            <a:ext cx="1368360" cy="1224000"/>
          </a:xfrm>
          <a:prstGeom prst="line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780000" y="3284640"/>
            <a:ext cx="1296720" cy="1224000"/>
          </a:xfrm>
          <a:prstGeom prst="line">
            <a:avLst/>
          </a:prstGeom>
          <a:ln w="76320">
            <a:solidFill>
              <a:srgbClr val="0000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1052640"/>
            <a:ext cx="6048360" cy="5805360"/>
          </a:xfrm>
          <a:prstGeom prst="octagon">
            <a:avLst>
              <a:gd name="adj" fmla="val 29287"/>
            </a:avLst>
          </a:prstGeom>
          <a:solidFill>
            <a:srgbClr val="9999cc">
              <a:alpha val="63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1628640"/>
            <a:ext cx="2737080" cy="251964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24000" y="2492280"/>
            <a:ext cx="2505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литические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и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3573360"/>
            <a:ext cx="2736720" cy="251964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83000" y="4390920"/>
            <a:ext cx="2276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циальные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уппы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 rot="8066400">
            <a:off x="5189760" y="861120"/>
            <a:ext cx="151272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882000">
            <a:off x="2088360" y="3825360"/>
            <a:ext cx="151272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 rot="2706600">
            <a:off x="4991040" y="2145960"/>
            <a:ext cx="2130480" cy="23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флик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 rot="2785200">
            <a:off x="1721880" y="4969440"/>
            <a:ext cx="21733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трудничеств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909800" cy="1808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5330880"/>
            <a:ext cx="1908000" cy="152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14827 0.1743 E">
                                      <p:cBhvr>
                                        <p:cTn id="4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L -0.14965 0.17847 E">
                                      <p:cBhvr>
                                        <p:cTn id="5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457200" y="1981080"/>
            <a:ext cx="8228880" cy="3885120"/>
            <a:chOff x="457200" y="1981080"/>
            <a:chExt cx="8228880" cy="3885120"/>
          </a:xfrm>
        </p:grpSpPr>
        <p:cxnSp>
          <p:nvCxnSpPr>
            <p:cNvPr id="479" name="_s107538"/>
            <p:cNvCxnSpPr>
              <a:stCxn id="480" idx="0"/>
              <a:endCxn id="481" idx="2"/>
            </p:cNvCxnSpPr>
            <p:nvPr/>
          </p:nvCxnSpPr>
          <p:spPr>
            <a:xfrm flipV="1" rot="16200000">
              <a:off x="5783040" y="2322720"/>
              <a:ext cx="777600" cy="32011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2" name="_s107532"/>
            <p:cNvCxnSpPr>
              <a:stCxn id="483" idx="0"/>
              <a:endCxn id="481" idx="2"/>
            </p:cNvCxnSpPr>
            <p:nvPr/>
          </p:nvCxnSpPr>
          <p:spPr>
            <a:xfrm flipV="1" rot="16200000">
              <a:off x="4716000" y="3389760"/>
              <a:ext cx="777600" cy="106740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4" name="_s107531"/>
            <p:cNvCxnSpPr>
              <a:stCxn id="485" idx="0"/>
              <a:endCxn id="481" idx="2"/>
            </p:cNvCxnSpPr>
            <p:nvPr/>
          </p:nvCxnSpPr>
          <p:spPr>
            <a:xfrm flipH="1" flipV="1" rot="5400000">
              <a:off x="3649320" y="3390120"/>
              <a:ext cx="777600" cy="106704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6" name="_s107530"/>
            <p:cNvCxnSpPr>
              <a:stCxn id="487" idx="0"/>
              <a:endCxn id="481" idx="2"/>
            </p:cNvCxnSpPr>
            <p:nvPr/>
          </p:nvCxnSpPr>
          <p:spPr>
            <a:xfrm flipH="1" flipV="1" rot="5400000">
              <a:off x="2582280" y="2323080"/>
              <a:ext cx="777600" cy="320076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1" name="_s107526"/>
            <p:cNvSpPr/>
            <p:nvPr/>
          </p:nvSpPr>
          <p:spPr>
            <a:xfrm>
              <a:off x="3657240" y="1981080"/>
              <a:ext cx="18284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екотор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етоды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олитическ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_s107527"/>
            <p:cNvSpPr/>
            <p:nvPr/>
          </p:nvSpPr>
          <p:spPr>
            <a:xfrm>
              <a:off x="457200" y="4312080"/>
              <a:ext cx="18284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убежд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_s107528"/>
            <p:cNvSpPr/>
            <p:nvPr/>
          </p:nvSpPr>
          <p:spPr>
            <a:xfrm>
              <a:off x="2590560" y="4312080"/>
              <a:ext cx="18284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обществен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н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107529"/>
            <p:cNvSpPr/>
            <p:nvPr/>
          </p:nvSpPr>
          <p:spPr>
            <a:xfrm>
              <a:off x="4724280" y="4312080"/>
              <a:ext cx="18284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нтроль з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облюдение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авов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нор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107537"/>
            <p:cNvSpPr/>
            <p:nvPr/>
          </p:nvSpPr>
          <p:spPr>
            <a:xfrm>
              <a:off x="6857640" y="4312080"/>
              <a:ext cx="182844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гноз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оследств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44440" y="2205000"/>
            <a:ext cx="8648640" cy="433404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ласть и власт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Вла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способность и возможность распоряжаться кем-либо или чем-либо: оказывать воздействие на поведение людей с опорой на авторитет, право, а если необходимо, то подчинять своей воле с помощью прин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457200" y="1981080"/>
            <a:ext cx="8229240" cy="3885480"/>
            <a:chOff x="457200" y="1981080"/>
            <a:chExt cx="8229240" cy="3885480"/>
          </a:xfrm>
        </p:grpSpPr>
        <p:cxnSp>
          <p:nvCxnSpPr>
            <p:cNvPr id="494" name="_s110616"/>
            <p:cNvCxnSpPr>
              <a:stCxn id="495" idx="0"/>
              <a:endCxn id="496" idx="2"/>
            </p:cNvCxnSpPr>
            <p:nvPr/>
          </p:nvCxnSpPr>
          <p:spPr>
            <a:xfrm flipV="1" rot="16200000">
              <a:off x="7138800" y="3949920"/>
              <a:ext cx="486360" cy="140436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7" name="_s110614"/>
            <p:cNvCxnSpPr>
              <a:stCxn id="498" idx="0"/>
              <a:endCxn id="496" idx="2"/>
            </p:cNvCxnSpPr>
            <p:nvPr/>
          </p:nvCxnSpPr>
          <p:spPr>
            <a:xfrm flipV="1" rot="16200000">
              <a:off x="6437520" y="4651200"/>
              <a:ext cx="486360" cy="180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9" name="_s110612"/>
            <p:cNvCxnSpPr>
              <a:stCxn id="500" idx="0"/>
              <a:endCxn id="496" idx="2"/>
            </p:cNvCxnSpPr>
            <p:nvPr/>
          </p:nvCxnSpPr>
          <p:spPr>
            <a:xfrm flipH="1" flipV="1" rot="5400000">
              <a:off x="5734440" y="3949560"/>
              <a:ext cx="486360" cy="140544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1" name="_s110610"/>
            <p:cNvCxnSpPr>
              <a:stCxn id="496" idx="0"/>
              <a:endCxn id="502" idx="2"/>
            </p:cNvCxnSpPr>
            <p:nvPr/>
          </p:nvCxnSpPr>
          <p:spPr>
            <a:xfrm flipV="1" rot="16200000">
              <a:off x="5031000" y="1788480"/>
              <a:ext cx="486360" cy="281268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3" name="_s110608"/>
            <p:cNvCxnSpPr>
              <a:stCxn id="504" idx="0"/>
              <a:endCxn id="502" idx="2"/>
            </p:cNvCxnSpPr>
            <p:nvPr/>
          </p:nvCxnSpPr>
          <p:spPr>
            <a:xfrm flipV="1" rot="16200000">
              <a:off x="4328640" y="2490840"/>
              <a:ext cx="486360" cy="140760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5" name="_s110604"/>
            <p:cNvCxnSpPr>
              <a:stCxn id="506" idx="0"/>
              <a:endCxn id="502" idx="2"/>
            </p:cNvCxnSpPr>
            <p:nvPr/>
          </p:nvCxnSpPr>
          <p:spPr>
            <a:xfrm flipV="1" rot="16200000">
              <a:off x="3625920" y="3193560"/>
              <a:ext cx="486360" cy="216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7" name="_s110603"/>
            <p:cNvCxnSpPr>
              <a:stCxn id="508" idx="0"/>
              <a:endCxn id="502" idx="2"/>
            </p:cNvCxnSpPr>
            <p:nvPr/>
          </p:nvCxnSpPr>
          <p:spPr>
            <a:xfrm flipH="1" flipV="1" rot="5400000">
              <a:off x="2923200" y="2492640"/>
              <a:ext cx="486360" cy="140436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9" name="_s110602"/>
            <p:cNvCxnSpPr>
              <a:stCxn id="510" idx="0"/>
              <a:endCxn id="502" idx="2"/>
            </p:cNvCxnSpPr>
            <p:nvPr/>
          </p:nvCxnSpPr>
          <p:spPr>
            <a:xfrm flipH="1" flipV="1" rot="5400000">
              <a:off x="2221200" y="1790640"/>
              <a:ext cx="486360" cy="2808360"/>
            </a:xfrm>
            <a:prstGeom prst="bentConnector3">
              <a:avLst>
                <a:gd name="adj1" fmla="val 234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2" name="_s110598"/>
            <p:cNvSpPr/>
            <p:nvPr/>
          </p:nvSpPr>
          <p:spPr>
            <a:xfrm>
              <a:off x="3266280" y="198108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ла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_s110599"/>
            <p:cNvSpPr/>
            <p:nvPr/>
          </p:nvSpPr>
          <p:spPr>
            <a:xfrm>
              <a:off x="457200" y="343800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кономическ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_s110600"/>
            <p:cNvSpPr/>
            <p:nvPr/>
          </p:nvSpPr>
          <p:spPr>
            <a:xfrm>
              <a:off x="1862280" y="343800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ен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_s110601"/>
            <p:cNvSpPr/>
            <p:nvPr/>
          </p:nvSpPr>
          <p:spPr>
            <a:xfrm>
              <a:off x="3267720" y="343800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ухов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110607"/>
            <p:cNvSpPr/>
            <p:nvPr/>
          </p:nvSpPr>
          <p:spPr>
            <a:xfrm>
              <a:off x="4673160" y="343800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110609"/>
            <p:cNvSpPr/>
            <p:nvPr/>
          </p:nvSpPr>
          <p:spPr>
            <a:xfrm>
              <a:off x="6078240" y="3438000"/>
              <a:ext cx="12027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осударствен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110611"/>
            <p:cNvSpPr/>
            <p:nvPr/>
          </p:nvSpPr>
          <p:spPr>
            <a:xfrm>
              <a:off x="4673160" y="489528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конодате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110613"/>
            <p:cNvSpPr/>
            <p:nvPr/>
          </p:nvSpPr>
          <p:spPr>
            <a:xfrm>
              <a:off x="6078240" y="4895280"/>
              <a:ext cx="12045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полните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110615"/>
            <p:cNvSpPr/>
            <p:nvPr/>
          </p:nvSpPr>
          <p:spPr>
            <a:xfrm>
              <a:off x="7483680" y="4895280"/>
              <a:ext cx="1202760" cy="9712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удеб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ласть и власт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412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власти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Сущность власти заключается в целенаправленном воздействии воли одного человека на волю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В современном демократическом обществе политическая власть сосредоточена исключительно в руках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535800" y="492120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6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 16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государственной вл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. Государственная власть является разновидностью политиче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Любое проявление властных отношений в обществе связано с деятельностью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102744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вто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535800" y="544500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263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 суждения о государственной в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Государственная власть является разновидностью политической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Любое проявление властных отношений в обществе связано с деятельностью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391440" y="5065560"/>
            <a:ext cx="1780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стная деятельность – деятельность  по выработке и принятию властных решений и их проведению в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стная деятельность – это по существу политика власти, воздействующая на все социальные общности, на все сферы жизнедеятельности людей, на общество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ласть и власт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457200" y="1981080"/>
            <a:ext cx="8228880" cy="3885120"/>
            <a:chOff x="457200" y="1981080"/>
            <a:chExt cx="8228880" cy="3885120"/>
          </a:xfrm>
        </p:grpSpPr>
        <p:cxnSp>
          <p:nvCxnSpPr>
            <p:cNvPr id="524" name="_s113676"/>
            <p:cNvCxnSpPr>
              <a:stCxn id="525" idx="0"/>
              <a:endCxn id="526" idx="2"/>
            </p:cNvCxnSpPr>
            <p:nvPr/>
          </p:nvCxnSpPr>
          <p:spPr>
            <a:xfrm flipV="1" rot="16200000">
              <a:off x="5622840" y="248292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7" name="_s113675"/>
            <p:cNvCxnSpPr>
              <a:stCxn id="528" idx="0"/>
              <a:endCxn id="526" idx="2"/>
            </p:cNvCxnSpPr>
            <p:nvPr/>
          </p:nvCxnSpPr>
          <p:spPr>
            <a:xfrm flipV="1">
              <a:off x="4571280" y="353484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9" name="_s113674"/>
            <p:cNvCxnSpPr>
              <a:stCxn id="530" idx="0"/>
              <a:endCxn id="526" idx="2"/>
            </p:cNvCxnSpPr>
            <p:nvPr/>
          </p:nvCxnSpPr>
          <p:spPr>
            <a:xfrm flipH="1" flipV="1" rot="5400000">
              <a:off x="2742480" y="2483280"/>
              <a:ext cx="777600" cy="2880720"/>
            </a:xfrm>
            <a:prstGeom prst="bentConnector3">
              <a:avLst>
                <a:gd name="adj1" fmla="val 20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6" name="_s113670"/>
            <p:cNvSpPr/>
            <p:nvPr/>
          </p:nvSpPr>
          <p:spPr>
            <a:xfrm>
              <a:off x="3337200" y="1981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мпонен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ласт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_s113671"/>
            <p:cNvSpPr/>
            <p:nvPr/>
          </p:nvSpPr>
          <p:spPr>
            <a:xfrm>
              <a:off x="45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ластная во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_s113672"/>
            <p:cNvSpPr/>
            <p:nvPr/>
          </p:nvSpPr>
          <p:spPr>
            <a:xfrm>
              <a:off x="333720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ластное реш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113673"/>
            <p:cNvSpPr/>
            <p:nvPr/>
          </p:nvSpPr>
          <p:spPr>
            <a:xfrm>
              <a:off x="6217560" y="431208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ластные 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ласть и власт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326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рироде власти? Власть представляет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особый тип общественных отношений, связанный с функцией социального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волевое действие, при котором воля и желания одного субъекта определяют поведение других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462720" y="506556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олит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деятельность государственных организаций, политических партий, в сфере отношений между большими социальными группами, прежде всего классами, нациями и государствами, направленная на интеграцию их усилий с целью упрочения политической власти или ее  завоевания специфическими мет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олит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особая разновидность деятельности, связанная с участием социальных групп, партий, движений, отдельных личностей в делах общества и государства, руководством или воздействием на это руко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620640"/>
            <a:ext cx="828036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олит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еятельность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ых организаций, политических партий, в сфере отношений между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большими социальными групп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режде всего классами, нациями и государствами, направленная на интеграцию их усилий с целью упрочения политической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ла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ее  завоевания специфическими мет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олит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особая разновидность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еятельности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вязанная с участием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оциальных груп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артий, движений, отдельных личностей в делах общества и государства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уковод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воздействием на это руко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71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ческой в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Власть появилась с возникновением человеческого общества и будет в той или иной форме всегда сопутствовать его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Власть есть присущее обществу волевое отношение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391440" y="5065560"/>
            <a:ext cx="1780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каков  результат политической деятель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rcRect l="51049" t="0" r="0" b="0"/>
          <a:stretch/>
        </p:blipFill>
        <p:spPr>
          <a:xfrm>
            <a:off x="3492360" y="2637000"/>
            <a:ext cx="1594080" cy="28810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619280" y="2205000"/>
            <a:ext cx="2050920" cy="503280"/>
          </a:xfrm>
          <a:prstGeom prst="wedgeRectCallout">
            <a:avLst>
              <a:gd name="adj1" fmla="val 68962"/>
              <a:gd name="adj2" fmla="val 1471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08720" y="2060640"/>
            <a:ext cx="3240000" cy="2305080"/>
          </a:xfrm>
          <a:prstGeom prst="cloudCallout">
            <a:avLst>
              <a:gd name="adj1" fmla="val -84296"/>
              <a:gd name="adj2" fmla="val -37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3141720"/>
            <a:ext cx="2232000" cy="1439640"/>
          </a:xfrm>
          <a:prstGeom prst="wedgeRectCallout">
            <a:avLst>
              <a:gd name="adj1" fmla="val 85634"/>
              <a:gd name="adj2" fmla="val 3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достижения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3"/>
          <a:srcRect l="51049" t="49973" r="31308" b="12568"/>
          <a:stretch/>
        </p:blipFill>
        <p:spPr>
          <a:xfrm>
            <a:off x="3492360" y="4005360"/>
            <a:ext cx="574920" cy="10792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724360" y="4365720"/>
            <a:ext cx="3419640" cy="2158920"/>
          </a:xfrm>
          <a:prstGeom prst="wedgeEllipseCallout">
            <a:avLst>
              <a:gd name="adj1" fmla="val -100462"/>
              <a:gd name="adj2" fmla="val -330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6516720" y="292428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6732720" y="5157720"/>
            <a:ext cx="1368360" cy="11667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1547640" y="5445000"/>
            <a:ext cx="2376720" cy="576360"/>
          </a:xfrm>
          <a:prstGeom prst="wedgeRectCallout">
            <a:avLst>
              <a:gd name="adj1" fmla="val 43856"/>
              <a:gd name="adj2" fmla="val -13925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бъ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6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607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608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673440" cy="27572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140360" y="1413000"/>
            <a:ext cx="3743280" cy="28764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1994040" cy="15814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2556000" y="4518000"/>
            <a:ext cx="2376360" cy="1809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4427640" y="458136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27440"/>
          </a:xfrm>
          <a:prstGeom prst="rect">
            <a:avLst/>
          </a:prstGeom>
          <a:gradFill rotWithShape="0">
            <a:gsLst>
              <a:gs pos="0">
                <a:srgbClr val="c6c6ff">
                  <a:alpha val="17254"/>
                </a:srgbClr>
              </a:gs>
              <a:gs pos="100000">
                <a:srgbClr val="00007d">
                  <a:alpha val="59215"/>
                </a:srgbClr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итическ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248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ое 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народных м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097440" cy="174168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2237040" cy="177624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084720" y="4724280"/>
            <a:ext cx="2808360" cy="1817640"/>
          </a:xfrm>
          <a:prstGeom prst="rect">
            <a:avLst/>
          </a:prstGeom>
          <a:ln w="76320">
            <a:solidFill>
              <a:srgbClr val="00007d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 16 № 390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ерны ли следующие суждения о политике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Политика направлена на завоевание и использование государственной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Любой вопрос может стать политическим, если в определённых условиях он затрагивает интересы все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ерно только 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ерно только 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ерны оба сужде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319800" y="492120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вет: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635280" y="981000"/>
            <a:ext cx="2016360" cy="1766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03640" y="2349360"/>
            <a:ext cx="2879640" cy="1441440"/>
          </a:xfrm>
          <a:prstGeom prst="cloudCallout">
            <a:avLst>
              <a:gd name="adj1" fmla="val 35833"/>
              <a:gd name="adj2" fmla="val 921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2349360"/>
            <a:ext cx="2879640" cy="1441440"/>
          </a:xfrm>
          <a:prstGeom prst="cloudCallout">
            <a:avLst>
              <a:gd name="adj1" fmla="val -68745"/>
              <a:gd name="adj2" fmla="val -55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2349360"/>
            <a:ext cx="2879640" cy="1441440"/>
          </a:xfrm>
          <a:prstGeom prst="cloudCallout">
            <a:avLst>
              <a:gd name="adj1" fmla="val 75800"/>
              <a:gd name="adj2" fmla="val -644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2349360"/>
            <a:ext cx="2879640" cy="1441440"/>
          </a:xfrm>
          <a:prstGeom prst="cloudCallout">
            <a:avLst>
              <a:gd name="adj1" fmla="val -20949"/>
              <a:gd name="adj2" fmla="val 9603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2349360"/>
            <a:ext cx="2879640" cy="1441440"/>
          </a:xfrm>
          <a:prstGeom prst="cloudCallout">
            <a:avLst>
              <a:gd name="adj1" fmla="val 75250"/>
              <a:gd name="adj2" fmla="val 585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2349360"/>
            <a:ext cx="3024360" cy="1441440"/>
          </a:xfrm>
          <a:prstGeom prst="cloudCallout">
            <a:avLst>
              <a:gd name="adj1" fmla="val -71310"/>
              <a:gd name="adj2" fmla="val 68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фически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84280"/>
            <a:ext cx="223200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981000"/>
            <a:ext cx="219564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005360"/>
            <a:ext cx="2376360" cy="10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67640" y="3573360"/>
            <a:ext cx="237636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4221000"/>
            <a:ext cx="2374920" cy="151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ив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4653000"/>
            <a:ext cx="2376360" cy="10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заи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11280" y="4869000"/>
            <a:ext cx="18241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843280" y="5589720"/>
            <a:ext cx="1655640" cy="1106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395280" y="2349360"/>
            <a:ext cx="1793880" cy="1346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7236000" y="4292640"/>
            <a:ext cx="1715760" cy="1287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148360" y="5157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7164360" y="1773360"/>
            <a:ext cx="1655640" cy="124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тический процесс – цепь политических событий и состояний, которые возникают в результате взаимодействия участников политической жизни, выполнения политических требований и решений и изменяются с течением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5661000"/>
            <a:ext cx="8206920" cy="1008000"/>
            <a:chOff x="468360" y="5661000"/>
            <a:chExt cx="8206920" cy="100800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rcRect l="0" t="34890" r="0" b="36561"/>
            <a:stretch/>
          </p:blipFill>
          <p:spPr>
            <a:xfrm>
              <a:off x="468360" y="5661000"/>
              <a:ext cx="54968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rcRect l="0" t="34890" r="50255" b="36561"/>
            <a:stretch/>
          </p:blipFill>
          <p:spPr>
            <a:xfrm>
              <a:off x="5940720" y="5661000"/>
              <a:ext cx="273456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9:27:18Z</dcterms:created>
  <dc:creator>*</dc:creator>
  <dc:description/>
  <dc:language>en-US</dc:language>
  <cp:lastModifiedBy>*</cp:lastModifiedBy>
  <dcterms:modified xsi:type="dcterms:W3CDTF">2014-03-21T20:30:28Z</dcterms:modified>
  <cp:revision>17</cp:revision>
  <dc:subject/>
  <dc:title>Познавательная деятельность человека</dc:title>
</cp:coreProperties>
</file>