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C9C-B697-4880-A109-53B80AAF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928-187F-4062-92A6-C8047B14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E25-6C49-433C-801B-3B0A5DF1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177-357F-4652-B2D2-ED5FF516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DCE8-462A-4390-B1D2-11CE1589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6230-C9D2-4844-B193-408AF5FA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CF6B-D0B2-4D7D-9F0C-1FA22F41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A0F1-12E9-4CCD-8C97-F17F6AA4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6C96-0102-4B79-9AFE-CF200FAE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9A49-3913-4DE8-B097-D8E9751E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BAA1-1D16-4A68-B72B-82F538B9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80B-8456-4017-BC9F-819524A9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1891-9700-4DED-89BE-3D9D823F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69AF-C55D-436D-8AB0-16B69834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9ED0-4120-4D85-8F5D-CECE2088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ED71-692F-4AA2-8947-CF3CE7F6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5A1B-691B-478B-8CC9-56352F33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B44-3F5A-4453-91AC-5345BEF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C44-BAC4-4245-A13C-0B39E92E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C73-ED81-4D7F-956F-61DA8ED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3FE-7842-4D6B-BE82-B2033156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229-55A9-4BB6-A498-C56BDD3E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69D-FC78-4978-924A-F7551C4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508-EC1A-4977-9DBC-575D57B7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6CDF-AC5B-4A77-B2F4-7090FC3D85E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98FA-F3F9-4D41-B843-F16A5037DD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Niagara Solid"/>
              </a:rPr>
              <a:t>ПРАВОСЛАВИЕ  И ЯЗЫЧЕСТВО  НА  РУ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Мороз, Снегурочка и Яг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819160" cy="44197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2133720" cy="35053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2666880" cy="4572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324480" cy="487656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ВЯТАЯ РУСЬ!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рани тебя, храни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343400" cy="29718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4190760" cy="297504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вято-Русь-земля всем землям мати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 Почему же Свято-Русь-земля всем землям мати?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 ней стоят церквы апостольския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огомольныя, преосвященны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ны молятся Богу распятому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амому Христу Царю Небесному, —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тому Свято-Русь-земля всем землям мат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3276720" cy="229896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авослав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4864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52880" cy="327636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81280" y="2971800"/>
            <a:ext cx="5334120" cy="350532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Язычеств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496040" cy="4572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ногобож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2218320"/>
            <a:ext cx="4496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сшие божества слав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О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отец жизни на земл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ТЬ-СЫРА-ЗЕМЛ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мать жизни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УН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бог грома и молни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ИБО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ветра ураган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АЖЬБОГ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дарующий тепло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ХОРС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солнечного диск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А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любви и согласи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КОШ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судьб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ЖИ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жизни и весн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ОРЁ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смерти и зим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ЯРИЛО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оживающей при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352680" cy="22096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2209680" cy="3429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29000" y="506520"/>
            <a:ext cx="54864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изшие божества слав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МОВ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дом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ЕШИ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лес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ОДЯ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реки, озер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АН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бан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ВИН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скот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ИКИМОР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ница болот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УСАЛК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хранительница влаги на пол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РЕМ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ница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1828800" cy="27432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200400" cy="464796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4419720" cy="27432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нязь Владими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892520" cy="29257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3810240" cy="47116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3365280" cy="23878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2921040" cy="42670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343400" y="1447920"/>
            <a:ext cx="4267080" cy="49338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28T08:37:4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