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F7B71-DEDC-42D3-A656-3E52F019ED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6A278-E7DC-4A09-BE5B-7BB0E48541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531C-DBF4-4951-B510-4A53F3E23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BC48-C0F8-4B9B-A9DB-46BCFFAF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FC37-25AE-4E18-9C39-59B0E6939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3F15-54D2-4F94-BC57-1F344D5D0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FE79-8459-4D28-8FFF-5993CD85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0947-49C8-44F0-89A5-A54309A4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5929-5D6E-4701-87B3-D71656AF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70DB-74FC-46EB-86F2-84823731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237F-C6CC-416A-83F0-6C79E434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585B-185D-4A5C-8027-71051C14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90C4-B408-4B7D-8C38-ED02593E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D6EF-C50F-453C-B51A-4C1507DB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CDE4E-6B68-4CD9-AC60-8501BE81E61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6360"/>
            <a:ext cx="907092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cc"/>
                </a:solidFill>
                <a:latin typeface="Cambria"/>
              </a:rPr>
              <a:t>Сложные предложения с однородным подчинением</a:t>
            </a:r>
            <a:br>
              <a:rPr sz="4400"/>
            </a:br>
            <a:r>
              <a:rPr b="1" lang="ru-RU" sz="4400" spc="-1" strike="noStrike">
                <a:solidFill>
                  <a:srgbClr val="0000cc"/>
                </a:solidFill>
                <a:latin typeface="Cambria"/>
              </a:rPr>
              <a:t> </a:t>
            </a:r>
            <a:br>
              <a:rPr sz="4400"/>
            </a:b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Урок русского языка в 9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896000" y="4067280"/>
            <a:ext cx="4897440" cy="2952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mbria"/>
              </a:rPr>
              <a:t>Автор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Cambria"/>
              </a:rPr>
              <a:t>Малыгина Ольга Николае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mbria"/>
              </a:rPr>
              <a:t> </a:t>
            </a:r>
            <a:r>
              <a:rPr b="1" lang="ru-RU" sz="2400" spc="-1" strike="noStrike">
                <a:solidFill>
                  <a:srgbClr val="0000cc"/>
                </a:solidFill>
                <a:latin typeface="Cambria"/>
              </a:rPr>
              <a:t>учитель русского язы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mbria"/>
              </a:rPr>
              <a:t>ГБОУ СОШ № 8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mbria"/>
              </a:rPr>
              <a:t>г. Санкт-Петербур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7280" y="301680"/>
            <a:ext cx="9577440" cy="8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Однородные придаточные предл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60360" y="1069920"/>
            <a:ext cx="4896000" cy="5640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 однородном соподчинении придаточные относятся </a:t>
            </a:r>
            <a:r>
              <a:rPr b="1" lang="ru-RU" sz="2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к одному общему для них главному предложению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являются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динаковыми по значению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днородными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чают на один и тот же вопрос и относятся к одному ви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535360" y="1684080"/>
            <a:ext cx="40640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mbria"/>
              </a:rPr>
              <a:t>Я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увидел</a:t>
            </a: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 , (</a:t>
            </a: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как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Cambria"/>
              </a:rPr>
              <a:t>звезды</a:t>
            </a: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 стали туманиться и терять свою лучистость)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, (</a:t>
            </a:r>
            <a:r>
              <a:rPr b="1" lang="ru-RU" sz="2800" spc="-1" strike="noStrike">
                <a:solidFill>
                  <a:srgbClr val="0000cc"/>
                </a:solidFill>
                <a:latin typeface="Cambria"/>
              </a:rPr>
              <a:t>как легким вздохом пронеслась по земле </a:t>
            </a:r>
            <a:r>
              <a:rPr b="1" lang="ru-RU" sz="2800" spc="-1" strike="noStrike" u="sng">
                <a:solidFill>
                  <a:srgbClr val="0000cc"/>
                </a:solidFill>
                <a:uFillTx/>
                <a:latin typeface="Cambria"/>
              </a:rPr>
              <a:t>прохлад</a:t>
            </a:r>
            <a:r>
              <a:rPr b="1" lang="ru-RU" sz="2800" spc="-1" strike="noStrike">
                <a:solidFill>
                  <a:srgbClr val="0000cc"/>
                </a:solidFill>
                <a:latin typeface="Cambria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)</a:t>
            </a:r>
            <a:r>
              <a:rPr b="1" lang="ru-RU" sz="2800" spc="-1" strike="noStrike">
                <a:solidFill>
                  <a:srgbClr val="0000cc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mbria"/>
              </a:rPr>
              <a:t>    </a:t>
            </a:r>
            <a:r>
              <a:rPr b="1" lang="ru-RU" sz="2000" spc="-1" strike="noStrike">
                <a:solidFill>
                  <a:srgbClr val="009900"/>
                </a:solidFill>
                <a:latin typeface="Cambria"/>
              </a:rPr>
              <a:t>(Придаточные изъяснительные, которые связаны интонацией перечисления, между ними стоит запят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7"/>
          <p:cNvSpPr/>
          <p:nvPr/>
        </p:nvSpPr>
        <p:spPr>
          <a:xfrm>
            <a:off x="6264360" y="2124000"/>
            <a:ext cx="111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11"/>
          <p:cNvSpPr/>
          <p:nvPr/>
        </p:nvSpPr>
        <p:spPr>
          <a:xfrm>
            <a:off x="5851440" y="401472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15"/>
          <p:cNvSpPr/>
          <p:nvPr/>
        </p:nvSpPr>
        <p:spPr>
          <a:xfrm>
            <a:off x="5851440" y="4140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0"/>
          <p:cNvSpPr/>
          <p:nvPr/>
        </p:nvSpPr>
        <p:spPr>
          <a:xfrm>
            <a:off x="6264360" y="2158920"/>
            <a:ext cx="111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21"/>
          <p:cNvSpPr/>
          <p:nvPr/>
        </p:nvSpPr>
        <p:spPr>
          <a:xfrm>
            <a:off x="6078600" y="2916360"/>
            <a:ext cx="16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22"/>
          <p:cNvSpPr/>
          <p:nvPr/>
        </p:nvSpPr>
        <p:spPr>
          <a:xfrm>
            <a:off x="8280360" y="2921040"/>
            <a:ext cx="111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3"/>
          <p:cNvSpPr/>
          <p:nvPr/>
        </p:nvSpPr>
        <p:spPr>
          <a:xfrm>
            <a:off x="7162920" y="2484360"/>
            <a:ext cx="9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5"/>
          <p:cNvSpPr/>
          <p:nvPr/>
        </p:nvSpPr>
        <p:spPr>
          <a:xfrm>
            <a:off x="7162920" y="2519280"/>
            <a:ext cx="9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7"/>
          <p:cNvSpPr/>
          <p:nvPr/>
        </p:nvSpPr>
        <p:spPr>
          <a:xfrm>
            <a:off x="6078600" y="2941560"/>
            <a:ext cx="16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30"/>
          <p:cNvSpPr/>
          <p:nvPr/>
        </p:nvSpPr>
        <p:spPr>
          <a:xfrm>
            <a:off x="8280360" y="2843280"/>
            <a:ext cx="111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6000" y="301680"/>
            <a:ext cx="9577440" cy="8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Cambria"/>
              </a:rPr>
              <a:t>Однородные придаточные предл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3280" y="1187280"/>
            <a:ext cx="4457520" cy="5569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Если соподчиненные однородные предложения соединяются сочинительными союзами, то запятая ставится по тем же правилам, что и при однородных член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0000" y="1187280"/>
            <a:ext cx="4890960" cy="5569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[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Очевидно было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(что Савельич передо мною был прав)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что я напрасно оскорбил его упрёком и подозрение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(изъян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[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Видел Егорушк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(как мало-помалу темнело небо)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опускалась на землю мгла), (как засветились одна за другой звёзды)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(изъясн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7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f01bf"/>
                </a:solidFill>
                <a:latin typeface="Cambria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02920" y="1116000"/>
            <a:ext cx="9069480" cy="5640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4000"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mbria"/>
              </a:rPr>
              <a:t>1. В жизни каждого человека бывают случаи </a:t>
            </a:r>
            <a:r>
              <a:rPr b="1" lang="ru-RU" sz="3200" spc="-1" strike="noStrike">
                <a:solidFill>
                  <a:srgbClr val="0000cc"/>
                </a:solidFill>
                <a:latin typeface="Cambria"/>
              </a:rPr>
              <a:t>	</a:t>
            </a:r>
            <a:r>
              <a:rPr b="1" lang="ru-RU" sz="3200" spc="-1" strike="noStrike">
                <a:solidFill>
                  <a:srgbClr val="0000cc"/>
                </a:solidFill>
                <a:latin typeface="Cambria"/>
              </a:rPr>
              <a:t>которые никогда не забываются которые </a:t>
            </a:r>
            <a:r>
              <a:rPr b="1" lang="ru-RU" sz="3200" spc="-1" strike="noStrike">
                <a:solidFill>
                  <a:srgbClr val="0000cc"/>
                </a:solidFill>
                <a:latin typeface="Cambria"/>
              </a:rPr>
              <a:t>	</a:t>
            </a:r>
            <a:r>
              <a:rPr b="1" lang="ru-RU" sz="3200" spc="-1" strike="noStrike">
                <a:solidFill>
                  <a:srgbClr val="0000cc"/>
                </a:solidFill>
                <a:latin typeface="Cambria"/>
              </a:rPr>
              <a:t>надолго определяют его повед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mbria"/>
              </a:rPr>
              <a:t>2. Я люблю подмосковные леса и когда они  </a:t>
            </a:r>
            <a:r>
              <a:rPr b="1" lang="ru-RU" sz="3200" spc="-1" strike="noStrike">
                <a:solidFill>
                  <a:srgbClr val="0000cc"/>
                </a:solidFill>
                <a:latin typeface="Cambria"/>
              </a:rPr>
              <a:t>	</a:t>
            </a:r>
            <a:r>
              <a:rPr b="1" lang="ru-RU" sz="3200" spc="-1" strike="noStrike">
                <a:solidFill>
                  <a:srgbClr val="0000cc"/>
                </a:solidFill>
                <a:latin typeface="Cambria"/>
              </a:rPr>
              <a:t>весело шелестят при летнем ветерке и </a:t>
            </a:r>
            <a:r>
              <a:rPr b="1" lang="ru-RU" sz="3200" spc="-1" strike="noStrike">
                <a:solidFill>
                  <a:srgbClr val="0000cc"/>
                </a:solidFill>
                <a:latin typeface="Cambria"/>
              </a:rPr>
              <a:t>	</a:t>
            </a:r>
            <a:r>
              <a:rPr b="1" lang="ru-RU" sz="3200" spc="-1" strike="noStrike">
                <a:solidFill>
                  <a:srgbClr val="0000cc"/>
                </a:solidFill>
                <a:latin typeface="Cambria"/>
              </a:rPr>
              <a:t>когда </a:t>
            </a:r>
            <a:r>
              <a:rPr b="1" lang="ru-RU" sz="3200" spc="-1" strike="noStrike">
                <a:solidFill>
                  <a:srgbClr val="0000cc"/>
                </a:solidFill>
                <a:latin typeface="Cambria"/>
              </a:rPr>
              <a:t>	</a:t>
            </a:r>
            <a:r>
              <a:rPr b="1" lang="ru-RU" sz="3200" spc="-1" strike="noStrike">
                <a:solidFill>
                  <a:srgbClr val="0000cc"/>
                </a:solidFill>
                <a:latin typeface="Cambria"/>
              </a:rPr>
              <a:t>они заснеженные спокойно спят под </a:t>
            </a:r>
            <a:r>
              <a:rPr b="1" lang="ru-RU" sz="3200" spc="-1" strike="noStrike">
                <a:solidFill>
                  <a:srgbClr val="0000cc"/>
                </a:solidFill>
                <a:latin typeface="Cambria"/>
              </a:rPr>
              <a:t>	</a:t>
            </a:r>
            <a:r>
              <a:rPr b="1" lang="ru-RU" sz="3200" spc="-1" strike="noStrike">
                <a:solidFill>
                  <a:srgbClr val="0000cc"/>
                </a:solidFill>
                <a:latin typeface="Cambria"/>
              </a:rPr>
              <a:t>холодным светом лу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mbria"/>
              </a:rPr>
              <a:t>3. Был тот предрассветный час когда стираются очертания когда ещё дневной свет путается  неразрывно сцепившись с ноч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8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Times New Roman"/>
              </a:rPr>
              <a:t>Среди предложений найдите СПП с однородным подчинением придаточ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63280" y="1258560"/>
            <a:ext cx="8637480" cy="549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Узнав про помощь голодающим пенсионерам,  Наталья согласилась без раздум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Как она работала!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на не только составила подробный список нуждающихся из дома на Сенной, но и всех обошла, познакомилась, расспросила и написала о них все подробности: возраст, размеры одежды и обуви, жилищные условия, боле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14680">
              <a:lnSpc>
                <a:spcPct val="93000"/>
              </a:lnSpc>
              <a:spcAft>
                <a:spcPts val="286"/>
              </a:spcAft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 этим данным Ульяна составила картотеку и стала надписывать прямо на карточках, кто в чем нуждается и кому что отправл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684360"/>
            <a:ext cx="9069480" cy="87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f01bf"/>
                </a:solidFill>
                <a:latin typeface="Cambria"/>
              </a:rPr>
              <a:t>Желаю удач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887640" y="1692360"/>
            <a:ext cx="4032360" cy="48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4:40:48Z</dcterms:created>
  <dc:creator/>
  <dc:description/>
  <dc:language>en-US</dc:language>
  <cp:lastModifiedBy>ЧННГ</cp:lastModifiedBy>
  <dcterms:modified xsi:type="dcterms:W3CDTF">2014-05-06T17:25:56Z</dcterms:modified>
  <cp:revision>8</cp:revision>
  <dc:subject/>
  <dc:title>  Сложные предложения с однородным подчинением   Урок русского языка в 9классе</dc:title>
</cp:coreProperties>
</file>