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C80-8008-4D8E-903B-D1768C7B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74A-850F-4E62-8431-A063901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585-729D-4AC3-A877-DC77A06A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E5F-71B0-4DC5-B759-51EA08CA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AFF-6C44-4FF2-A6DF-C5B9B715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EF8F-1E40-48C7-87BB-9C5CC372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B81A-E37C-45B5-87A5-DA3A6E3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50D-00D8-448A-9F50-10BA538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DD6F-C194-4B66-8AE2-0587D67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9A2C-8265-4F69-9313-0286725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9DE5-8D4E-4DF2-9C28-211F69BD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93F-0FD6-447E-955A-4475DC51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5B44-1C1B-4DFD-AE1A-D059F39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8A1-28DE-4D3F-B68C-42D7EA0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57D-34CC-445A-98AE-F0EAF8B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822-7A30-4D7D-B7CD-6CA8E0E0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F1D9-AE77-4709-9AA4-1597859C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64A-D354-4031-9D33-3B87A9C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4F2-701E-41EE-A48F-4EF3B41E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038-6625-4788-A03C-E0CF763D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9E6-4F02-46A1-87B0-0830757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AA2-4DCC-4818-886F-7859F0D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856-927F-4F09-B453-65585B6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8AE-94ED-43E5-BCD2-BBED873B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0D1-5B55-46EC-90FF-47EBAE2695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AA5A-211D-48F0-920A-35E2260449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19964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6702"/>
                </a:solidFill>
                <a:latin typeface="Linux Libertine G"/>
                <a:ea typeface="Linux Libertine G"/>
              </a:rPr>
              <a:t>Окружающий мир </a:t>
            </a:r>
            <a:br>
              <a:rPr sz="7200"/>
            </a:br>
            <a:r>
              <a:rPr b="1" lang="en-US" sz="7200" spc="-1" strike="noStrike">
                <a:solidFill>
                  <a:srgbClr val="706702"/>
                </a:solidFill>
                <a:latin typeface="Linux Libertine G"/>
                <a:ea typeface="Linux Libertine G"/>
              </a:rPr>
              <a:t>3 класс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31640" y="393660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276720" y="5373720"/>
            <a:ext cx="37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втор - составитель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Гинзбург Марина Александровн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2013 год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263760" y="40464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МКОУ КОЛЬЦОВСКАЯ СОШ КАРГАТСКОГО РАЙОНА НОВОСИБИРСКОЙ ОБЛАС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199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6702"/>
                </a:solidFill>
                <a:latin typeface="Monotype Corsiva"/>
              </a:rPr>
              <a:t>Используемые источники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лешаков А. А., Гара Н. Н., Назарова З.Д Окружающий мир: тесты, 3 класс. Пособие для учащихся общеобразовательных учреждений. М.: «Просвещение», 2011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Яценко И. Ф. Контрольно-измерительные материалы. Окружающий мир: 3 класс. М.: ВАКО, 2010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684360" y="260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n-US" sz="7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Тест № 4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«Воздух и его  охрана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оловок 1"/>
          <p:cNvSpPr/>
          <p:nvPr/>
        </p:nvSpPr>
        <p:spPr>
          <a:xfrm>
            <a:off x="395280" y="260280"/>
            <a:ext cx="82915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6702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1403280" y="1125360"/>
            <a:ext cx="734544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Прочитай внимательно вопрос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Выбери цифру соответствующую вашему ответ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Напиши на своём контрольном лис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1</a:t>
            </a:r>
            <a:r>
              <a:rPr b="1" i="1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. </a:t>
            </a:r>
            <a:r>
              <a:rPr b="1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Какие вещества входят в состав воздуха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395280" y="227664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) водород, медь, цинк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б) кислород, азот, углекислый газ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в) хлор, фтор, йод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2. Какой газ воздуха необходим для дыхания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53964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) азот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б) кислород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в) углекислый газ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07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3. Какими свойствами обладает воздух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179280" y="836640"/>
            <a:ext cx="8856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) Голубого цвета, как небо, проводит, звуки, пропускает солнечные лучи, не имеет запах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б) Прозрачен, бесцветен, без запаха, при нагревании расширяется, а при охлаждении сжимается, плохо проводит тепло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в) С ветром по воздуху проносится пыль, запах зависит от окружающих предметов, при резком изменении границы тепла и холода образуются вет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35000"/>
            <a:ext cx="885672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4</a:t>
            </a:r>
            <a:r>
              <a:rPr b="0" lang="en-US" sz="36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. </a:t>
            </a:r>
            <a:r>
              <a:rPr b="1" lang="en-US" sz="36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В окнах для сохранения тепла устанавливают двойные рамы. Какое свойство воздуха используется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395280" y="249228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) при нагревании воздух расширяется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б) при охлаждении воздух сжимается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в) воздух плохо проводит тепло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5. </a:t>
            </a:r>
            <a:r>
              <a:rPr b="1" lang="en-US" sz="4000" spc="-1" strike="noStrike">
                <a:solidFill>
                  <a:srgbClr val="ffcc66"/>
                </a:solidFill>
                <a:latin typeface="Linux Libertine G"/>
                <a:ea typeface="Linux Libertine G"/>
              </a:rPr>
              <a:t>Как нужно охранять воздух от загрязн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108000" y="1268280"/>
            <a:ext cx="892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а) Остановить все фабрики и заводы, прекратить заготовку древесины. Запретить пользоваться автотранспортом. Превратить Землю в один огромный заповедни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inux Libertine G"/>
                <a:ea typeface="Linux Libertine G"/>
              </a:rPr>
              <a:t>б) Фабрики и заводы должны иметь уловители пыли и вредных веществ. Транспорт необходимо сделать экологически безопасным. В городах и вокруг них создавать пояса садов, парков и ле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324000" y="2060640"/>
            <a:ext cx="83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5.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6:39:24Z</dcterms:created>
  <dc:creator>new</dc:creator>
  <dc:description/>
  <dc:language>en-US</dc:language>
  <cp:lastModifiedBy>Марина</cp:lastModifiedBy>
  <dcterms:modified xsi:type="dcterms:W3CDTF">2014-07-26T08:21:42Z</dcterms:modified>
  <cp:revision>29</cp:revision>
  <dc:subject/>
  <dc:title>Окружающий мир  3 класс</dc:title>
</cp:coreProperties>
</file>