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B6CE-C7DF-438E-B118-0DBFBDBBD1C6}" type="slidenum"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4205-156F-4FA4-84ED-49CC926E0A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01CC-EB09-436B-9B23-D28155B74E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246B0-D9C5-44A4-85F9-C2901CDF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8A4FE-7A8D-4DCD-9C51-A3B6BB85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794E0-87FF-42B0-96DD-9984B5A1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826FF-D44A-4BBA-B415-DEEE8EAE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205B-ACC8-44FE-818E-25B541A3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23A2-A8DE-4A3C-837E-671D8ED4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FC4F-9042-4269-A246-2B332AF5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7A51-3FF7-4319-81C2-6BDF6F8B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807A-2B17-4170-8C37-733F4C46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41B8-357D-41B5-84D0-5FBE56FB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3BEC-F195-4A0F-80A8-3B1E804E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5D589-4DEB-4AD2-842B-0D8BCAAB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DBB6-5F65-45BB-94CE-4C80FB63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4608-BE7B-438A-9C13-B53F3C90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B69D-2700-4892-853C-172C4B50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F45F-FDAB-4124-B22F-0C4FF158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3C3B-5A9E-4F72-A66E-59D22770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6FD60-C751-41E2-9CC5-2FD72B07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F1449-1B65-4F2E-9089-ADE53C7B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7B95B-21A5-4266-9FFB-F1AB7D3A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72992-E129-4259-A299-5A17B51A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796A6-21AA-46F8-8D1B-27BEB11D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792B0-0F11-41F5-B87B-1B5A6EEB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8E1FF-D5A9-4DD7-BE16-F0352EBC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EEAB7-E3A3-4441-9057-AD77FE28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8FF0D-4F0A-4E81-9E44-8E2B7E65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A1A89-E82E-4EBF-80EF-D84032A7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65A16-7D99-4DF9-817D-AF16A3B0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661B3-F59B-4E52-B03D-66EA72B2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9D7E6-D700-4651-B27F-60B67457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E2462F-6E64-43E0-B794-D01285F9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73C711-BF0F-49F5-8D40-05047A0E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88C43B-7FBB-49BC-BD84-F63AA1D2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D52E2-76B2-4FC9-ACC8-8C8BDF0B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8EF7F3-32D7-4885-B6E7-8BFAEC29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254642-E6C9-4C86-B1EA-F23D6769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9C01DD-3DCC-4A1A-9C33-CAEEA360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19FFB0-0C1B-4F19-ACFC-DC8524C3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3997A5-A1C6-4419-86E2-7A92D89A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1C7C37-A761-47F1-B785-B3997DFE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78D6C3-8250-4056-A8B7-D91EF302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208313-FC67-4E31-BA67-B3A58A78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D98364-6317-4AD9-A4B9-4D6BB436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C9E0D6-82EF-422A-90C9-46D49DAA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FC75F-9085-4A76-BC42-217AA17F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648DE8-3D6A-4C3C-A8C1-D9297958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70B450-DDD6-4821-92E5-D348928E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AE64A9-EA2E-4E7F-8E35-F2E50011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3583F-6889-4453-8FD0-D67ED5CC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999AC1-054F-4D5D-B590-E3EFE2B8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D3CED5-4FA2-460F-9E9D-FBFD8499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EFCC48-D09D-46BD-897D-9D3D1D46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4E6EEE-9AA6-4862-B0FE-8A2FBA4A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8F4A7-9D45-405B-856A-981089F4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757E4-6776-4570-AC9C-A61EC444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01092-124B-4337-9927-D490BC1B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A7752-1B31-4601-8771-1192567F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40E227-2766-4402-A294-4051BA82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0CC10-5F29-4EED-B927-953424F8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CC1B9D-1BE2-445A-B36E-A3473F63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DF73D1-E472-4907-BC0A-2302476B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9A9DD1-B385-48D2-9543-EF281E4E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C3E30-C18A-41AB-90FD-7E4DFB3B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B3BD5-DD7D-4177-9A85-A5545A70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7D00DB-7275-4B34-A2FB-AC2405F5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97492E-1FC1-4E23-8EAA-4EB1B2AD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9FAF7-8953-4A1E-8888-03004A9D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F48593-2FCC-4A17-871E-7EEBF711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BA37E3-5D1A-42BF-953B-1F63CADB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A3620-9F76-4198-892F-E09FAA9D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9C7B9-D2C7-4536-A29F-ECAE11A2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1E65E-E879-4EF3-ACC7-49D84DE0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F7BB-54B5-45CE-B22E-702C5E700DE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7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11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2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1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2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2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2227-E178-4E15-AE24-B36F78B8D2F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6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1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2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1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1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2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2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A61F-67E6-4053-85AE-16BAB5C0B5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7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55C9-475F-4194-AAA3-681EFED304C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EDE6-9DDB-4481-96DC-81274A992B8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11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2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A184-244F-48AD-8279-AFA761276A3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1857240" y="236412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8637"/>
                </a:solidFill>
                <a:latin typeface="Arial"/>
              </a:rPr>
              <a:t>Учимся рассуждать при решении задач на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14320" y="142560"/>
            <a:ext cx="7143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8637"/>
                </a:solidFill>
                <a:latin typeface="Arial"/>
              </a:rPr>
              <a:t>ПОИСК НОВЫХ ЗНАНИЙ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928520" y="1413000"/>
            <a:ext cx="700092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просит группы выбрать вопросы, которые отличаются друг от друга лишь направлением движения, и наметить план, по которому они будут работать над задач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обсуждения учащиеся записывают свои планы, которые учитель фиксирует на дос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яется общий план решения задач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ть чертёж, расставить данные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ь задачи всеми возможными способ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ь решения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6280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8637"/>
                </a:solidFill>
                <a:latin typeface="Arial"/>
              </a:rPr>
              <a:t>ПОИСК НОВЫХ ЗНАНИЙ</a:t>
            </a:r>
            <a:endParaRPr b="0" lang="en-US" sz="2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9680" y="571680"/>
            <a:ext cx="82184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ам даётся время на  работу с задачами. Если учащиеся затрудняются с решением задачи, то одну из задач учитель разбирает вместе с учащим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На доске каждой группе отводится место (заполняется таблица), где записываются решения задач, если группа гот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714240" y="2357280"/>
          <a:ext cx="8143920" cy="4100760"/>
        </p:xfrm>
        <a:graphic>
          <a:graphicData uri="http://schemas.openxmlformats.org/drawingml/2006/table">
            <a:tbl>
              <a:tblPr/>
              <a:tblGrid>
                <a:gridCol w="2714760"/>
                <a:gridCol w="2714760"/>
                <a:gridCol w="271440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38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встречу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cd2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38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одном направл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cd2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38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разных направлен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cd2d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8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рез сколько минут гномы встретятс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38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Через сколько минут гномы встретятс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38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Через сколько минут гномы встретятс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dcd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38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акое расстояние будет между гномами через 3 минут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38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акое расстояние будет между гномами через 3 минут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38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акое расстояние будет между гномами через 3 минут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38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акое расстояние будет между гномами через 8 мину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38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акое расстояние будет между гномами через 8 мину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38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акое расстояние будет между гномами через 8 мину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dcd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38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акое расстояние будет между гномами через 50 мину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38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акое расстояние будет между гномами через 50 мину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38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акое расстояние будет между гномами через 50 мину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6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57200" y="428760"/>
            <a:ext cx="66103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8637"/>
                </a:solidFill>
                <a:latin typeface="Arial"/>
              </a:rPr>
              <a:t>ПОИСК НОВЫХ ЗНАНИЙ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14280" y="1428480"/>
            <a:ext cx="771552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Группы отчитываются о результатах выполненной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чащиеся заносят решения задач в тетрадь (заполняют таблиц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Учащимся даётся задание сравнить тексты и решения зада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алгоритм  решения задачи не изменяется, то с целью экономии времени, в таблицу её можно не вносить, а сделать соответствующую запись или заполнить таблицу д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14680" y="999720"/>
            <a:ext cx="6960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8637"/>
                </a:solidFill>
                <a:latin typeface="Arial"/>
              </a:rPr>
              <a:t>ИНСТРУКТАЖ О ВЫПОЛНЕНИИ ДОМАШНЕГО ЗАДАНИЯ</a:t>
            </a:r>
            <a:br>
              <a:rPr sz="2500"/>
            </a:br>
            <a:endParaRPr b="0" lang="en-US" sz="25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785600" y="2428920"/>
            <a:ext cx="70722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яются вопросы, на которые предстоит ответить дома (например, решить задачу с вопросом: «Какое расстояние будет между гномами через 10 минут, если они выйдут навстречу друг друга (в одном направлении, в разных направлениях)?» и проанализировать, как при этом изменится решение задачи в каждом случа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28800" y="785880"/>
            <a:ext cx="78912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8637"/>
                </a:solidFill>
                <a:latin typeface="Arial"/>
              </a:rPr>
              <a:t>ПОДВЕДЕНИЕ ИТОГОВ УРОКА</a:t>
            </a:r>
            <a:endParaRPr b="0" lang="en-US" sz="25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4" name="Rectangle 29"/>
          <p:cNvSpPr/>
          <p:nvPr/>
        </p:nvSpPr>
        <p:spPr>
          <a:xfrm>
            <a:off x="1714680" y="1723320"/>
            <a:ext cx="7215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просит учащихся оценить, как они справились с работой на уроке, что было удачным, а что нет; на все ли поставленные в начале урока вопросы были найдены ответы. Учитель просит учащихся обратить внимание на результат игры с гномами и оценить свою работу на уроке и всего кла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анчивается урок, Шидо и Фидо прощаются с ребя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8912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e8637"/>
                </a:solidFill>
                <a:latin typeface="Arial"/>
                <a:ea typeface="Arial"/>
              </a:rPr>
              <a:t>Поиск решения задачи на движение</a:t>
            </a:r>
            <a:endParaRPr b="0" lang="en-US" sz="2900" spc="-1" strike="noStrike">
              <a:solidFill>
                <a:srgbClr val="575f6d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785960" y="1357200"/>
          <a:ext cx="6905520" cy="3768840"/>
        </p:xfrm>
        <a:graphic>
          <a:graphicData uri="http://schemas.openxmlformats.org/drawingml/2006/table">
            <a:tbl>
              <a:tblPr/>
              <a:tblGrid>
                <a:gridCol w="3452760"/>
                <a:gridCol w="3452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или два движущихся объекта в задач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ем лу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од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и начинают движение из одного пункта или из дву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ем прямую и точ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дву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ем прямую и две т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ение в противоположных направлениях, навстречу друг другу или в одном направлени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ретилис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cxnSp>
        <p:nvCxnSpPr>
          <p:cNvPr id="337" name="Прямая со стрелкой 5"/>
          <p:cNvCxnSpPr/>
          <p:nvPr/>
        </p:nvCxnSpPr>
        <p:spPr>
          <a:xfrm flipH="1">
            <a:off x="6857640" y="1928520"/>
            <a:ext cx="2160" cy="500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8" name="Прямая со стрелкой 10"/>
          <p:cNvCxnSpPr/>
          <p:nvPr/>
        </p:nvCxnSpPr>
        <p:spPr>
          <a:xfrm flipH="1">
            <a:off x="3499920" y="1641960"/>
            <a:ext cx="1572480" cy="500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9" name="Прямая со стрелкой 15"/>
          <p:cNvCxnSpPr/>
          <p:nvPr/>
        </p:nvCxnSpPr>
        <p:spPr>
          <a:xfrm flipH="1">
            <a:off x="3499560" y="2571840"/>
            <a:ext cx="1644120" cy="429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0" name="Прямая со стрелкой 19"/>
          <p:cNvCxnSpPr/>
          <p:nvPr/>
        </p:nvCxnSpPr>
        <p:spPr>
          <a:xfrm flipH="1">
            <a:off x="6928560" y="2928600"/>
            <a:ext cx="2520" cy="500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1" name="Прямая со стрелкой 24"/>
          <p:cNvCxnSpPr/>
          <p:nvPr/>
        </p:nvCxnSpPr>
        <p:spPr>
          <a:xfrm flipH="1">
            <a:off x="7286400" y="3714840"/>
            <a:ext cx="2160" cy="429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2" name="Прямая со стрелкой 28"/>
          <p:cNvCxnSpPr/>
          <p:nvPr/>
        </p:nvCxnSpPr>
        <p:spPr>
          <a:xfrm flipH="1">
            <a:off x="3142800" y="3357720"/>
            <a:ext cx="8640" cy="653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28800" y="857160"/>
            <a:ext cx="78912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e8637"/>
                </a:solidFill>
                <a:latin typeface="Arial"/>
                <a:ea typeface="Arial"/>
              </a:rPr>
              <a:t>Учимся рассуждать при решении задач на движение</a:t>
            </a:r>
            <a:endParaRPr b="0" lang="en-US" sz="29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4" name="Rectangle 29"/>
          <p:cNvSpPr/>
          <p:nvPr/>
        </p:nvSpPr>
        <p:spPr>
          <a:xfrm>
            <a:off x="642960" y="3500280"/>
            <a:ext cx="85010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9"/>
          <p:cNvSpPr/>
          <p:nvPr/>
        </p:nvSpPr>
        <p:spPr>
          <a:xfrm>
            <a:off x="428760" y="1803960"/>
            <a:ext cx="8501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45720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двух городов, расстояние между которыми равно 105 км, навстречу друг другу одновременно выезжают два велосипедиста, при этом скорость одного из них на 25% меньше скорости другого. Через три часа они находились на расстоянии 21км друг от друга. Найти скорости велосипед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457200" algn="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16 и 12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; 24 и 18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457200" algn="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457200"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велосипедист догоняет другого со скоростью на 25% большей, чем у другого велосипедиста. В начальный момент времени расстояние между ними составило 14 км, а через 4 часа пути – 2 км. Найти скорости велосипед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457200" algn="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12 и 15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; 16 и 20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78912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e8637"/>
                </a:solidFill>
                <a:latin typeface="Arial"/>
                <a:ea typeface="Arial"/>
              </a:rPr>
              <a:t>ЕГЭ: задача В13</a:t>
            </a:r>
            <a:endParaRPr b="0" lang="en-US" sz="29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7" name="Rectangle 29"/>
          <p:cNvSpPr/>
          <p:nvPr/>
        </p:nvSpPr>
        <p:spPr>
          <a:xfrm>
            <a:off x="428760" y="111276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пункта A в пункт B одновременно выехали два автомобиля. Первый проехал с постоянной скоростью весь путь. Второй проехал первую половину пути со скоростью 24 км/ч, а вторую половину пути — со скоростью, на 16 км/ч большей скорости первого, в результате чего прибыл в пункт В одновременно с первым автомобилем. Найдите скорость первого автомобиля. Ответ дайте в км/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пункта А в пункт В, расстояние между которыми 75 км, одновременно выехали автомобилист и велосипедист. Известно, что за час автомобилист проезжает на 40 км больше, чем велосипедист. Определите скорость велосипедиста, если известно, что он прибыл в пункт В на 6 часов позже автомобилиста. Ответ дайте в км/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осипедист выехал с постоянной скоростью из города А в город В, расстояние между которыми равно 98 км. На следующий день он отправился обратно со скоростью на 7 км/ч больше прежней. По дороге он сделал остановку на 7 часов. В результате он затратил на обратный путь столько же времени, сколько на путь из А в В. Найдите скорость велосипедиста на пути из А в В. Ответ дайте в км/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78912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e8637"/>
                </a:solidFill>
                <a:latin typeface="Arial"/>
                <a:ea typeface="Arial"/>
              </a:rPr>
              <a:t>Задача В13</a:t>
            </a:r>
            <a:endParaRPr b="0" lang="en-US" sz="29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9" name="Rectangle 29"/>
          <p:cNvSpPr/>
          <p:nvPr/>
        </p:nvSpPr>
        <p:spPr>
          <a:xfrm>
            <a:off x="428760" y="109332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 между городами A и B равно 435 км. Из города A в город B со скоростью 60 км/ч выехал первый автомобиль, а через час после этого навстречу ему из города B выехал со скоростью 65 км/ч второй автомобиль. На каком расстоянии от города A автомобили встретятся? Ответ дайте в километ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городов A и B навстречу друг другу выехали мотоциклист и велосипедист. Мотоциклист приехал в B на 3 часа раньше, чем велосипедист приехал в A, а встретились они через 48 минут после выезда. Сколько часов затратил на путь из B в A велосипедис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варный поезд каждую минуту проезжает на 750 метров меньше, чем скорый, и на путь в 180 км тратит времени на 2 часа больше, чем скорый. Найдите скорость товарного поезда. Ответ дайте в км/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78912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e8637"/>
                </a:solidFill>
                <a:latin typeface="Arial"/>
                <a:ea typeface="Arial"/>
              </a:rPr>
              <a:t>Задача В13</a:t>
            </a:r>
            <a:endParaRPr b="0" lang="en-US" sz="29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1" name="Rectangle 29"/>
          <p:cNvSpPr/>
          <p:nvPr/>
        </p:nvSpPr>
        <p:spPr>
          <a:xfrm>
            <a:off x="428760" y="1089720"/>
            <a:ext cx="8501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 между городами A и B равно 150 км. Из города A в город B выехал автомобиль, а через 30 минут следом за ним со скоростью 90 км/ч выехал мотоциклист,  догнал автомобиль в городе C и повернул обратно. Когда он вернулся в A, автомобиль прибыл в B. Найдите расстояние от A до C. Ответ дайте в километ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а пешехода отправляются одновременно в одном направлении из одного и того же места на прогулку по аллее парка. Скорость первого на 1,5 км/ч больше скорости второго. Через сколько минут расстояние между пешеходами станет равным 300 метр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1619280" y="2178360"/>
            <a:ext cx="669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8637"/>
                </a:solidFill>
                <a:latin typeface="Arial"/>
              </a:rPr>
              <a:t>Конспект ур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8637"/>
                </a:solidFill>
                <a:latin typeface="Arial"/>
              </a:rPr>
              <a:t>по математике в 5 класс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8637"/>
                </a:solidFill>
                <a:latin typeface="Arial"/>
              </a:rPr>
              <a:t>«Учимся рассуждать при решении задач на движ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142560"/>
            <a:ext cx="77868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e8637"/>
                </a:solidFill>
                <a:latin typeface="Arial"/>
              </a:rPr>
              <a:t>ЦЕЛИ И ЗАДАЧИ УРОКА</a:t>
            </a:r>
            <a:endParaRPr b="0" lang="en-US" sz="29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28400" y="714240"/>
            <a:ext cx="87152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правлении личностного развит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ть условия для формирования элементов социально-личностной компетентности на основе умений проектировать и осуществлять алгоритмическую и эвристическую деятельность, проверять и оценивать результаты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метапредметном направлен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з решение задачи с несформулированным вопросом способств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ю творческой и мыслительной деятельности учащихся, их интеллектуальных качеств: способности к «видению» проблемы, оценочным действиям, обобщению, быстрому переключению, самостоятельности, гибк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ю у учащихся умений корректировать свою деятельность в ходе уро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ю умения чётко и ясно излагать свои мысли, задавать вопрос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з создание на уроке ситуаций эмоциональных переживаний способствовать развитию эмоций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редметном направлении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ть усл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формирования представления о типах задач на движение по  прям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тработки навыков составления математической модели по условию задач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азвития умений выполнять действия над десятичными дроб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333000"/>
            <a:ext cx="77868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e8637"/>
                </a:solidFill>
                <a:latin typeface="Arial"/>
              </a:rPr>
              <a:t>ОРГАНИЗАЦИЯ НАЧАЛА УРОКА</a:t>
            </a:r>
            <a:endParaRPr b="0" lang="en-US" sz="29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000160" y="928800"/>
            <a:ext cx="7143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чит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ема урока « Учимся рассуждать при решении задач на движение». Прочитайте её ещё раз, вдумайтесь в каждое её слово. Сформулируйте вопросы, на которые мы, на ваш взгляд, должны дать ответ в ходе изучения этой темы. Что бы вы хотели узнать сегодня на уроке, чему научить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роблемы, о которых говорили ученики, учитель кратко записывает на доске и обещает, что на все вопросы мы  постараемся дать ответы на этом или последующих уроках. Учитель сообщает учащимся, какие ещё проблемы ему удалось выдел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существуют виды задач на движ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общего и в чём различие таких зада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можно выделить способы реш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самостоятельно составить задачу на движ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85560" y="214200"/>
            <a:ext cx="746748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8637"/>
                </a:solidFill>
                <a:latin typeface="Arial"/>
              </a:rPr>
              <a:t>ОРГАНИЗАЦИЯ НАЧАЛА УРОКА</a:t>
            </a:r>
            <a:endParaRPr b="0" lang="en-US" sz="2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42640" y="1428840"/>
            <a:ext cx="7682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 Вы когда-нибудь были в стране гномов? Наверное, нет, там живут маленькие и очень добрые человечки. Хотите побывать в их стране и познакомиться с двумя её жител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, чуть не забыла. Гномы очень не любят, когда к ним вторгаются без предупреждения. И самая любимая наука гномов, отгадайте какая? Ну, конечно же, матем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того чтобы попасть в их страну вы должны угадать их имена. Для этого вы должны отгадать шифр, который записан на доске. Имена гномов отличаются только первыми букв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85560" y="214200"/>
            <a:ext cx="746748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e8637"/>
                </a:solidFill>
                <a:latin typeface="Arial"/>
              </a:rPr>
              <a:t>АКТУАЛИЗАЦИЯ ЗНАНИЙ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14680" y="1213920"/>
            <a:ext cx="72864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, полученный при решении первого задания, укажет нам первую букву в имени одного из гномов, а второго задания – первую букву в имени другого гнома. Значения трёх следующих выражений подскажут нам три следующие буквы в именах гно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13,6 + 10,4 =      2) 156 - 40,8 =     3) 13,6 ×3 =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10,4 ×3 =       5)156 : 24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я числовых выражений потребуются в дальнейшем при решении задач. Поэтому, после проверки решений, ответы записываются на доске и не стираются до конца урока. Задания учащиеся выполняют 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143080" y="3714840"/>
          <a:ext cx="6095880" cy="7412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765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cd2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765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cd2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765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cd2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765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cd2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765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cd2d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765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765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765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765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765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d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85560" y="214200"/>
            <a:ext cx="746748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e8637"/>
                </a:solidFill>
                <a:latin typeface="Arial"/>
              </a:rPr>
              <a:t>АКТУАЛИЗАЦИЯ ЗНАНИЙ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14680" y="1213920"/>
            <a:ext cx="72864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чит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так, имена гномов Шидо и Фидо. Они приглашают вас посетить их сказочную страну. Шидо и Фидо – братья. Живут они в домах, расстояние между которыми 156 метров. Они часто ходят в гости друг к другу и к другим гномам, причём идти они могут только по прямой и с постоянной скоростью. Скорость Шидо 13,6 м/мин, а скорость Фидо – 10,4 м/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номы хотят сыграть с вами в игру, которую они недавно придумали и назвали её «5». Правила её таковы. Они будут задавать вам вопросы. Если ни один из вас не найдёт ответа на этот вопрос, то мы из 5 вычитаем единицу. Если к концу урока число останется положительным, то выиграли вы, если нет - гномы. Ну что, играем? Успеха вам. Итак, вопрос перв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42680" y="274680"/>
            <a:ext cx="628164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e8637"/>
                </a:solidFill>
                <a:latin typeface="Arial"/>
              </a:rPr>
              <a:t>ПОИСК НОВЫХ ЗНАНИЙ.</a:t>
            </a:r>
            <a:endParaRPr b="0" lang="en-US" sz="27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43040" y="928440"/>
            <a:ext cx="72151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стояние между домами гномов 156 м. Из них вышли одновременно Шидо и Фидо. Скорость Шидо 13,6 м/мин, а скорость Фидо – 10,4 м/мин. Какие вопросы можно поставить по этому условию, чтобы получилась зада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озможные вопросы учащихся к условию задачи: Через сколько минут гномы встретятся? Какое расстояние между гномами будет через 3 мин? и т. 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не изменить при этом условие задачи, то в каждом из данных случаев получим задачу с неполным составом условий, так как неизвестно, в каком направлении гномы вышли: навстречу друг другу, в одном направлении или в разных направлениях. При таком уточнении получим серию задач, в каждой из которых изменяется один из элементов, внешне не существенных, но резко меняющих содержания действия по её решению. Эти факты выясняем вместе с  учащимися в ходе бес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25804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8637"/>
                </a:solidFill>
                <a:latin typeface="Arial"/>
              </a:rPr>
              <a:t>ПОИСК НОВЫХ ЗНАНИЙ</a:t>
            </a:r>
            <a:endParaRPr b="0" lang="en-US" sz="25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0040" y="785880"/>
            <a:ext cx="84297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лее учащиеся работают в парах или четвёр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ам предлагается сформулировать как можно больше вопросов к условию этой задачи.  После обсуждения учащиеся называют свои вопросы. Учитель фиксирует их на дос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ианты вопрос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сколько минут гномы дойдут до дома друг друг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сколько минут гномы встретятся, если пойдут навстречу друг друг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сколько минут Шидо догонит Фидо, если они выйдут в одном направл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е расстояние будет между гномами через 3 минуты, если они выйдут навстречу друг друга (в одном направлении, в разных направлениях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е расстояние будет между гномами через 8 минут, если они выйдут навстречу друг друга (в одном направлении, в разных направлениях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е расстояние будет между гномами через 20 минут, если они выйдут навстречу друг друга (в одном направлении, в разных направлениях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06T19:26:25Z</dcterms:modified>
  <cp:revision>130</cp:revision>
  <dc:subject/>
  <dc:title>Психолого-педагогическое сопровождение ЕГ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a0000000000010250300207f7000400038000</vt:lpwstr>
  </property>
</Properties>
</file>