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0B93-5E95-42A9-9FD5-BC8E4CBEE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630-CF2E-4D05-8764-82362DA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CC21-466B-4712-AE35-43417776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0F44-0888-4FD8-8648-FC6BDF3D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6C5BF-C367-44FF-BD66-6B38903B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32F5-6E27-4130-ADF8-1FFFAD44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17F6-9AF7-41DA-A5A1-FA449305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AD2D-6872-4B5A-8658-273515B6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04D8-BB63-4CAE-B153-A531B01C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180A-E490-4004-83B9-2C7891C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8103-67B9-472D-82E4-650CA90E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2209-E84D-45B2-8F9D-EE879E74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6BB6-027F-4893-9973-35698B85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9C01-3EF6-49F9-9CCE-FC6B3AD8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BD51-E422-4BD3-A857-892DD21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3A47-EC58-441D-8313-773DA5D6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4FC84-1EE2-4393-AF75-7DABE759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1CF8-E63B-4AC8-95B2-B267C3A3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CCBE0-A25B-49F9-BD11-BAE92964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67582-B2CF-43D3-88B4-AA2F6D45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581F-F18C-449E-9B71-52E42D7D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36BBF-252F-47EB-98A5-8F385B5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F96-C195-47C7-BB82-32E4B52B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C0F5D-7EB0-4CD5-B9A5-572ADFD8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7D755-3193-4732-8399-BB8F0619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5A037-E0B1-4971-AB40-697DC2C0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B1307-3E1F-43DB-852C-7375927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D53B7-9FAA-4761-9CF7-01A6DF05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1B224-D88A-4697-84B4-51DF3B4B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DB1D-87BC-4C6F-A347-C0665C23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0E9E7-1900-457F-902F-37895C80A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818B2-2985-4F80-A893-E7A521E1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7E11A-AD0F-4C0E-9CB2-F602EA7C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F27-0A71-4F35-AF83-DFA38776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FB26-992E-44A8-8536-4DEDCCC5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4F932-3CBA-46E4-8B04-8E57284B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6AF79-7686-46CC-83C8-05D9E3E1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1BCD-7691-40B9-A4CD-A30CA650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928CA-357B-4D13-9B36-DF8E2FA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DC460-5768-4E26-9FE4-F8E13A0D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E5F06-F217-48B7-A114-46A32407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8F28-1948-420D-8BD5-78434178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F5FB7-09FD-46A1-96CF-13E5BA61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B0833-37AD-4371-8B19-CA78C46FC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9E3A-BEA9-4EB3-B79D-4D12B0EF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0FF5D-8F0F-4A63-A02C-3BF34358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57B83-22E3-42D0-8CC9-303EBC8C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D704E-E5F2-4A3B-83CC-4D818378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D76A3-953E-47B7-8BBB-6A5223E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E4A10E-EF8C-4E96-BA32-C588FAF7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9CF2E-5AA5-4B2A-AAB8-6B3B9A0D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5E61F-6F42-4BF3-B08C-38F59923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DEE74C-BB15-4F9A-A2F3-A2574E7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E9057-68A1-41F0-A267-8B5B7276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3628C-9288-4837-BDE9-B27EBD8B5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7BB-1831-4E5B-B36B-47085A6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A3BE5-23FF-4E8F-9A70-422EA0FA9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1E49-0C0F-4CF0-A05F-AFF89B95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FA3B-9DFC-4D28-BF34-4113750D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816-CDFF-450B-A464-9370BDA4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A651E-376B-430E-AEC3-0EEDBD570F6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A14A-2DE7-4EA7-BFA6-DC955AC9B73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5C3F-A96B-47D5-ACE9-F441E3D8193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A5EE-CFC7-4FFE-81A4-F58F9AC500F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C222-6FAC-4DBE-BB8D-195F1830B1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8d3e"/>
                </a:solidFill>
                <a:latin typeface="Verdana"/>
              </a:rPr>
              <a:t>Город-герой Севастополь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1" name="Picture 4" descr="Герб города Севастополя"/>
          <p:cNvPicPr/>
          <p:nvPr/>
        </p:nvPicPr>
        <p:blipFill>
          <a:blip r:embed="rId1"/>
          <a:stretch/>
        </p:blipFill>
        <p:spPr>
          <a:xfrm>
            <a:off x="3056040" y="2492280"/>
            <a:ext cx="317808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39280" y="999720"/>
            <a:ext cx="7890120" cy="4837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1 июня 1942 г. гитлеровцы прорвались к Северной бухте. Одна за другой замолкали батареи. В те критические дни героические подвиги совершили тысячи защитников Севастополя. 25 июня фашистские летчики бомбили здание панорамы "Оборона Севастополя 1854-1855гг.". От прямых попаданий 5 бомб и 7 крупнокалиберных снарядов была пробита стена, разрушен купол и возник пожар. Живописное полотно спасали курсанты школы средних командиров береговой обороны, бойцы 11-го отдельного батальона воздушного наблюдения, оповещения и связи. Вынесенные из огня фрагменты живописного полотна были вывезены на лидере эсминцев "Ташкент" - последнем большом надводном корабле, прорвавшемся в Севастополь, под командованием капитана 3 ранга В.Н.Ерошенк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500040"/>
            <a:ext cx="4259160" cy="562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ступившие 3 июля 1942 года в разрушенный город фашисты бесчинствовали в нем 22 месяца. Они уничтожили в инкерманских штольнях 3 тыс. женщин, стариков и детей, в Троицком туннеле - более 400 рабочих. 12 июля оккупанты согнали на стадион "Динамо" 1500 жителей, а после ограбления и издевательств расстреляли их на 5-м км Балаклавского шоссе. За время оккупации города фашисты расстреляли, сожгли, утопили в море, насильно угнали в Германию десятки тысяч севастопольцев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есмотря на жесточайший оккупационный режим, севастопольцы не прекратили борьбу с фашистами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4" name="Picture 4" descr="В городе тишина. Севастополь, 1944 год"/>
          <p:cNvPicPr/>
          <p:nvPr/>
        </p:nvPicPr>
        <p:blipFill>
          <a:blip r:embed="rId1"/>
          <a:stretch/>
        </p:blipFill>
        <p:spPr>
          <a:xfrm>
            <a:off x="4857840" y="571680"/>
            <a:ext cx="3713040" cy="4948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5"/>
          <p:cNvSpPr/>
          <p:nvPr/>
        </p:nvSpPr>
        <p:spPr>
          <a:xfrm>
            <a:off x="5139360" y="5571360"/>
            <a:ext cx="313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ороде тишина. Севастополь, 1944 г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44258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500040"/>
            <a:ext cx="8186760" cy="5286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9 и 30 июня вражеская авиация совершила свыше 3000 самолето-вылетов, сбросила на город до 15 тыс. бомб, артиллерия обрушила около 8000 снарядов, до 14000 мин. Фашистское командование бросило в бой все силы и средства. Резервы защитников города таяли, кончались снаряды, патроны, гранаты. 30 июня завязались бои на Корабельной стороне. Упорно отбивали атаки врага защитники на Малаховом кургане, Лабораторном шоссе, Историческом бульваре, у хуторов Коммуна, Бермана. Ночью, когда кончились боеприпасы, остатки войск СОР стали отходить к бухтам Стрелецкая, Камышовая, Казачья и на мыс Херсонес. Здесь бои продолжались еще до 4 июля, а в отдельных местах - до 12 июл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429160" y="5714640"/>
            <a:ext cx="328320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8d3e"/>
                </a:solidFill>
                <a:latin typeface="Verdana"/>
              </a:rPr>
              <a:t>    </a:t>
            </a:r>
            <a:r>
              <a:rPr b="1" lang="ru-RU" sz="1100" spc="-1" strike="noStrike">
                <a:solidFill>
                  <a:srgbClr val="ff8d3e"/>
                </a:solidFill>
                <a:latin typeface="Verdana"/>
              </a:rPr>
              <a:t>Колонна немецких военнопленных в районе Мекензиевых гор под Севастополем. </a:t>
            </a:r>
            <a:br>
              <a:rPr sz="1100"/>
            </a:br>
            <a:endParaRPr b="1" lang="en-US" sz="11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9" name="Picture 4" descr="Колонна немецких военнопленных в районе Мекензиевых гор под Севастополем. Фото 1944 года"/>
          <p:cNvPicPr/>
          <p:nvPr/>
        </p:nvPicPr>
        <p:blipFill>
          <a:blip r:embed="rId1"/>
          <a:stretch/>
        </p:blipFill>
        <p:spPr>
          <a:xfrm>
            <a:off x="5429160" y="1071720"/>
            <a:ext cx="3024360" cy="41875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4"/>
          <p:cNvSpPr/>
          <p:nvPr/>
        </p:nvSpPr>
        <p:spPr>
          <a:xfrm>
            <a:off x="642960" y="571680"/>
            <a:ext cx="4572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июля 1942 г. газета "Правда" и Совинформбюро сообщили, что советские войска оставили Севастополь. В сообщении Совинформбюро говорилось: "Военное и политическое значение Севастопольской обороны в Отечественной войне советского народа огромно. Сковывая большое количество немецко-румынских войск, защитники города спутали и расстроили планы немецкого командования. Железная стойкость севастопольцев явилась одной из важнейших причин, сорвавших пресловутое "весеннее наступление" немцев. Гитлеровцы проиграли во времени, в темпах, понесли огромные потери людьми." За 8 месяцев обороны враг потерял у стен Севастополя до 300 тыс. солдат убитыми и ранеными. Газета "Правда" писала: "Подвиг севастопольцев, их беззаветное мужество, самоотверженность, ярость в борьбе с врагом будут жить в веках, их увенчает бессмертная слава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500040"/>
            <a:ext cx="3898800" cy="562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9 мая к вечеру был полностью освобожден Севастополь, 10 мая в час ночи Москва 24 залпами из 342 орудий салютовала освободителям города. В этот день газета "Правда" писала: "Здравствуй, родной Севастополь! Любимый город советского народа, город-герой, город-богатырь! Радостно приветствует тебя вся страна!". 12 мая в районе мыса Херсонес были разгромлены остатки фашистских войск в Крым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4" descr="Над руинами города взились Красные флаги победы. Севастополь, 1944 год"/>
          <p:cNvPicPr/>
          <p:nvPr/>
        </p:nvPicPr>
        <p:blipFill>
          <a:blip r:embed="rId1"/>
          <a:stretch/>
        </p:blipFill>
        <p:spPr>
          <a:xfrm>
            <a:off x="5357880" y="714240"/>
            <a:ext cx="2924280" cy="437220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5443560" y="5286600"/>
            <a:ext cx="27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ад руинами города взились Красные флаги победы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Севастополь, 1944 год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9080" y="5572080"/>
            <a:ext cx="39290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8d3e"/>
                </a:solidFill>
                <a:latin typeface="Verdana"/>
              </a:rPr>
              <a:t>Весна 1942 года в Севастополе</a:t>
            </a:r>
            <a:endParaRPr b="1" lang="en-US" sz="1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2920" y="530280"/>
            <a:ext cx="2568600" cy="525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знаменование подвига защитников города 22 декабря 1942 г. Указом Президиума Верховного Совета СССР была учреждена медаль "За оборону Севастополя", которой награждено свыше 50 тыс. участников оборо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Весна 1942 года в Севастополе. Фото Д. Рымарева"/>
          <p:cNvPicPr/>
          <p:nvPr/>
        </p:nvPicPr>
        <p:blipFill>
          <a:blip r:embed="rId1"/>
          <a:stretch/>
        </p:blipFill>
        <p:spPr>
          <a:xfrm>
            <a:off x="3571920" y="642960"/>
            <a:ext cx="50720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ff8d3e"/>
                </a:solidFill>
                <a:latin typeface="Verdana"/>
              </a:rPr>
              <a:t>1 </a:t>
            </a:r>
            <a:r>
              <a:rPr b="1" lang="ru-RU" sz="1200" spc="-1" strike="noStrike">
                <a:solidFill>
                  <a:srgbClr val="ff8d3e"/>
                </a:solidFill>
                <a:latin typeface="Verdana"/>
              </a:rPr>
              <a:t>мая</a:t>
            </a:r>
            <a:r>
              <a:rPr b="1" lang="ru-RU" sz="900" spc="-1" strike="noStrike">
                <a:solidFill>
                  <a:srgbClr val="ff8d3e"/>
                </a:solidFill>
                <a:latin typeface="Verdana"/>
              </a:rPr>
              <a:t> 1941 г. в приказе Верховного Главнокомандующего И. В. Сталина г. Севастополь назван в числе первых городов-героев. </a:t>
            </a:r>
            <a:br>
              <a:rPr sz="900"/>
            </a:br>
            <a:br>
              <a:rPr sz="900"/>
            </a:br>
            <a:r>
              <a:rPr b="1" lang="ru-RU" sz="9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900" spc="-1" strike="noStrike">
                <a:solidFill>
                  <a:srgbClr val="ff8d3e"/>
                </a:solidFill>
                <a:latin typeface="Verdana"/>
              </a:rPr>
              <a:t>8 мая 1965 года городу Севастополю было присвоено звание "Города-героя".</a:t>
            </a:r>
            <a:br>
              <a:rPr sz="900"/>
            </a:br>
            <a:br>
              <a:rPr sz="900"/>
            </a:br>
            <a:endParaRPr b="1" lang="en-US" sz="9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9" name="Picture 4" descr="Обелиск в честь города-героя Севастополя"/>
          <p:cNvPicPr/>
          <p:nvPr/>
        </p:nvPicPr>
        <p:blipFill>
          <a:blip r:embed="rId1"/>
          <a:stretch/>
        </p:blipFill>
        <p:spPr>
          <a:xfrm>
            <a:off x="1785960" y="714240"/>
            <a:ext cx="5572080" cy="4214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5"/>
          <p:cNvSpPr/>
          <p:nvPr/>
        </p:nvSpPr>
        <p:spPr>
          <a:xfrm>
            <a:off x="3854520" y="4499640"/>
            <a:ext cx="333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лиск в честь города-героя Севастопо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25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                              </a:t>
            </a: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Значки Севастополя</a:t>
            </a: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2" name="Picture 4" descr="1234650561_34_7264_0"/>
          <p:cNvPicPr/>
          <p:nvPr/>
        </p:nvPicPr>
        <p:blipFill>
          <a:blip r:embed="rId1"/>
          <a:stretch/>
        </p:blipFill>
        <p:spPr>
          <a:xfrm>
            <a:off x="571680" y="1484280"/>
            <a:ext cx="4216320" cy="39448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5651640" y="1215360"/>
            <a:ext cx="21571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гендарный Севастопол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. Гра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ы лети, крылатый ветер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 морями, над земле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кажи ты всем на све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 любимый город мой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м на свете ты поведа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 крымских берега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евали наши дед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славились в боях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гендарный Севастополь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иступный для врагов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вастополь, Севастополь 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дость русских моряко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1400" spc="-1" strike="noStrike">
                <a:solidFill>
                  <a:srgbClr val="ff8d3e"/>
                </a:solidFill>
                <a:latin typeface="Verdana"/>
              </a:rPr>
              <a:t>Севастополь - город-порт на черноморском побережье Крымского полуострова, город-герой. Основан в 1783 году после завоевания Крыма Российской Империей как крепость и, впоследствии, порт. </a:t>
            </a:r>
            <a:br>
              <a:rPr sz="1400"/>
            </a:br>
            <a:endParaRPr b="1" lang="en-US" sz="1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4" name="Picture 5" descr="Sevastopol_map"/>
          <p:cNvPicPr/>
          <p:nvPr/>
        </p:nvPicPr>
        <p:blipFill>
          <a:blip r:embed="rId1"/>
          <a:stretch/>
        </p:blipFill>
        <p:spPr>
          <a:xfrm>
            <a:off x="1403280" y="571680"/>
            <a:ext cx="64087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1797 году Император Павел переименовал его в Ахтиар, по имени бывшей на месте города крымскотатарской деревни Ак-Яр. В 1826 году сенатским указом городу было возвращено прежнее, греческое имя - Севастополь. Название города состоит из двух греческих слов (Себастос) - эквивалент латинского титула "Август" и (полис) - "город" и буквально переводится как "город император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16" descr="Герб Севастополя"/>
          <p:cNvPicPr/>
          <p:nvPr/>
        </p:nvPicPr>
        <p:blipFill>
          <a:blip r:embed="rId1"/>
          <a:stretch/>
        </p:blipFill>
        <p:spPr>
          <a:xfrm>
            <a:off x="5292720" y="765000"/>
            <a:ext cx="3095640" cy="3387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7"/>
          <p:cNvSpPr/>
          <p:nvPr/>
        </p:nvSpPr>
        <p:spPr>
          <a:xfrm>
            <a:off x="6300720" y="4631760"/>
            <a:ext cx="1117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ерб Севастоп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9287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ff8d3e"/>
                </a:solidFill>
                <a:latin typeface="Verdana"/>
              </a:rPr>
              <a:t>Во время Крымской войны 1853-1856 гг. прославился как город русской славы. </a:t>
            </a: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Picture 4" descr="39"/>
          <p:cNvPicPr/>
          <p:nvPr/>
        </p:nvPicPr>
        <p:blipFill>
          <a:blip r:embed="rId1"/>
          <a:stretch/>
        </p:blipFill>
        <p:spPr>
          <a:xfrm>
            <a:off x="1187280" y="571680"/>
            <a:ext cx="6480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уровым и тяжелейшим испытанием для севастопольцев и моряков Черноморского флота стала Великая Отечественная война 1941 - 1945 гг. Севастополь в числе первых городов СССР 22 июня 1941 г. в 3 часа 15 минут подвергся налету фашистской авиации. Первой нанесла удар по фашистским самолетам зенитно-артиллерийская батарея Черноморского флота N 74, которой командовал лейтенант И.Г.Козовник. Вслед за ней открыли огонь 76, 80, 78 и 75-я батареи и успешно отразили первый налет фашист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яки Черноморского флота, жители города организованно встали на защиту Севастопол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7" descr="Морская пехота в атаке. 1942 год. Кадр из фильма &quot;Севастопольцы&quot;"/>
          <p:cNvPicPr/>
          <p:nvPr/>
        </p:nvPicPr>
        <p:blipFill>
          <a:blip r:embed="rId1"/>
          <a:stretch/>
        </p:blipFill>
        <p:spPr>
          <a:xfrm>
            <a:off x="4859280" y="620640"/>
            <a:ext cx="3673440" cy="4103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4500720" y="5228640"/>
            <a:ext cx="46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орская пехота в атаке. 1942 год. Кадр из фильма "Севастопольцы"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500040"/>
            <a:ext cx="4038480" cy="5214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9 октября 1941 г. в Севастополе было введено осадное положение. 30 октября первый удар по моторизованной колонне 11-й немецкой армии генерала Манштейна нанесла 54-я береговая батарея Черноморского флота под командованием лейтенанта И.И.Заики. Артиллеристы три дня вели непрерывные ожесточенные бои с наседавшими фашистами. Почти одновременно с артиллеристами в бой вступили части морской пехоты, сформированные из курсантов военно-морского училища и матросов боевых кораблей и береговых частей флота, при поддержке береговых и зенитно-артиллерийских батаре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6" descr="Линкор &quot;Севастополь&quot; ведет огонь по позициям врага. 29 декабря 1941 года. Фото Бориса Шейнина"/>
          <p:cNvPicPr/>
          <p:nvPr/>
        </p:nvPicPr>
        <p:blipFill>
          <a:blip r:embed="rId1"/>
          <a:stretch/>
        </p:blipFill>
        <p:spPr>
          <a:xfrm>
            <a:off x="4643280" y="714240"/>
            <a:ext cx="3743640" cy="352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4500720" y="4571280"/>
            <a:ext cx="421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Линкор "Севастополь" ведет огонь по позициям враг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з Южной бухты. 29 декабря 1941 года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857920" y="642600"/>
            <a:ext cx="282888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8d3e"/>
                </a:solidFill>
                <a:latin typeface="Verdana"/>
              </a:rPr>
              <a:t>После провала попытки овладеть Севастополем с ходу немецко-фашистское командование осуществило три наступления на город: первое началось 11 ноября 1941 г., второе - 17 декабря 1941 г., третье - 7 июня 1942 г.</a:t>
            </a: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0" name="Picture 4" descr="Взрыв немецкой мины на центральном рейде, 1941 год. Фото Бориса Шейнина"/>
          <p:cNvPicPr/>
          <p:nvPr/>
        </p:nvPicPr>
        <p:blipFill>
          <a:blip r:embed="rId1"/>
          <a:stretch/>
        </p:blipFill>
        <p:spPr>
          <a:xfrm>
            <a:off x="571680" y="571680"/>
            <a:ext cx="4608360" cy="4357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1300680" y="5070600"/>
            <a:ext cx="3211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зрыв немецкой мины 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нтральном рейде, 1941 г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620280"/>
            <a:ext cx="3683160" cy="5505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ессмертный подвиг совершил гарнизон дзота N 11. Краснофлотец комсомолец Иван Голубец ценой собственной жизни спас боевые корабли и их экипажи в Стрелецкой бухте. Ему посмертно присвоено звание Героя Советского Союза. За подвиги в те дни звания Героя Советского Союза были удостоены пулеметчица Нина Онилова и снайпер Людмила Павличенк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дни обороны жители города проявили ратный и трудовой героизм. Рабочие Морского завода под обстрелом врага ремонтировали корабли, создавали боевую технику днем и ночью, оборудовали два бронепоезда, построили и оснастили плавучую батарею N 3, получившую название "Не тронь меня", которая надежно прикрывала город от налетов фашистской авиации с моря. Немцы называли ее "Квадрат смерти". В горных выработках (штольнях) на берегу Севастопольской бухты были созданы подземные спецкомбинаты; N 1 - для производства вооружения и боеприпасов, N 2 - по пошиву белья, обуви и обмундирования. Тут же, под землей, работали амбулатории, столовая, клуб, школа, детские ясли и сад, а впоследствии - госпиталь, хлебозавод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Picture 4" descr="Бронепоезд выходит на позицию. 1942 год"/>
          <p:cNvPicPr/>
          <p:nvPr/>
        </p:nvPicPr>
        <p:blipFill>
          <a:blip r:embed="rId1"/>
          <a:stretch/>
        </p:blipFill>
        <p:spPr>
          <a:xfrm>
            <a:off x="4500720" y="692280"/>
            <a:ext cx="4025880" cy="37987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5"/>
          <p:cNvSpPr/>
          <p:nvPr/>
        </p:nvSpPr>
        <p:spPr>
          <a:xfrm>
            <a:off x="4784400" y="4796640"/>
            <a:ext cx="32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онепоезд выходит на позицию. 1942 год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95280" y="836640"/>
            <a:ext cx="3384720" cy="5021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Защитников города постоянно поддерживали корабли флота. Прорываясь в осажденный Севастополь, они доставляли пополнения, боеприпасы, продукты питания, увозили на Большую землю раненых, стариков, женщин и детей, вели артиллерийский огонь по позициям врага. А когда надводные корабли уже не могли прорываться к Севастополю, их задачу отважно выполняли экипажи подводных лодок. Несгибаемое мужество и само отверженность проявили в дни обороны медицинские работники флота и города. За 8 месяцев обороны они спасли жизни десяткам тысяч людей, возвратили в строй 30927 раненых и 10686 больных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Picture 4" descr="В разрушенном Севастополе 1944 год. Фото Е. Халдея"/>
          <p:cNvPicPr/>
          <p:nvPr/>
        </p:nvPicPr>
        <p:blipFill>
          <a:blip r:embed="rId1"/>
          <a:stretch/>
        </p:blipFill>
        <p:spPr>
          <a:xfrm>
            <a:off x="4284720" y="981000"/>
            <a:ext cx="4390920" cy="43196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5"/>
          <p:cNvSpPr/>
          <p:nvPr/>
        </p:nvSpPr>
        <p:spPr>
          <a:xfrm>
            <a:off x="4852800" y="5515920"/>
            <a:ext cx="30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рушенном Севастополе 1944 г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31:35Z</dcterms:created>
  <dc:creator>Ник</dc:creator>
  <dc:description/>
  <dc:language>en-US</dc:language>
  <cp:lastModifiedBy>Ник</cp:lastModifiedBy>
  <dcterms:modified xsi:type="dcterms:W3CDTF">2010-03-23T10:39:56Z</dcterms:modified>
  <cp:revision>8</cp:revision>
  <dc:subject/>
  <dc:title>Город-герой Севастополь</dc:title>
</cp:coreProperties>
</file>