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1.png" ContentType="image/png"/>
  <Override PartName="/ppt/media/image42.png" ContentType="image/pn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8.png" ContentType="image/png"/>
  <Override PartName="/ppt/media/image13.png" ContentType="image/png"/>
  <Override PartName="/ppt/media/image49.jpeg" ContentType="image/jpeg"/>
  <Override PartName="/ppt/media/image51.png" ContentType="image/png"/>
  <Override PartName="/ppt/media/image33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130-E2D7-4EF5-9D4F-7810250B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858-C5AC-4B11-80D2-6AC93354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111-3D3F-4C53-9838-D54A86D0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5B1-0206-49F1-A0F8-1C1EEFAF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204-8395-4FAF-AB5E-AE49CEC5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8FB8-0666-4CBD-B0ED-22F45224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A7A-7A05-433A-9B17-A37ACCFC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36BD-21FA-4433-9E36-AEE07D36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6D16-46E4-4CA9-8F0B-F62BCD04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4BF2-EC17-41A6-9A04-ED5AE1EA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C3A0-B80F-46AE-9F92-5D53ED0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BC6-3D6A-4D00-AF3B-0238466F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6D2B-EA8C-432B-AD86-D1F69E08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BC78-1A04-495B-B1FB-5E9AB744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754B-9B6F-4A13-A026-7AF97D12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1DF7-5ED5-4F3D-A112-79C4781E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B11-AF75-4F79-BD14-619ED9C7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29D-4A5E-46B9-899B-3B8471DC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B38-3B27-4B00-9C15-5053DB67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73C-398B-4346-83CA-61AF8906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5B4-ECAE-4F0F-B9AA-D2838ACE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FF6-4CAF-4E35-9EFF-E6BB2BD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B59-A0FF-4B29-A5C4-F3AD0E7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933-D6AB-4A1E-8362-A8DF04D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41E-ECDE-45BC-9D71-10DAA16AF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9FE9-4C10-4301-8419-E80725E6FB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ntimite.ru/images/2013-50/21756940-1007087198.jpg" TargetMode="External"/><Relationship Id="rId2" Type="http://schemas.openxmlformats.org/officeDocument/2006/relationships/hyperlink" Target="http://www.koreanrandom.com/forum/uploads/monthly_11_2013/post-12601-0-48087200-1383957371.jpg" TargetMode="External"/><Relationship Id="rId3" Type="http://schemas.openxmlformats.org/officeDocument/2006/relationships/hyperlink" Target="http://www.koreanrandom.com/forum/uploads/monthly_11_2013/post-12601-0-48087200-1383957371.jpg" TargetMode="External"/><Relationship Id="rId4" Type="http://schemas.openxmlformats.org/officeDocument/2006/relationships/hyperlink" Target="http://www.newzzz.kz/images/img_184.jpg" TargetMode="External"/><Relationship Id="rId5" Type="http://schemas.openxmlformats.org/officeDocument/2006/relationships/hyperlink" Target="http://www.toyz.ru/pics/4/3/2/6/8/7/i/000300965_000305918_sizus600.jpg" TargetMode="External"/><Relationship Id="rId6" Type="http://schemas.openxmlformats.org/officeDocument/2006/relationships/hyperlink" Target="http://i.uralweb.ru/albums/fotos/f/06f/06feb264881b58868b5ac6f1742f5a0a.jpg" TargetMode="External"/><Relationship Id="rId7" Type="http://schemas.openxmlformats.org/officeDocument/2006/relationships/hyperlink" Target="http://www.bodieko.si/wp-content/uploads/2009/11/sveza-rdeca-pesa.jpg" TargetMode="External"/><Relationship Id="rId8" Type="http://schemas.openxmlformats.org/officeDocument/2006/relationships/hyperlink" Target="http://img1.liveinternet.ru/images/attach/c/2/65/868/65868491_0_c9fb_ed3c67ad_XL.jpg" TargetMode="External"/><Relationship Id="rId9" Type="http://schemas.openxmlformats.org/officeDocument/2006/relationships/hyperlink" Target="http://img1.liveinternet.ru/images/attach/c/2/65/868/65868491_0_c9fb_ed3c67ad_XL.jpg" TargetMode="External"/><Relationship Id="rId10" Type="http://schemas.openxmlformats.org/officeDocument/2006/relationships/hyperlink" Target="http://diet-log.ru/wp-content/uploads/2012/08/dinnaya_dieta.jpg" TargetMode="External"/><Relationship Id="rId11" Type="http://schemas.openxmlformats.org/officeDocument/2006/relationships/hyperlink" Target="http://nevseoboi.com.ua/uploads/posts/2010-11/1291140393_fresh_strawberries_-0001-9.jpg" TargetMode="External"/><Relationship Id="rId12" Type="http://schemas.openxmlformats.org/officeDocument/2006/relationships/hyperlink" Target="http://nevseoboi.com.ua/uploads/posts/2010-11/1291140393_fresh_strawberries_-0001-9.jpg" TargetMode="External"/><Relationship Id="rId13" Type="http://schemas.openxmlformats.org/officeDocument/2006/relationships/hyperlink" Target="http://festival.1september.ru/articles/573646/Image6799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g.skimaster.ru/velo_2008/rukzak/8120_050_PARK_BK_SHP.jpg" TargetMode="External"/><Relationship Id="rId2" Type="http://schemas.openxmlformats.org/officeDocument/2006/relationships/hyperlink" Target="http://hotel.magomir.ru/files/img/market/wares/2042.png" TargetMode="External"/><Relationship Id="rId3" Type="http://schemas.openxmlformats.org/officeDocument/2006/relationships/hyperlink" Target="http://child-hood.ru/images/stories/1content/toys-for-children.jpeg" TargetMode="External"/><Relationship Id="rId4" Type="http://schemas.openxmlformats.org/officeDocument/2006/relationships/hyperlink" Target="http://cdn-frm-eu.wargaming.net/wot/ru/profile/photo-5353629.gif?_r=1357655240" TargetMode="External"/><Relationship Id="rId5" Type="http://schemas.openxmlformats.org/officeDocument/2006/relationships/hyperlink" Target="http://rodrus.com/news/i/full1314876710.jpg" TargetMode="External"/><Relationship Id="rId6" Type="http://schemas.openxmlformats.org/officeDocument/2006/relationships/hyperlink" Target="http://img0.liveinternet.ru/images/attach/c/5/87/872/87872610_211338997.png" TargetMode="External"/><Relationship Id="rId7" Type="http://schemas.openxmlformats.org/officeDocument/2006/relationships/hyperlink" Target="http://rpp.nashaucheba.ru/pars_docs/refs/158/157685/img22.jpg" TargetMode="External"/><Relationship Id="rId8" Type="http://schemas.openxmlformats.org/officeDocument/2006/relationships/hyperlink" Target="http://proxy10.media.online.ua/uol/r3-ac26a5eaec/519abc9e46e8d.jpg" TargetMode="External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&amp;SHcy;&amp;kcy;&amp;ocy;&amp;lcy;&amp;softcy;&amp;ncy;&amp;acy;&amp;yacy; &amp;dcy;&amp;ocy;&amp;scy;&amp;kcy;&amp;acy; - &amp;Ocy;&amp;lcy;&amp;softcy;&amp;gcy;&amp;acy; &amp;Vcy;&amp;acy;&amp;scy;&amp;icy;&amp;lcy;&amp;softcy;&amp;iecy;&amp;vcy;&amp;ncy;&amp;acy; &amp;Scy;&amp;mcy;&amp;icy;&amp;rcy;&amp;ncy;&amp;ocy;&amp;vcy;&amp;acy;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189800" y="1125360"/>
            <a:ext cx="66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рок русского язы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 3 классе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 Слово и словосочетание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МК «Школа Росс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971640" y="3645000"/>
            <a:ext cx="632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втор : Канивченко Надежда Васильев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читель начальных клас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БОУ СОШ №7 г. Кондопог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спублики Карелия.                                                                                                                      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84360" y="260280"/>
            <a:ext cx="7632720" cy="1944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Constantia"/>
              </a:rPr>
              <a:t>ОРФОГРАФИЧЕСКАЯ МИНУТКА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родолжите правило: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79280" y="2421000"/>
            <a:ext cx="8713800" cy="30956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четания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А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ЩА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ишем только с буквой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7451640" y="3500280"/>
            <a:ext cx="1152720" cy="1872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0819-195228.wav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3249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79280" y="1484280"/>
            <a:ext cx="8713800" cy="2951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четания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У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ЩУ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ишем только с буквой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524720" y="2133720"/>
            <a:ext cx="1152720" cy="18716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0819-195416.wav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187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96472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alibri"/>
              </a:rPr>
              <a:t>Работа со словом из словар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&amp;Scy;&amp;iecy;&amp;rcy;&amp;iecy;&amp;bcy;&amp;rcy;&amp;yacy;&amp;ncy;&amp;ycy;&amp;jcy; &amp;rcy;&amp;ocy;&amp;dcy;&amp;ncy;&amp;icy;&amp;chcy;&amp;ocy;&amp;kcy;. &amp;Scy;&amp;tcy;&amp;rcy;&amp;acy;&amp;ncy;&amp;icy;&amp;chcy;&amp;kcy;&amp;acy; &amp;mcy;&amp;iecy;&amp;tcy;&amp;ocy;&amp;dcy;&amp;icy;&amp;scy;&amp;tcy;&amp;acy;"/>
          <p:cNvPicPr/>
          <p:nvPr/>
        </p:nvPicPr>
        <p:blipFill>
          <a:blip r:embed="rId1"/>
          <a:stretch/>
        </p:blipFill>
        <p:spPr>
          <a:xfrm>
            <a:off x="5724360" y="2852640"/>
            <a:ext cx="2087640" cy="281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&amp;Ucy;&amp;chcy;&amp;icy;&amp;tcy;&amp;iecy;&amp;lcy;&amp;softcy; (&amp;vcy;&amp;iecy;&amp;kcy;&amp;tcy;&amp;ocy;&amp;rcy;&amp;ncy;&amp;ycy;&amp;jcy; &amp;kcy;&amp;lcy;&amp;icy;&amp;pcy;&amp;acy;&amp;rcy;&amp;tcy;)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2"/>
          <a:stretch/>
        </p:blipFill>
        <p:spPr>
          <a:xfrm>
            <a:off x="324000" y="1916280"/>
            <a:ext cx="3978000" cy="41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468360" y="476280"/>
            <a:ext cx="590400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ыльев нет у этой птиц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 нельзя не подивитьс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шь распустит птица хвост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поднимется до зве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&amp;Vcy;&amp;scy;&amp;iecy; &amp;ZHcy;&amp;iecy;&amp;ncy;&amp;scy;&amp;kcy;&amp;icy;&amp;jcy; &amp;scy;&amp;acy;&amp;jcy;&amp;tcy; &amp;Zcy;&amp;acy;&amp;pcy;&amp;ocy;&amp;rcy;&amp;ocy;&amp;zhcy;&amp;softcy;&amp;yacy; WOMAN"/>
          <p:cNvPicPr/>
          <p:nvPr/>
        </p:nvPicPr>
        <p:blipFill>
          <a:blip r:embed="rId1"/>
          <a:stretch/>
        </p:blipFill>
        <p:spPr>
          <a:xfrm>
            <a:off x="5759280" y="2637000"/>
            <a:ext cx="3384720" cy="3377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5"/>
          <p:cNvSpPr/>
          <p:nvPr/>
        </p:nvSpPr>
        <p:spPr>
          <a:xfrm>
            <a:off x="539640" y="3068640"/>
            <a:ext cx="51228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66"/>
                </a:solidFill>
                <a:latin typeface="Calibri"/>
              </a:rPr>
              <a:t>р</a:t>
            </a:r>
            <a:r>
              <a:rPr b="1" i="1" lang="ru-RU" sz="7200" spc="-1" strike="noStrike">
                <a:solidFill>
                  <a:srgbClr val="66ff66"/>
                </a:solidFill>
                <a:latin typeface="Calibri"/>
              </a:rPr>
              <a:t>а</a:t>
            </a:r>
            <a:r>
              <a:rPr b="1" i="1" lang="ru-RU" sz="7200" spc="-1" strike="noStrike">
                <a:solidFill>
                  <a:srgbClr val="000066"/>
                </a:solidFill>
                <a:latin typeface="Calibri"/>
              </a:rPr>
              <a:t>ке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инус 3"/>
          <p:cNvSpPr/>
          <p:nvPr/>
        </p:nvSpPr>
        <p:spPr>
          <a:xfrm rot="18450000">
            <a:off x="2987640" y="2780640"/>
            <a:ext cx="1152360" cy="432000"/>
          </a:xfrm>
          <a:prstGeom prst="pi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0927- 93128.wav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3499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Calibri"/>
              </a:rPr>
              <a:t>1. Летательный аппарат с реактивным двига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Calibri"/>
              </a:rPr>
              <a:t>2. Применяемый для фейерверков и сигнализации снаряд, состоящий из гильзы, начиненной пороховым составом, который после выстрела ярко светится при полете в воздух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Calibri"/>
              </a:rPr>
              <a:t>3. Боевой реактивный снаря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Calibri"/>
              </a:rPr>
              <a:t>4. Небольшое пассажирское быстроходн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Calibri"/>
              </a:rPr>
              <a:t>судно на подводных крыль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http://demiart.ru/forum/uploads4/post-927097-1258202339.jpg"/>
          <p:cNvPicPr/>
          <p:nvPr/>
        </p:nvPicPr>
        <p:blipFill>
          <a:blip r:embed="rId1"/>
          <a:stretch/>
        </p:blipFill>
        <p:spPr>
          <a:xfrm>
            <a:off x="7093080" y="260280"/>
            <a:ext cx="1706400" cy="17067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547640" y="189000"/>
            <a:ext cx="512316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66"/>
                </a:solidFill>
                <a:latin typeface="Calibri"/>
              </a:rPr>
              <a:t>р</a:t>
            </a:r>
            <a:r>
              <a:rPr b="1" i="1" lang="ru-RU" sz="7200" spc="-1" strike="noStrike">
                <a:solidFill>
                  <a:srgbClr val="66ff66"/>
                </a:solidFill>
                <a:latin typeface="Calibri"/>
              </a:rPr>
              <a:t>а</a:t>
            </a:r>
            <a:r>
              <a:rPr b="1" i="1" lang="ru-RU" sz="7200" spc="-1" strike="noStrike">
                <a:solidFill>
                  <a:srgbClr val="000066"/>
                </a:solidFill>
                <a:latin typeface="Calibri"/>
              </a:rPr>
              <a:t>ке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512316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Calibri"/>
              </a:rPr>
              <a:t>Повторе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plat"/>
          <p:cNvPicPr/>
          <p:nvPr/>
        </p:nvPicPr>
        <p:blipFill>
          <a:blip r:embed="rId1"/>
          <a:stretch/>
        </p:blipFill>
        <p:spPr>
          <a:xfrm>
            <a:off x="1547640" y="2492280"/>
            <a:ext cx="6115320" cy="36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881640" y="1773360"/>
            <a:ext cx="74455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смическая ракета неслась вс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льше от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539640" y="476280"/>
            <a:ext cx="7704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 грамматическую основу. Выпишите пары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&amp;Dcy;&amp;iecy;&amp;tcy;&amp;yacy;&amp;mcy; &amp;ocy; &amp;kcy;&amp;ocy;&amp;scy;&amp;mcy;&amp;ocy;&amp;ncy;&amp;acy;&amp;vcy;&amp;tcy;&amp;acy;&amp;khcy; &amp;icy; &amp;kcy;&amp;ocy;&amp;scy;&amp;mcy;&amp;ocy;&amp;scy;&amp;iecy;"/>
          <p:cNvPicPr/>
          <p:nvPr/>
        </p:nvPicPr>
        <p:blipFill>
          <a:blip r:embed="rId1"/>
          <a:stretch/>
        </p:blipFill>
        <p:spPr>
          <a:xfrm>
            <a:off x="3040200" y="3213000"/>
            <a:ext cx="2733480" cy="3645000"/>
          </a:xfrm>
          <a:prstGeom prst="rect">
            <a:avLst/>
          </a:prstGeom>
          <a:ln w="0">
            <a:noFill/>
          </a:ln>
        </p:spPr>
      </p:pic>
      <p:pic>
        <p:nvPicPr>
          <p:cNvPr id="148" name="rec0927- 93919.wav" descr=""/>
          <p:cNvPicPr/>
          <p:nvPr/>
        </p:nvPicPr>
        <p:blipFill>
          <a:blip r:embed="rId2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5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гда мы употребляем слово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де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а когда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де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47280" y="2997000"/>
            <a:ext cx="554364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деть  и наде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546480" y="476280"/>
            <a:ext cx="4231440" cy="600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деть  и на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а этих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часто пу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бестолко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озный выдался рас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елся в шубу старый д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ходит так, что дед о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шуба , стало быть, над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еть, наде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вай гля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го одеть и что над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полагаю, что на д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 шубы может быть наде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я не думаю, что д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шубу может быть на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&amp;Dcy;&amp;iecy;&amp;dcy; &amp;mcy;&amp;ocy;&amp;rcy;&amp;ocy;&amp;zcy; &amp;vcy; &amp;bcy;&amp;iecy;&amp;lcy;&amp;ocy;&amp;jcy; &amp;shcy;&amp;ucy;&amp;bcy;&amp;iecy; &amp;scy; &amp;mcy;&amp;iecy;&amp;shcy;&amp;kcy;&amp;ocy;&amp;mcy;"/>
          <p:cNvPicPr/>
          <p:nvPr/>
        </p:nvPicPr>
        <p:blipFill>
          <a:blip r:embed="rId1"/>
          <a:stretch/>
        </p:blipFill>
        <p:spPr>
          <a:xfrm>
            <a:off x="5156280" y="907920"/>
            <a:ext cx="3987720" cy="3988080"/>
          </a:xfrm>
          <a:prstGeom prst="rect">
            <a:avLst/>
          </a:prstGeom>
          <a:ln w="0">
            <a:noFill/>
          </a:ln>
        </p:spPr>
      </p:pic>
      <p:pic>
        <p:nvPicPr>
          <p:cNvPr id="153" name="rec0927- 94229.wav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237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387360" y="549360"/>
            <a:ext cx="3483360" cy="496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Д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(ЧТО-НИБУД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уф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ап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4989960" y="549360"/>
            <a:ext cx="3789720" cy="496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Д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(КОГО-НИБУД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во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к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абуш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душ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zadaniya-na-mislenniy-eksperiment-po-himii"/>
          <p:cNvPicPr/>
          <p:nvPr/>
        </p:nvPicPr>
        <p:blipFill>
          <a:blip r:embed="rId1"/>
          <a:stretch/>
        </p:blipFill>
        <p:spPr>
          <a:xfrm>
            <a:off x="3635280" y="5037120"/>
            <a:ext cx="1489320" cy="18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38894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Мы – умные! Мы – смелые!</a:t>
            </a:r>
            <a:br>
              <a:rPr sz="4800"/>
            </a:b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Мы – старательные!</a:t>
            </a:r>
            <a:br>
              <a:rPr sz="4800"/>
            </a:b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Мы – внимательные!</a:t>
            </a:r>
            <a:br>
              <a:rPr sz="4800"/>
            </a:b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Мы в третьем классе учимся,</a:t>
            </a:r>
            <a:br>
              <a:rPr sz="4800"/>
            </a:b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Всё у нас получится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4508640"/>
            <a:ext cx="2124000" cy="234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:\моя\1.jpg"/>
          <p:cNvPicPr/>
          <p:nvPr/>
        </p:nvPicPr>
        <p:blipFill>
          <a:blip r:embed="rId1"/>
          <a:stretch/>
        </p:blipFill>
        <p:spPr>
          <a:xfrm>
            <a:off x="1835280" y="1916280"/>
            <a:ext cx="4248000" cy="442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8" name="Rectangle 5"/>
          <p:cNvSpPr/>
          <p:nvPr/>
        </p:nvSpPr>
        <p:spPr>
          <a:xfrm>
            <a:off x="1258920" y="260280"/>
            <a:ext cx="5986440" cy="12826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Calibri"/>
              </a:rPr>
              <a:t>Смотрим дис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D:\3 класс\русский язык\скриншон\6.png"/>
          <p:cNvPicPr/>
          <p:nvPr/>
        </p:nvPicPr>
        <p:blipFill>
          <a:blip r:embed="rId1"/>
          <a:stretch/>
        </p:blipFill>
        <p:spPr>
          <a:xfrm>
            <a:off x="611280" y="333360"/>
            <a:ext cx="7788240" cy="607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:\3 класс\русский язык\скриншон\7.png"/>
          <p:cNvPicPr/>
          <p:nvPr/>
        </p:nvPicPr>
        <p:blipFill>
          <a:blip r:embed="rId1"/>
          <a:stretch/>
        </p:blipFill>
        <p:spPr>
          <a:xfrm>
            <a:off x="844560" y="549360"/>
            <a:ext cx="7678800" cy="59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Calibri"/>
              </a:rPr>
              <a:t>Закрепление изученног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55329359_26232551"/>
          <p:cNvPicPr/>
          <p:nvPr/>
        </p:nvPicPr>
        <p:blipFill>
          <a:blip r:embed="rId1"/>
          <a:stretch/>
        </p:blipFill>
        <p:spPr>
          <a:xfrm>
            <a:off x="3419640" y="2205000"/>
            <a:ext cx="213336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539640" y="333360"/>
            <a:ext cx="8280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словосоч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&amp;Bcy;&amp;lcy;&amp;icy;&amp;ncy;&amp;chcy;&amp;icy;&amp;kcy;&amp;icy; &amp;scy; &amp;mcy;&amp;ocy;&amp;tcy;&amp;ocy;&amp;rcy;&amp;ncy;&amp;ycy;&amp;mcy; &amp;mcy;&amp;acy;&amp;scy;&amp;lcy;&amp;ocy;&amp;mcy; - &amp;acy;&amp;pcy;&amp;pcy;&amp;iecy;&amp;tcy;&amp;icy;&amp;tcy;&amp;ncy;&amp;ycy;&amp;iecy; &amp;bcy;&amp;lcy;&amp;yucy;&amp;dcy;&amp;acy; &amp;scy; &amp;ocy;&amp;bcy;&amp;lcy;&amp;ocy;&amp;zhcy;&amp;kcy;&amp;icy; &amp;Bcy;&amp;iecy;&amp;lcy;&amp;ocy;&amp;rcy;&amp;ucy;&amp;scy;&amp;scy;&amp;kcy;&amp;icy;&amp;jcy; &amp;zhcy;&amp;iecy;&amp;ncy;&amp;scy;&amp;kcy;&amp;icy;&amp;jcy; &amp;pcy;&amp;ocy;&amp;rcy;&amp;tcy;&amp;acy;&amp;lcy; VELVET.by"/>
          <p:cNvPicPr/>
          <p:nvPr/>
        </p:nvPicPr>
        <p:blipFill>
          <a:blip r:embed="rId1"/>
          <a:stretch/>
        </p:blipFill>
        <p:spPr>
          <a:xfrm>
            <a:off x="6186600" y="3357720"/>
            <a:ext cx="2957400" cy="199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&amp;Bcy;&amp;iecy;&amp;scy;&amp;pcy;&amp;lcy;&amp;acy;&amp;tcy;&amp;ncy;&amp;ycy;&amp;iecy; &amp;fcy;&amp;ocy;&amp;tcy;&amp;ocy; (&amp;Scy;&amp;tcy;&amp;rcy;&amp;acy;&amp;ncy;&amp;icy;&amp;tscy;&amp;acy; 1) - MyStockPhoto.com"/>
          <p:cNvPicPr/>
          <p:nvPr/>
        </p:nvPicPr>
        <p:blipFill>
          <a:blip r:embed="rId2"/>
          <a:stretch/>
        </p:blipFill>
        <p:spPr>
          <a:xfrm>
            <a:off x="179280" y="765000"/>
            <a:ext cx="2737080" cy="2384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&amp;Ocy;&amp;Tcy; &amp;Vcy;&amp;Scy;&amp;IEcy;&amp;KHcy; &amp;Bcy;&amp;Ocy;&amp;Lcy;&amp;IEcy;&amp;Zcy;&amp;Ncy;&amp;IEcy;&amp;Jcy; &amp;Ncy;&amp;Acy;&amp;Mcy; &amp;Pcy;&amp;Ocy;&amp;Lcy;&amp;IEcy;&amp;Zcy;&amp;Ncy;&amp;IEcy;&amp;Jcy;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2771640" y="765000"/>
            <a:ext cx="3327480" cy="1870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&amp;Icy;&amp;yucy;&amp;ncy;&amp;softcy;&amp;scy;&amp;kcy;&amp;icy;&amp;jcy; &amp;ocy;&amp;gcy;&amp;ucy;&amp;rcy;&amp;iecy;&amp;tscy; - &amp;kcy;&amp;ocy;&amp;rcy;&amp;ocy;&amp;lcy;&amp;softcy; &amp;lcy;&amp;iecy;&amp;tcy;&amp;acy;"/>
          <p:cNvPicPr/>
          <p:nvPr/>
        </p:nvPicPr>
        <p:blipFill>
          <a:blip r:embed="rId4"/>
          <a:stretch/>
        </p:blipFill>
        <p:spPr>
          <a:xfrm>
            <a:off x="6087960" y="836640"/>
            <a:ext cx="3056040" cy="187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&amp;Gcy;&amp;dcy;&amp;iecy; &amp;kcy;&amp;ucy;&amp;pcy;&amp;icy;&amp;tcy;&amp;softcy; &amp;yacy;&amp;gcy;&amp;ocy;&amp;dcy;&amp;ycy; &amp;gcy;&amp;ocy;&amp;dcy;&amp;zhcy;&amp;icy; &amp;vcy; &amp;ncy;&amp;acy;&amp;bcy;&amp;iecy;&amp;rcy;&amp;iecy;&amp;zhcy;&amp;ncy;&amp;ycy;&amp;khcy; &amp;chcy;&amp;iecy;&amp;lcy;&amp;ncy;&amp;acy;&amp;khcy; - &amp;vcy;&amp;scy;&amp;iecy; &amp;fcy;&amp;icy;&amp;lcy;&amp;softcy;&amp;mcy;&amp;ycy; &amp;ucy; &amp;ncy;&amp;acy;&amp;scy;"/>
          <p:cNvPicPr/>
          <p:nvPr/>
        </p:nvPicPr>
        <p:blipFill>
          <a:blip r:embed="rId5"/>
          <a:stretch/>
        </p:blipFill>
        <p:spPr>
          <a:xfrm>
            <a:off x="0" y="3284640"/>
            <a:ext cx="3354480" cy="2414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Fresh Strawberries HQ Wallpapers (50 &amp;ocy;&amp;bcy;&amp;ocy;&amp;iecy;&amp;vcy;) &quot; &amp;Kcy;&amp;rcy;&amp;acy;&amp;scy;&amp;icy;&amp;vcy;&amp;ycy;&amp;iecy; &amp;kcy;&amp;acy;&amp;rcy;&amp;tcy;&amp;icy;&amp;ncy;&amp;kcy;&amp;icy;, &amp;Ocy;&amp;bcy;&amp;ocy;&amp;icy; &amp;dcy;&amp;lcy;&amp;yacy; &amp;rcy;&amp;acy;&amp;bcy;&amp;ocy;&amp;chcy;&amp;iecy;&amp;gcy;&amp;ocy; &amp;scy;&amp;tcy;&amp;ocy;&amp;lcy;&amp;acy;, &amp;Kcy;&amp;acy;&amp;rcy;&amp;tcy;&amp;icy;&amp;ncy;&amp;kcy;&amp;icy; &amp;ncy;&amp;acy; &amp;rcy;&amp;acy;&amp;bcy;&amp;ocy;&amp;chcy;&amp;icy;&amp;jcy; &amp;scy;&amp;tcy;&amp;ocy;&amp;lcy;, &amp;Kcy;&amp;rcy;&amp;acy;&amp;scy;&amp;icy;&amp;vcy;&amp;ycy;&amp;iecy; &amp;fcy;&amp;ocy;&amp;tcy;"/>
          <p:cNvPicPr/>
          <p:nvPr/>
        </p:nvPicPr>
        <p:blipFill>
          <a:blip r:embed="rId6"/>
          <a:stretch/>
        </p:blipFill>
        <p:spPr>
          <a:xfrm>
            <a:off x="2987640" y="3357720"/>
            <a:ext cx="3168720" cy="19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920" y="1844280"/>
            <a:ext cx="6562800" cy="1143000"/>
          </a:xfrm>
          <a:prstGeom prst="rect">
            <a:avLst/>
          </a:prstGeom>
          <a:solidFill>
            <a:srgbClr val="ffff99"/>
          </a:solidFill>
          <a:ln w="13320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ФИЗКУЛЬТМИНУТКА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386000"/>
            <a:ext cx="8353440" cy="5472000"/>
          </a:xfrm>
          <a:prstGeom prst="rect">
            <a:avLst/>
          </a:prstGeom>
          <a:solidFill>
            <a:srgbClr val="ffff99"/>
          </a:solidFill>
          <a:ln w="13320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качайтесь, покружитесь,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тянитесь, распрямитесь,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риседайте, приседайте,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шагайте, пошагайте.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станьте на носок, на пятку,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скачите-ка вприсядку,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Глубоко теперь вздохните,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Сядьте тихо, отдохните.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сё в порядок приведите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 писать, друзья, начнит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986760" y="310932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258920" y="254880"/>
            <a:ext cx="6489720" cy="825120"/>
          </a:xfrm>
          <a:prstGeom prst="rect">
            <a:avLst/>
          </a:prstGeom>
          <a:solidFill>
            <a:srgbClr val="ffff99"/>
          </a:solidFill>
          <a:ln w="133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ФИЗКУЛЬТМИНУТКА.</a:t>
            </a:r>
            <a:r>
              <a:rPr b="1" i="1" lang="ru-RU" sz="4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1219320" cy="1251000"/>
          </a:xfrm>
          <a:prstGeom prst="rect">
            <a:avLst/>
          </a:prstGeom>
          <a:ln w="0">
            <a:noFill/>
          </a:ln>
        </p:spPr>
      </p:pic>
      <p:pic>
        <p:nvPicPr>
          <p:cNvPr id="175" name="rec0819-194832.wav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39872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633240" y="260280"/>
            <a:ext cx="7345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ита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 и запишит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восочетания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в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про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зависимому сл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324000" y="1844640"/>
            <a:ext cx="8569080" cy="21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ойти к киоску, спросить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ителя, стоять у дороги, отдать кошк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850680" y="4292640"/>
            <a:ext cx="7643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разец: подойти (к чему?) к киос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school0301"/>
          <p:cNvPicPr/>
          <p:nvPr/>
        </p:nvPicPr>
        <p:blipFill>
          <a:blip r:embed="rId1"/>
          <a:stretch/>
        </p:blipFill>
        <p:spPr>
          <a:xfrm>
            <a:off x="0" y="5205240"/>
            <a:ext cx="1677960" cy="165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539640" y="404640"/>
            <a:ext cx="8353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шите, вставляя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79280" y="1557360"/>
            <a:ext cx="885672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 меня на ст…ле  ст…ит глобу…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обу… ст…ит на чёрной но…к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н похо.. на б…льшую гол…в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нём реки, горы и м…р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0_9ff3e_a803ee8a_L"/>
          <p:cNvPicPr/>
          <p:nvPr/>
        </p:nvPicPr>
        <p:blipFill>
          <a:blip r:embed="rId1"/>
          <a:stretch/>
        </p:blipFill>
        <p:spPr>
          <a:xfrm>
            <a:off x="3203640" y="4149720"/>
            <a:ext cx="2457360" cy="24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549360"/>
            <a:ext cx="8867880" cy="9936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alibri"/>
              </a:rPr>
              <a:t>Занимательный русский язы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1"/>
          <p:cNvPicPr/>
          <p:nvPr/>
        </p:nvPicPr>
        <p:blipFill>
          <a:blip r:embed="rId1"/>
          <a:stretch/>
        </p:blipFill>
        <p:spPr>
          <a:xfrm>
            <a:off x="468360" y="2349360"/>
            <a:ext cx="4578480" cy="3381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130711-124116-3417"/>
          <p:cNvPicPr/>
          <p:nvPr/>
        </p:nvPicPr>
        <p:blipFill>
          <a:blip r:embed="rId2"/>
          <a:stretch/>
        </p:blipFill>
        <p:spPr>
          <a:xfrm>
            <a:off x="5219640" y="1773360"/>
            <a:ext cx="3695760" cy="390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&amp;SHcy;&amp;kcy;&amp;ocy;&amp;lcy;&amp;softcy;&amp;ncy;&amp;acy;&amp;yacy; &amp;dcy;&amp;ocy;&amp;scy;&amp;kcy;&amp;acy; - &amp;Ocy;&amp;lcy;&amp;softcy;&amp;gcy;&amp;acy; &amp;Vcy;&amp;acy;&amp;scy;&amp;icy;&amp;lcy;&amp;softcy;&amp;iecy;&amp;vcy;&amp;ncy;&amp;acy; &amp;Scy;&amp;mcy;&amp;icy;&amp;rcy;&amp;ncy;&amp;ocy;&amp;vcy;&amp;acy;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66355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alibri"/>
              </a:rPr>
              <a:t>Слово и </a:t>
            </a:r>
            <a:br>
              <a:rPr sz="4800"/>
            </a:br>
            <a:r>
              <a:rPr b="1" i="1" lang="ru-RU" sz="4800" spc="-1" strike="noStrike">
                <a:solidFill>
                  <a:srgbClr val="ffff00"/>
                </a:solidFill>
                <a:latin typeface="Calibri"/>
              </a:rPr>
              <a:t>словосочета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556000" y="1484280"/>
            <a:ext cx="41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Урок №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539640" y="0"/>
            <a:ext cx="7920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ты понимаешь данный фразеологический обор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7" descr="519abc9e46e8d"/>
          <p:cNvPicPr/>
          <p:nvPr/>
        </p:nvPicPr>
        <p:blipFill>
          <a:blip r:embed="rId1"/>
          <a:stretch/>
        </p:blipFill>
        <p:spPr>
          <a:xfrm>
            <a:off x="1042920" y="1146240"/>
            <a:ext cx="6842160" cy="5184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img22"/>
          <p:cNvPicPr/>
          <p:nvPr/>
        </p:nvPicPr>
        <p:blipFill>
          <a:blip r:embed="rId2"/>
          <a:stretch/>
        </p:blipFill>
        <p:spPr>
          <a:xfrm>
            <a:off x="539640" y="969840"/>
            <a:ext cx="7850160" cy="58881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9"/>
          <p:cNvSpPr/>
          <p:nvPr/>
        </p:nvSpPr>
        <p:spPr>
          <a:xfrm>
            <a:off x="2195640" y="476280"/>
            <a:ext cx="5267160" cy="8510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Calibri"/>
              </a:rPr>
              <a:t>Точить ляс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D:\клипарты\цифры буквы\alf238\22.png"/>
          <p:cNvPicPr/>
          <p:nvPr/>
        </p:nvPicPr>
        <p:blipFill>
          <a:blip r:embed="rId1"/>
          <a:stretch/>
        </p:blipFill>
        <p:spPr>
          <a:xfrm>
            <a:off x="1332000" y="2781360"/>
            <a:ext cx="2781360" cy="5763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0"/>
          <p:cNvSpPr/>
          <p:nvPr/>
        </p:nvSpPr>
        <p:spPr>
          <a:xfrm>
            <a:off x="5081400" y="33336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реб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photo-5353629"/>
          <p:cNvPicPr/>
          <p:nvPr/>
        </p:nvPicPr>
        <p:blipFill>
          <a:blip r:embed="rId2"/>
          <a:stretch/>
        </p:blipFill>
        <p:spPr>
          <a:xfrm>
            <a:off x="6659640" y="1125360"/>
            <a:ext cx="2351160" cy="3329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87872610_211338997"/>
          <p:cNvPicPr/>
          <p:nvPr/>
        </p:nvPicPr>
        <p:blipFill>
          <a:blip r:embed="rId3"/>
          <a:stretch/>
        </p:blipFill>
        <p:spPr>
          <a:xfrm>
            <a:off x="3924360" y="1341360"/>
            <a:ext cx="3033720" cy="303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26013_38760591"/>
          <p:cNvPicPr/>
          <p:nvPr/>
        </p:nvPicPr>
        <p:blipFill>
          <a:blip r:embed="rId4"/>
          <a:stretch/>
        </p:blipFill>
        <p:spPr>
          <a:xfrm>
            <a:off x="971640" y="2565360"/>
            <a:ext cx="2736720" cy="1733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full1314876710"/>
          <p:cNvPicPr/>
          <p:nvPr/>
        </p:nvPicPr>
        <p:blipFill>
          <a:blip r:embed="rId5"/>
          <a:stretch/>
        </p:blipFill>
        <p:spPr>
          <a:xfrm>
            <a:off x="971640" y="0"/>
            <a:ext cx="2625480" cy="3166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6c1b0a7a1806t"/>
          <p:cNvPicPr/>
          <p:nvPr/>
        </p:nvPicPr>
        <p:blipFill>
          <a:blip r:embed="rId6"/>
          <a:stretch/>
        </p:blipFill>
        <p:spPr>
          <a:xfrm>
            <a:off x="971640" y="364500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1"/>
          <p:cNvSpPr/>
          <p:nvPr/>
        </p:nvSpPr>
        <p:spPr>
          <a:xfrm>
            <a:off x="4067280" y="4941720"/>
            <a:ext cx="4906800" cy="13543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Calibri"/>
              </a:rPr>
              <a:t>подру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3735000" y="5589720"/>
            <a:ext cx="26863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 расс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0927-100206.wav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Image6799"/>
          <p:cNvPicPr/>
          <p:nvPr/>
        </p:nvPicPr>
        <p:blipFill>
          <a:blip r:embed="rId2"/>
          <a:stretch/>
        </p:blipFill>
        <p:spPr>
          <a:xfrm>
            <a:off x="-28440" y="0"/>
            <a:ext cx="917244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1403280" y="404640"/>
            <a:ext cx="630072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ьте словосоче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вы узнали сегодня нов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вою работу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2042"/>
          <p:cNvPicPr/>
          <p:nvPr/>
        </p:nvPicPr>
        <p:blipFill>
          <a:blip r:embed="rId1"/>
          <a:stretch/>
        </p:blipFill>
        <p:spPr>
          <a:xfrm>
            <a:off x="0" y="3716280"/>
            <a:ext cx="476244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toys-for-children"/>
          <p:cNvPicPr/>
          <p:nvPr/>
        </p:nvPicPr>
        <p:blipFill>
          <a:blip r:embed="rId2"/>
          <a:stretch/>
        </p:blipFill>
        <p:spPr>
          <a:xfrm>
            <a:off x="6324480" y="32130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8120_050_PARK_BK_SHP"/>
          <p:cNvPicPr/>
          <p:nvPr/>
        </p:nvPicPr>
        <p:blipFill>
          <a:blip r:embed="rId3"/>
          <a:stretch/>
        </p:blipFill>
        <p:spPr>
          <a:xfrm>
            <a:off x="3851280" y="2205000"/>
            <a:ext cx="2475000" cy="247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6923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Я сегодня доволен своей работо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52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Я сегодня на уроке не всё поня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761080" cy="3166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210" name="Rectangle 5"/>
          <p:cNvSpPr/>
          <p:nvPr/>
        </p:nvSpPr>
        <p:spPr>
          <a:xfrm>
            <a:off x="1624320" y="1051200"/>
            <a:ext cx="712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на уроке мне многое было непон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31640" y="404640"/>
            <a:ext cx="2675160" cy="12830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Calibri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5" descr="0_9ff3e_a803ee8a_L"/>
          <p:cNvPicPr/>
          <p:nvPr/>
        </p:nvPicPr>
        <p:blipFill>
          <a:blip r:embed="rId1"/>
          <a:stretch/>
        </p:blipFill>
        <p:spPr>
          <a:xfrm>
            <a:off x="2195640" y="162864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47920" y="333360"/>
            <a:ext cx="64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ntimite.ru/images/2013-50/21756940-100708719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46840" y="907920"/>
            <a:ext cx="74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koreanrandom.com/forum/uploads/monthly_11_2013/pos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12601-0-48087200-138395737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543960" y="1773360"/>
            <a:ext cx="47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newzzz.kz/images/img_18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19200" y="2276640"/>
            <a:ext cx="78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toyz.ru/pics/4/3/2/6/8/7/i/000300965_000305918_sizus6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548280" y="2852640"/>
            <a:ext cx="83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.uralweb.ru/albums/fotos/f/06f/06feb264881b58868b5ac6f1742f5a0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19200" y="3573360"/>
            <a:ext cx="77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bodieko.si/wp-content/uploads/2009/11/sveza-rdeca-pes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17760" y="4076640"/>
            <a:ext cx="69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img1.liveinternet.ru/images/attach/c/2/65/868/65868491_0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c9fb_ed3c67ad_X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547560" y="4797360"/>
            <a:ext cx="67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diet-log.ru/wp-content/uploads/2012/08/dinnaya_diet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478440" y="5229360"/>
            <a:ext cx="86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nevseoboi.com.ua/uploads/posts/2010-11/1291140393_fresh_strawberries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-0001-9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17040" y="602136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festival.1september.ru/articles/573646/Image6799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546840" y="476280"/>
            <a:ext cx="78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g.skimaster.ru/velo_2008/rukzak/8120_050_PARK_BK_SHP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689040" y="1197000"/>
            <a:ext cx="61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hotel.magomir.ru/files/img/market/wares/2042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46120" y="1844640"/>
            <a:ext cx="71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child-hood.ru/images/stories/1content/toys-for-children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32640" y="2565360"/>
            <a:ext cx="87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cdn-frm-eu.wargaming.net/wot/ru/profile/photo-5353629.gif?_r=135765524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1040" y="3213000"/>
            <a:ext cx="49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rodrus.com/news/i/full131487671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77360" y="3860640"/>
            <a:ext cx="84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mg0.liveinternet.ru/images/attach/c/5/87/872/87872610_211338997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834120" y="4653000"/>
            <a:ext cx="70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rpp.nashaucheba.ru/pars_docs/refs/158/157685/img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981720" y="5300640"/>
            <a:ext cx="75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proxy10.media.online.ua/uol/r3-ac26a5eaec/519abc9e46e8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980640" y="602136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http://img-fotki.yandex.ru/get/5820/25585874.168/0_9ff3e_a803ee8a_L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763920" y="549360"/>
            <a:ext cx="64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.http://blogwar.ru/ifls/small-image/130711-124116-3417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59240" y="1197000"/>
            <a:ext cx="41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http://ymsdc.ru/uploads/news/1.p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761760" y="191628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http://www.edu.cap.ru/home/6311/pic/school0301.p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64640" y="256536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.http://img-fotki.yandex.ru/get/5820/25585874.168/0_9ff3e_a803ee8a_L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759960" y="3284640"/>
            <a:ext cx="69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.http://www.cap.ru/home/65/obrazov/sajty/karach/Images/plat.g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762480" y="3933720"/>
            <a:ext cx="64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.http://cs11351.vkontakte.ru/u45194787/-5/x_7603785a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761760" y="4581360"/>
            <a:ext cx="77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.http://rs.ksu.edu.sa/wp-content/uploads/2013/03/Teacher_Vectors-1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24"/>
          <p:cNvSpPr/>
          <p:nvPr/>
        </p:nvSpPr>
        <p:spPr>
          <a:xfrm>
            <a:off x="908640" y="5300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 http://plotnikova.ucoz.ru/load/prezentacii/uchimsja_pisat_bukvy/5-1-0-2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419640" y="0"/>
            <a:ext cx="1925640" cy="2276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324000" y="2637000"/>
            <a:ext cx="8459640" cy="36576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ы сюда пришли учиться,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Не лениться, а трудиться.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Работаем старательно,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лушаем внима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0818-111125.wav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62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&amp;SHcy;&amp;acy;&amp;bcy;&amp;lcy;&amp;ocy;&amp;ncy;&amp;ycy; &amp;dcy;&amp;lcy;&amp;yacy; &amp;kcy;&amp;rcy;&amp;ucy;&amp;zhcy;&amp;iecy;&amp;kcy; / &amp;Scy;&amp;ucy;&amp;vcy;&amp;iecy;&amp;ncy;&amp;icy;&amp;rcy;&amp;Pcy;&amp;rcy;&amp;ocy;&amp;fcy;&amp;icy;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55548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Calibri"/>
              </a:rPr>
              <a:t>Чистописа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75640" cy="48830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Закипит - исходит паром,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И свистит, и пышет жаром,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рышкой брякает, стучит: - 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Эй! Сними меня! - кричи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9" descr="257914203_7"/>
          <p:cNvPicPr/>
          <p:nvPr/>
        </p:nvPicPr>
        <p:blipFill>
          <a:blip r:embed="rId1"/>
          <a:stretch/>
        </p:blipFill>
        <p:spPr>
          <a:xfrm>
            <a:off x="1403280" y="404640"/>
            <a:ext cx="5592960" cy="6453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2124000" y="4221000"/>
            <a:ext cx="4392720" cy="16574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ЧАЙ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0819-101313.wav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4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144A61F7"/>
          <p:cNvPicPr/>
          <p:nvPr/>
        </p:nvPicPr>
        <p:blipFill>
          <a:blip r:embed="rId1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105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karanda16"/>
          <p:cNvPicPr/>
          <p:nvPr/>
        </p:nvPicPr>
        <p:blipFill>
          <a:blip r:embed="rId2"/>
          <a:stretch/>
        </p:blipFill>
        <p:spPr>
          <a:xfrm rot="20391000">
            <a:off x="644364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3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34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Чистописание (ч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D:\презентации\Азбука здоровья 2\Картинки\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1960" y="6215040"/>
            <a:ext cx="932040" cy="64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0" y="1700280"/>
            <a:ext cx="9080640" cy="24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karanda16"/>
          <p:cNvPicPr/>
          <p:nvPr/>
        </p:nvPicPr>
        <p:blipFill>
          <a:blip r:embed="rId4"/>
          <a:stretch/>
        </p:blipFill>
        <p:spPr>
          <a:xfrm rot="20208600">
            <a:off x="651672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/>
          <p:cNvSpPr/>
          <p:nvPr/>
        </p:nvSpPr>
        <p:spPr>
          <a:xfrm>
            <a:off x="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0.02359 C -0.0125 0.02012 -0.02031 0.0185 -0.02795 0.01619 C -0.03073 0.01365 -0.03333 0.01064 -0.03645 0.00902 C -0.03784 0.00833 -0.03906 0.0081 -0.04062 0.00717 C -0.04791 0.00232 -0.05 -0.00323 -0.05885 -0.00693 C -0.06805 -0.01873 -0.05503 -0.00323 -0.06597 -0.01249 C -0.06753 -0.01387 -0.06857 -0.01642 -0.06996 -0.0178 C -0.07534 -0.02335 -0.08177 -0.02752 -0.08836 -0.03052 C -0.09531 -0.037 -0.10277 -0.04324 -0.11059 -0.04833 C -0.1177 -0.05434 -0.11041 -0.04463 -0.11927 -0.05365 C -0.12795 -0.06013 -0.13368 -0.06799 -0.14218 -0.07169 C -0.14635 -0.07724 -0.1493 -0.07909 -0.15451 -0.08256 C -0.16579 -0.08834 -0.17395 -0.09435 -0.18507 -0.09852 C -0.19114 -0.10522 -0.19965 -0.11216 -0.20954 -0.11471 C -0.21579 -0.12326 -0.20538 -0.11239 -0.21788 -0.12211 C -0.22187 -0.12396 -0.22239 -0.12743 -0.22673 -0.12904 C -0.22795 -0.13089 -0.2342 -0.13274 -0.2342 -0.13251 C -0.24149 -0.13968 -0.24843 -0.14176 -0.25868 -0.14708 C -0.27343 -0.15656 -0.26475 -0.15217 -0.27291 -0.1561 C -0.27777 -0.16235 -0.28923 -0.16998 -0.29548 -0.17229 C -0.29722 -0.17391 -0.30069 -0.17622 -0.30156 -0.17761 C -0.30364 -0.17923 -0.30954 -0.18108 -0.30954 -0.18085 C -0.31475 -0.1901 -0.321 -0.19357 -0.32916 -0.19727 C -0.33559 -0.20536 -0.33836 -0.20814 -0.346 -0.21161 C -0.35225 -0.21762 -0.35885 -0.2234 -0.36579 -0.2278 C -0.37343 -0.23774 -0.36614 -0.23034 -0.37864 -0.23496 C -0.38454 -0.23728 -0.38802 -0.2419 -0.39409 -0.24398 C -0.40312 -0.25532 -0.41423 -0.25948 -0.42639 -0.26387 C -0.42882 -0.26572 -0.43593 -0.27197 -0.43802 -0.27266 C -0.44184 -0.27428 -0.44652 -0.27382 -0.45034 -0.27428 C -0.45746 -0.27567 -0.46527 -0.27844 -0.4717 -0.27983 C -0.47777 -0.28746 -0.48698 -0.28538 -0.49392 -0.28885 C -0.50243 -0.29903 -0.50538 -0.30064 -0.5177 -0.30319 C -0.52656 -0.30735 -0.53402 -0.31521 -0.54461 -0.31753 C -0.55121 -0.32516 -0.55746 -0.32793 -0.56597 -0.33002 C -0.57951 -0.3388 -0.58333 -0.34042 -0.59965 -0.3425 C -0.6125 -0.34875 -0.62691 -0.35175 -0.64062 -0.35499 C -0.64652 -0.35661 -0.65052 -0.35939 -0.6559 -0.36239 C -0.66076 -0.36517 -0.66632 -0.3654 -0.67135 -0.36771 C -0.68003 -0.37812 -0.66805 -0.36471 -0.67847 -0.37303 C -0.68073 -0.37488 -0.68194 -0.37835 -0.6842 -0.3802 C -0.6868 -0.38274 -0.69253 -0.38737 -0.69253 -0.38714 C -0.69583 -0.40009 -0.69427 -0.39477 -0.69687 -0.40356 C -0.696 -0.4179 -0.69687 -0.42483 -0.69253 -0.4357 E">
                                      <p:cBhvr>
                                        <p:cTn id="40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254 -0.43571 C -0.69149 -0.4371 -0.6908 -0.43871 -0.68958 -0.43964 C -0.68837 -0.44056 -0.68629 -0.43987 -0.68542 -0.44149 C -0.68333 -0.44588 -0.68386 -0.45167 -0.68264 -0.45652 C -0.67934 -0.44288 -0.68264 -0.4438 -0.67274 -0.44704 C -0.67136 -0.4475 -0.66997 -0.4482 -0.66858 -0.44889 C -0.66754 -0.45005 -0.66458 -0.45375 -0.66563 -0.45259 C -0.66667 -0.45143 -0.66771 -0.45028 -0.66858 -0.44889 C -0.6717 -0.4438 -0.67222 -0.43871 -0.67552 -0.43386 C -0.67604 -0.43201 -0.67622 -0.42993 -0.67691 -0.42831 C -0.67761 -0.42669 -0.67917 -0.42623 -0.67986 -0.42461 C -0.68212 -0.41859 -0.68316 -0.41189 -0.68542 -0.40587 C -0.6849 -0.40032 -0.68629 -0.39385 -0.68403 -0.38899 C -0.68316 -0.38714 -0.67292 -0.3957 -0.67136 -0.39639 C -0.6684 -0.40241 -0.66597 -0.40564 -0.66146 -0.40957 C -0.66094 -0.41142 -0.66094 -0.41351 -0.66007 -0.41513 C -0.65556 -0.42438 -0.6559 -0.41767 -0.6559 -0.42276 E">
                                      <p:cBhvr>
                                        <p:cTn id="44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3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karanda16"/>
          <p:cNvPicPr/>
          <p:nvPr/>
        </p:nvPicPr>
        <p:blipFill>
          <a:blip r:embed="rId1"/>
          <a:stretch/>
        </p:blipFill>
        <p:spPr>
          <a:xfrm rot="20208600">
            <a:off x="644364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4"/>
          <a:stretch/>
        </p:blipFill>
        <p:spPr>
          <a:xfrm>
            <a:off x="0" y="1700280"/>
            <a:ext cx="9080640" cy="240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ОЛЕГ</cp:lastModifiedBy>
  <dcterms:modified xsi:type="dcterms:W3CDTF">2015-03-24T18:48:01Z</dcterms:modified>
  <cp:revision>68</cp:revision>
  <dc:subject/>
  <dc:title>Слайд 1</dc:title>
</cp:coreProperties>
</file>