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1.png" ContentType="image/png"/>
  <Override PartName="/ppt/media/image19.jpeg" ContentType="image/jpeg"/>
  <Override PartName="/ppt/media/image9.gif" ContentType="image/gif"/>
  <Override PartName="/ppt/media/image8.png" ContentType="image/png"/>
  <Override PartName="/ppt/media/image14.jpeg" ContentType="image/jpeg"/>
  <Override PartName="/ppt/media/image6.gif" ContentType="image/gif"/>
  <Override PartName="/ppt/media/image4.png" ContentType="image/png"/>
  <Override PartName="/ppt/media/image24.gif" ContentType="image/gif"/>
  <Override PartName="/ppt/media/image12.png" ContentType="image/png"/>
  <Override PartName="/ppt/media/image20.jpeg" ContentType="image/jpeg"/>
  <Override PartName="/ppt/media/image23.jpeg" ContentType="image/jpeg"/>
  <Override PartName="/ppt/media/image3.gif" ContentType="image/gif"/>
  <Override PartName="/ppt/media/image21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25.gif" ContentType="image/gif"/>
  <Override PartName="/ppt/media/image5.png" ContentType="image/png"/>
  <Override PartName="/ppt/media/image10.png" ContentType="image/png"/>
  <Override PartName="/ppt/media/image7.png" ContentType="image/png"/>
  <Override PartName="/ppt/media/image22.jpeg" ContentType="image/jpeg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09E4-B796-4975-8427-3EB8E828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87F4-2469-427A-9557-754E552A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AB1-CE1F-4986-9BBF-D95C4D55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32C6-E76C-4FEB-A8BB-01FF120A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994-AA8D-4927-9C54-D8EB4A7D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EFF-428C-4580-8A07-1C07DAB1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BACC-EDD7-4163-BFF3-C553C752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73F-2ACD-44C8-A028-B20FEB3E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27F8-2A9A-470B-B04E-922FA8E7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2D92-CBA0-462D-874E-CFBB7CB8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5E2-2FDB-421F-92B3-06876BA0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FF1A-3B68-4193-913A-B6D75045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7CE5-2078-4457-A3AE-8CDF44918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" Target="slide4.xml"/><Relationship Id="rId7" Type="http://schemas.openxmlformats.org/officeDocument/2006/relationships/image" Target="../media/image3.gif"/><Relationship Id="rId8" Type="http://schemas.openxmlformats.org/officeDocument/2006/relationships/image" Target="../media/image5.png"/><Relationship Id="rId9" Type="http://schemas.openxmlformats.org/officeDocument/2006/relationships/slide" Target="slide5.xml"/><Relationship Id="rId10" Type="http://schemas.openxmlformats.org/officeDocument/2006/relationships/image" Target="../media/image3.gif"/><Relationship Id="rId11" Type="http://schemas.openxmlformats.org/officeDocument/2006/relationships/image" Target="../media/image6.gif"/><Relationship Id="rId12" Type="http://schemas.openxmlformats.org/officeDocument/2006/relationships/slide" Target="slide6.xml"/><Relationship Id="rId13" Type="http://schemas.openxmlformats.org/officeDocument/2006/relationships/image" Target="../media/image3.gif"/><Relationship Id="rId14" Type="http://schemas.openxmlformats.org/officeDocument/2006/relationships/image" Target="../media/image7.png"/><Relationship Id="rId15" Type="http://schemas.openxmlformats.org/officeDocument/2006/relationships/slide" Target="slide7.xml"/><Relationship Id="rId16" Type="http://schemas.openxmlformats.org/officeDocument/2006/relationships/image" Target="../media/image3.gif"/><Relationship Id="rId17" Type="http://schemas.openxmlformats.org/officeDocument/2006/relationships/image" Target="../media/image8.png"/><Relationship Id="rId18" Type="http://schemas.openxmlformats.org/officeDocument/2006/relationships/slide" Target="slide8.xml"/><Relationship Id="rId19" Type="http://schemas.openxmlformats.org/officeDocument/2006/relationships/image" Target="../media/image3.gif"/><Relationship Id="rId20" Type="http://schemas.openxmlformats.org/officeDocument/2006/relationships/image" Target="../media/image9.gif"/><Relationship Id="rId21" Type="http://schemas.openxmlformats.org/officeDocument/2006/relationships/image" Target="../media/image3.gif"/><Relationship Id="rId22" Type="http://schemas.openxmlformats.org/officeDocument/2006/relationships/image" Target="../media/image10.png"/><Relationship Id="rId23" Type="http://schemas.openxmlformats.org/officeDocument/2006/relationships/image" Target="../media/image3.gif"/><Relationship Id="rId24" Type="http://schemas.openxmlformats.org/officeDocument/2006/relationships/image" Target="../media/image11.png"/><Relationship Id="rId25" Type="http://schemas.openxmlformats.org/officeDocument/2006/relationships/image" Target="../media/image3.gif"/><Relationship Id="rId26" Type="http://schemas.openxmlformats.org/officeDocument/2006/relationships/image" Target="../media/image12.png"/><Relationship Id="rId27" Type="http://schemas.openxmlformats.org/officeDocument/2006/relationships/image" Target="../media/image3.gif"/><Relationship Id="rId28" Type="http://schemas.openxmlformats.org/officeDocument/2006/relationships/image" Target="../media/image13.gif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естиваль сказочных героев. Животные из сказки. Животные из зоопар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ла учитель начальных классов МАОУ СОШ №91 г.Тю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рина Анастасия Дмитри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гадай сказ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правильно ты бутерброд ешь! Ты его колбасой к верху держишь, а надо колбасой на язык класть. Тогда вкуснее получ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3703320" cy="3703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5003640" y="4653000"/>
            <a:ext cx="3210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стокваши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7812000" y="5445000"/>
            <a:ext cx="1079640" cy="1152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гадай сказ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Ходят слухи, что вы умеете превращаться в какого угодно зверя, например, во льва или сл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07800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619280" y="4005360"/>
            <a:ext cx="2610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т в сапога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5300640"/>
            <a:ext cx="1079280" cy="1152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гадай сказ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Вот что, сынки, возьмите по стреле, выходите в чистое поле и стреляйте: куда стрелы упадут, там и судьба ваш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714480" cy="3703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643280" y="4581360"/>
            <a:ext cx="3448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аревна Лягуш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7812000" y="5445000"/>
            <a:ext cx="1079640" cy="1152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484360" y="981000"/>
            <a:ext cx="489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2381040" cy="2514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92720" y="4043520"/>
            <a:ext cx="338472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067280" y="1484280"/>
            <a:ext cx="853920" cy="979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67280" y="1484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268360" y="5084640"/>
            <a:ext cx="943200" cy="1241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979640" y="4941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859280" y="4365720"/>
            <a:ext cx="719280" cy="674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643280" y="414972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6877080" y="5229360"/>
            <a:ext cx="1225440" cy="1197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04000" y="501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4"/>
          <a:stretch/>
        </p:blipFill>
        <p:spPr>
          <a:xfrm>
            <a:off x="2627280" y="2637000"/>
            <a:ext cx="933480" cy="1647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2340000" y="2708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7"/>
          <a:stretch/>
        </p:blipFill>
        <p:spPr>
          <a:xfrm>
            <a:off x="468360" y="1413000"/>
            <a:ext cx="985680" cy="1110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395280" y="1125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0"/>
          <a:stretch/>
        </p:blipFill>
        <p:spPr>
          <a:xfrm>
            <a:off x="4788000" y="4076640"/>
            <a:ext cx="2351160" cy="2570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1"/>
          <a:stretch/>
        </p:blipFill>
        <p:spPr>
          <a:xfrm>
            <a:off x="5364000" y="486900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2"/>
          <a:stretch/>
        </p:blipFill>
        <p:spPr>
          <a:xfrm>
            <a:off x="5148360" y="162864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3"/>
          <a:stretch/>
        </p:blipFill>
        <p:spPr>
          <a:xfrm>
            <a:off x="5148360" y="1557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4"/>
          <a:stretch/>
        </p:blipFill>
        <p:spPr>
          <a:xfrm>
            <a:off x="3635280" y="5013360"/>
            <a:ext cx="760680" cy="1357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5"/>
          <a:stretch/>
        </p:blipFill>
        <p:spPr>
          <a:xfrm>
            <a:off x="3348000" y="4941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6"/>
          <a:stretch/>
        </p:blipFill>
        <p:spPr>
          <a:xfrm>
            <a:off x="7093080" y="2924280"/>
            <a:ext cx="888840" cy="91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7"/>
          <a:stretch/>
        </p:blipFill>
        <p:spPr>
          <a:xfrm>
            <a:off x="6732720" y="2708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8"/>
          <a:stretch/>
        </p:blipFill>
        <p:spPr>
          <a:xfrm>
            <a:off x="6286680" y="-316080"/>
            <a:ext cx="28573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гадай сказ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– кто в теремочке живет? Кто – кто в невысоком жив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59280" y="1341360"/>
            <a:ext cx="3530520" cy="5100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835280" y="4221000"/>
            <a:ext cx="1704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рем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468360" y="5300640"/>
            <a:ext cx="1079280" cy="1152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гадай сказ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Бабушка, почему у тебя такие большие ру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003640" y="3789360"/>
            <a:ext cx="351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асная шапоч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916440" cy="492912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7524720" y="5157720"/>
            <a:ext cx="1079640" cy="1152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гадай сказ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Чего тебе надобно, старч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37116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68360" y="2565360"/>
            <a:ext cx="5076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азка о рыбаке и рыбк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826920" y="5157720"/>
            <a:ext cx="1079640" cy="1152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гадай сказ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то ел из моей чаш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755880" cy="4525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5148360" y="2924280"/>
            <a:ext cx="2609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ри медвед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7524720" y="5157720"/>
            <a:ext cx="1079640" cy="1152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гадай сказ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бята! Давайте жить друж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27600" y="1600200"/>
            <a:ext cx="367992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332000" y="2997360"/>
            <a:ext cx="277164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т Леополь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826920" y="5157720"/>
            <a:ext cx="1079640" cy="1152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гадай сказ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е слушай лисы, не выглядывай в окошко, мы еще дальше уйдем, не услышим твоего голо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5880" y="1600200"/>
            <a:ext cx="391968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203640" y="4724280"/>
            <a:ext cx="5715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тушок - золотой гребеш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7885080" y="5705640"/>
            <a:ext cx="1079640" cy="1152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гадай сказ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теперь запомни, дорогая моя, твёрдо запомни самое главное. Ты должна вернуться домой ровно к двенадцати часам. В полночь новое платье твоё превратится в старое и бедное. Лошади снова станут мышами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69864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627280" y="5229360"/>
            <a:ext cx="1771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олуш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5516640"/>
            <a:ext cx="1079280" cy="1152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0:26:28Z</dcterms:created>
  <dc:creator>Admin</dc:creator>
  <dc:description/>
  <dc:language>en-US</dc:language>
  <cp:lastModifiedBy>Admin</cp:lastModifiedBy>
  <dcterms:modified xsi:type="dcterms:W3CDTF">2011-12-11T13:32:03Z</dcterms:modified>
  <cp:revision>4</cp:revision>
  <dc:subject/>
  <dc:title>Фестиваль сказочных героев. Животные из сказки. Животные из зоопарка.</dc:title>
</cp:coreProperties>
</file>