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4.jpeg" ContentType="image/jpeg"/>
  <Override PartName="/ppt/media/image8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91E-E766-4A21-85B4-BFDB354B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06F-586C-413C-A71A-A22EB4D4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9E1-8C63-495B-BFB4-2C2CA12A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4D3-8F50-4EC8-AD1A-80DFDCB3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38AF-1B43-48FE-B838-DA72F9FE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E876-5814-42A8-B329-830E1E67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97A3-4290-45BA-BD89-3F903D9D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144-5B3A-4D65-B578-DD7D04DD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F3DF-6AB8-4E10-A01A-2B65042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5378-20A3-4C41-B057-BF376DB1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B2B8-C2B9-47DB-A19A-96684A5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174-4800-4264-BABF-33181B3F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1EC2-6D45-4AC6-BC2C-57E9D05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4E6F-5966-493E-AA55-05DE647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C75A-24AC-4A9A-8407-01BD9525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E7F9-C88D-486B-96EB-A8A04D2F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9EB-6343-428F-B102-C72CB8A4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3C0-41F5-45F2-A370-EE955119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A90-6208-4C71-9F5B-CE526767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D01-47BC-46B4-AD53-682F16DF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659-C4D6-4F4B-A1BC-78500CBD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D2A-BD14-4A35-9A38-61C0DEC4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AAA-FF15-478F-A7A1-8CD6433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C2B-8065-4F59-B77E-04B1864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33A-B6CA-410D-83FA-545A3C63ACB5}" type="slidenum">
              <a:rPr b="0" lang="ru-RU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0093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978F-DEBA-4F51-8FA3-06502CEAA422}" type="slidenum">
              <a:rPr b="0" lang="ru-RU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ff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ouvre_2007_02_24_c.jp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upload.wikimedia.org/wikipedia/commons/9/9c/EPO_1273_wiki.jpg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useum.ru/imgB.asp?22135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g0.liveinternet.ru/images/attach/c/0/39/295/39295804_1233958391_1772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www.denastur.ru/cms/pict.php?img=files/content/content_445_4655.JPG" TargetMode="External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s61.radikal.ru/i173/0812/53/1781b5ae16fd.jpg" TargetMode="External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 Narrow"/>
              </a:rPr>
              <a:t>Урок  Окружающий мир  в 3 классе</a:t>
            </a:r>
            <a:endParaRPr b="1" lang="en-US" sz="3200" spc="-1" strike="noStrike">
              <a:solidFill>
                <a:srgbClr val="d60093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95120" y="5028840"/>
            <a:ext cx="5410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ОУ Криушинская средняя школ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читель Немцова Елена Ивановн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6668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Тема урока: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Путешествие по Франции»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452840" cy="2935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2560680" cy="2819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79960" y="685800"/>
            <a:ext cx="35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Герб  Франции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7800" y="5410080"/>
            <a:ext cx="36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Флаг  Франции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666880" y="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Париж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59040" y="0"/>
            <a:ext cx="548496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380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</a:rPr>
              <a:t>Собор Парижской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</a:rPr>
              <a:t>Богоматери-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buClr>
                <a:srgbClr val="cc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</a:rPr>
              <a:t>Нотр Дам де Пар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Главный католический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ор Франции, который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вмещает 10 000 человек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уществует уже 800 лет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66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3360" y="66600"/>
            <a:ext cx="405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 18 веке Лувр- мощная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редневековая крепость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Здесь король хранил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казну и архивы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228600"/>
            <a:ext cx="835632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Лувр.   Королевский дворец стал музеем в 1793 году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5867280" cy="510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867280" y="342900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В музее 6 отделов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аждый представляет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ой самостоятель-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ый музей 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дел живописи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дел античности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древневосточног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скусства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04920"/>
            <a:ext cx="4706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Теперь это один из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крупнейших музеев мира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27400"/>
            <a:ext cx="9144000" cy="3630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Файл:EPO 1273 wiki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943600" cy="396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232680" y="19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21720" y="685800"/>
            <a:ext cx="285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дел прикладного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скусства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дел скульптуры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Лувр огромен, как город. Только в его художественной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алерее  насчитывается  около  400 000  экспонатов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20" y="0"/>
            <a:ext cx="4557600" cy="198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Мост Александра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III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Возведён к Всемирной выставк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1900 г. Открыт Николаем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ыном российского император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лександра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191120" y="2819520"/>
            <a:ext cx="4952880" cy="403848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ооружена по проекту французского инженера Александра Гюстава Эйфеля в 1889 г.для Всемирной выставки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Высота Эйфелевой башни 321м. Вес 9000т.  Состоит она из 15 000 металлических деталей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егодня это грандиозное сооружение используется как радиотелевизионная и обзорная башня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74192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822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0"/>
            <a:ext cx="4114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Эйфелева башня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314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152280"/>
            <a:ext cx="83059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ЛИ   БРИ   ВЕ    НИ   КО    ТА    Я  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Я    ЦИ    ФРАН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1157" t="34077" r="50676" b="40279"/>
          <a:stretch/>
        </p:blipFill>
        <p:spPr>
          <a:xfrm>
            <a:off x="5025960" y="4365720"/>
            <a:ext cx="4118040" cy="24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533520"/>
            <a:ext cx="7848720" cy="825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ru-RU" sz="4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 Е Л И К О Б Р И Т А Н И Я 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1828800"/>
            <a:ext cx="4968720" cy="825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  Р  А  Н  Ц  И  Я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719240" y="304920"/>
            <a:ext cx="4420440" cy="1312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Европейский Диснейленд,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или  Евродиснейленд-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грандиозный парк развлечений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152280" y="-9360"/>
            <a:ext cx="9448560" cy="6867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486400" y="8380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2000" y="7272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ен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523880"/>
            <a:ext cx="2590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1800" y="144792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ост Александра 3.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152388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1905120"/>
            <a:ext cx="2819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" y="179388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йфелева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башн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8195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емз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200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Биг- Бен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82880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д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209680"/>
            <a:ext cx="3429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640" y="213372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амолёте перелетел в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4240" y="228600"/>
            <a:ext cx="844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Работа  по  учебникам  ( стр.138-139 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1 ряд- Что такое  Версаль?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2 ряд- Что интересного можно увидеть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на  берегах реки Луары?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3 ряд- Назовите имена знаменитых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французов?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Картинка 27 из 8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860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Картинка 15 из 85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68600"/>
            <a:ext cx="4356000" cy="3389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Картинка 52 из 859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50028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Картинка 157 из 7682"/>
          <p:cNvPicPr/>
          <p:nvPr/>
        </p:nvPicPr>
        <p:blipFill>
          <a:blip r:embed="rId7"/>
          <a:stretch/>
        </p:blipFill>
        <p:spPr>
          <a:xfrm>
            <a:off x="4419720" y="-380880"/>
            <a:ext cx="4572000" cy="3836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4960" y="3038400"/>
            <a:ext cx="85842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ерсаль- бывшая резиденция короля, а сейчас- музей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52720" y="18108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Замки  на берегах  реки Луары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902120" cy="5638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5638680"/>
            <a:ext cx="4191120" cy="1678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Жак - Ив  Кусто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( 1910- 1997 гг..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0"/>
            <a:ext cx="4975200" cy="5946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Выдающийся  путешественник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сследователь океана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щитник природы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зобрёл 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кваланг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одводные дома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ппарат «Ныряющее блюдце»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нял фильмы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«На глубине 18 метров», «Дневник  погружения»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«В мире  безмолвия»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«Мир без солнца»,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«Одиссея капитана Кусто»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2463840" cy="3276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Картинка 28 из 43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0"/>
            <a:ext cx="5077080" cy="3514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Картинка 182 из 485"/>
          <p:cNvPicPr/>
          <p:nvPr/>
        </p:nvPicPr>
        <p:blipFill>
          <a:blip r:embed="rId4"/>
          <a:stretch/>
        </p:blipFill>
        <p:spPr>
          <a:xfrm>
            <a:off x="0" y="3112920"/>
            <a:ext cx="3016080" cy="3745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Картинка 126 из 427"/>
          <p:cNvPicPr/>
          <p:nvPr/>
        </p:nvPicPr>
        <p:blipFill>
          <a:blip r:embed="rId5"/>
          <a:stretch/>
        </p:blipFill>
        <p:spPr>
          <a:xfrm>
            <a:off x="6410160" y="3141720"/>
            <a:ext cx="2733840" cy="3716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Картинка 127 из 427"/>
          <p:cNvPicPr/>
          <p:nvPr/>
        </p:nvPicPr>
        <p:blipFill>
          <a:blip r:embed="rId6"/>
          <a:stretch/>
        </p:blipFill>
        <p:spPr>
          <a:xfrm>
            <a:off x="0" y="0"/>
            <a:ext cx="1971720" cy="29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Картинка 127 из 427"/>
          <p:cNvPicPr/>
          <p:nvPr/>
        </p:nvPicPr>
        <p:blipFill>
          <a:blip r:embed="rId7"/>
          <a:stretch/>
        </p:blipFill>
        <p:spPr>
          <a:xfrm>
            <a:off x="7172280" y="0"/>
            <a:ext cx="1971720" cy="3114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8120" y="6095880"/>
            <a:ext cx="33526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Шарль   Перро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11157" t="34077" r="50676" b="40279"/>
          <a:stretch/>
        </p:blipFill>
        <p:spPr>
          <a:xfrm>
            <a:off x="5025960" y="4365720"/>
            <a:ext cx="4118040" cy="249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43000" y="53028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Путешествие 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по Великобритании 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и Франции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04920" y="914400"/>
            <a:ext cx="5004000" cy="281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57200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0"/>
            <a:ext cx="69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Великобритания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572000" cy="3371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80" y="914400"/>
            <a:ext cx="3135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Букингемский  дворец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6477120"/>
            <a:ext cx="24512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Тауэрский  мост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33920" y="3317760"/>
            <a:ext cx="4249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дание Парламента, Биг- Бен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7400" y="6400800"/>
            <a:ext cx="2414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репость  Тауэр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898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8120" y="-22860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685800" y="685800"/>
            <a:ext cx="3809880" cy="2144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4319640"/>
            <a:ext cx="3429000" cy="253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400800" y="4329000"/>
            <a:ext cx="3429000" cy="252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7620120" y="2743200"/>
            <a:ext cx="152388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6477120" cy="6114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4114800"/>
            <a:ext cx="3048120" cy="2743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10200"/>
            <a:ext cx="304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Форма правления-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-президентска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циональная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алюта-  евр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осударственный  язык-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- французский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Times New Roman"/>
              </a:rPr>
              <a:t>Франция</a:t>
            </a:r>
            <a:endParaRPr b="0" lang="en-US" sz="7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76920" y="-380880"/>
            <a:ext cx="4267080" cy="3066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0" y="3276720"/>
            <a:ext cx="4419720" cy="3020040"/>
          </a:xfrm>
          <a:prstGeom prst="rect">
            <a:avLst/>
          </a:prstGeom>
          <a:solidFill>
            <a:srgbClr val="99cc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Франция является четвертым в мире и вторым в Европе (после Германии) производителем автомобилей. Главными производителями являются компании «Рено» и «Пежо» (в который входит «Ситроен»)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92880" cy="438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2720" y="5334120"/>
            <a:ext cx="80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амое  большое пассажирское судно во Франции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«Франция»  известно во всём мире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13520" y="0"/>
            <a:ext cx="2130480" cy="3962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5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867280" y="2743200"/>
            <a:ext cx="191304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676520" y="3276720"/>
            <a:ext cx="214452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05720" y="66600"/>
            <a:ext cx="466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Франция- 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- законодательниц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                        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мод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2-25T18:39:3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