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0631B-C945-40B4-9803-19CE1F0E76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25C0C-5F80-4E3A-A397-B7B97EE6872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D6301-59AC-4A7D-B705-5CA38B0DC4F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0D5C-4DA7-4EE8-AD8E-C26E08EBD8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7B4B-C73C-445E-BD46-164EDE8B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F6D5-010E-4CFF-8854-7F15A8CF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541D-31EA-4C56-AD3B-5ED803EEC3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34E2D-182D-4254-9EEF-0C4F2CC2DB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EAAC8-33F0-474F-B56D-688626C2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2C813-39BE-4EC0-B2DC-9FFF21E6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940A9-7E6F-4B27-9CBA-0D830945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DFD1E-9239-47A5-B55E-43F69DB1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054AC-CD4B-439D-A33B-7E4A7E08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F5819-AFA6-4541-A111-8198A523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0D7F-2C25-4716-AA4C-9E3D2C25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86BD3-8D5A-4A06-AE82-D0450905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54328-6EE4-4AF6-AE56-32560734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BA9D8-4036-4A18-BCBE-C003AE92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F654D-6A0B-4F99-9DD2-99BA5FF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AAC53-6E5A-4846-B7D4-A0FC5AF858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4F0D-A075-4C88-9BC1-C0D988F20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6576-1EE3-49C1-B074-822879F9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AF62-EA7C-4D4E-8376-98FE30F3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5156-836C-4D80-BD6A-A8CF6EBC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C8C6-7EC2-476D-969D-40D08A3A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4BC9-7FC3-4484-8D6D-5753BEE4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9E00-166D-4A72-AFD0-4E0DEE0C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0168-DF70-4620-9F37-42697848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D40D-C8E3-469F-8C68-0168FD4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8370-0998-4549-9115-E1D41BD0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7DC0-9669-4970-9BE7-67506582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721F-DDBC-4E27-89F1-5A74890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3F53-0AD2-4FA5-AAFE-092507809B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B0440-4E53-469C-A2A3-3FD9E8F909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72C06-E018-4B5C-927C-81C26D6E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BED56-1CAF-4CB2-906D-4D0F7A17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F9FB-3DDE-4A0B-BFEB-4ABE0751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3393D-E4DF-4BD2-96AA-A3D0A537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5EF2F-6CFF-4C66-A7BC-67250DCD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68499-9B1E-43E8-A050-959C412A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E9F1A-D4B3-4623-B4EB-58883BBD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17A98-1911-4DB6-849B-C729AB2C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36D79-277B-482C-B357-3F0D16E7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995F1-2EEB-4169-A11E-E2909041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E66AE-8D8E-47B4-841E-FF8042CF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6D2E6-2ABA-43AD-B5A5-4EC685602B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83D3-D360-4F30-AB89-024B497C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2244-EA58-4E93-8811-D6D82C3E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4C17-BFD6-4B91-8534-62802E13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722A-4EB9-4AF1-9642-F84F4D85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5054-3BDF-4508-AD53-8A3AFE23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 flipH="1">
            <a:off x="815184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2665440" y="0"/>
            <a:ext cx="64771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160"/>
            <a:ext cx="5103720" cy="286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052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93887-0BEA-4866-9D26-623CA965B02A}" type="datetime">
              <a:rPr b="0" lang="ru-RU" sz="1000" spc="-1" strike="noStrike">
                <a:solidFill>
                  <a:srgbClr val="ffffff"/>
                </a:solidFill>
                <a:latin typeface="Trebuchet MS"/>
                <a:ea typeface="Segoe UI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7880040" y="6555960"/>
            <a:ext cx="5857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D3602A1-4078-4C00-85DF-7DBDBCA05B6D}" type="slidenum">
              <a:rPr b="0" lang="ru-RU" sz="1100" spc="-1" strike="noStrike">
                <a:solidFill>
                  <a:srgbClr val="ffffff"/>
                </a:solidFill>
                <a:latin typeface="Trebuchet MS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H="1">
            <a:off x="815184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F18A5-D5F0-4485-BD5C-FA3524C618C6}" type="datetime">
              <a:rPr b="0" lang="ru-RU" sz="1000" spc="-1" strike="noStrike">
                <a:solidFill>
                  <a:srgbClr val="b13f9a"/>
                </a:solidFill>
                <a:latin typeface="Trebuchet MS"/>
                <a:ea typeface="Segoe UI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6251400" y="6555960"/>
            <a:ext cx="58608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019A7A7-ACCE-446A-ACBD-5137181A942F}" type="slidenum">
              <a:rPr b="0" lang="ru-RU" sz="1100" spc="-1" strike="noStrike">
                <a:solidFill>
                  <a:srgbClr val="b13f9a"/>
                </a:solidFill>
                <a:latin typeface="Trebuchet MS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H="1">
            <a:off x="815184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820600"/>
            <a:ext cx="6253200" cy="136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066680" y="1904760"/>
            <a:ext cx="6253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6000"/>
          </a:bodyPr>
          <a:p>
            <a:pPr marL="5472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20" indent="-547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54720" indent="-547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54720" indent="-547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54720" indent="-547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54720" indent="-547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54720" indent="-547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723920" y="6556320"/>
            <a:ext cx="20005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ABD52-4F27-45EB-B9C3-B66550173B18}" type="datetime">
              <a:rPr b="0" lang="ru-RU" sz="1000" spc="-1" strike="noStrike">
                <a:solidFill>
                  <a:srgbClr val="b13f9a"/>
                </a:solidFill>
                <a:latin typeface="Trebuchet MS"/>
                <a:ea typeface="Segoe UI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35200" y="6556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733800" y="6554880"/>
            <a:ext cx="5857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C2B404D-ED52-491D-8896-AF6B7A6A1B2A}" type="slidenum">
              <a:rPr b="0" lang="ru-RU" sz="1100" spc="-1" strike="noStrike">
                <a:solidFill>
                  <a:srgbClr val="b13f9a"/>
                </a:solidFill>
                <a:latin typeface="Trebuchet MS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H="1">
            <a:off x="815184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E0474-BBEC-441F-9832-276F390F0B83}" type="datetime">
              <a:rPr b="0" lang="ru-RU" sz="1000" spc="-1" strike="noStrike">
                <a:solidFill>
                  <a:srgbClr val="b13f9a"/>
                </a:solidFill>
                <a:latin typeface="Trebuchet MS"/>
                <a:ea typeface="Segoe UI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6251400" y="6555960"/>
            <a:ext cx="58608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C0FE243-5D01-4D9C-BC9F-FDD64DACE967}" type="slidenum">
              <a:rPr b="0" lang="ru-RU" sz="1100" spc="-1" strike="noStrike">
                <a:solidFill>
                  <a:srgbClr val="b13f9a"/>
                </a:solidFill>
                <a:latin typeface="Trebuchet MS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vokrugsveta.ru/encyclopedia/index.php?title=&#1061;&#1072;&#1085;&#1075;&#1072;-&#1056;&#1086;&#1072;" TargetMode="External"/><Relationship Id="rId2" Type="http://schemas.openxmlformats.org/officeDocument/2006/relationships/hyperlink" Target="http://www.vokrugsveta.ru/encyclopedia/index.php?title=&#1054;&#1089;&#1090;&#1088;&#1086;&#1074;_&#1055;&#1072;&#1089;&#1093;&#1080;" TargetMode="External"/><Relationship Id="rId3" Type="http://schemas.openxmlformats.org/officeDocument/2006/relationships/hyperlink" Target="http://www.vokrugsveta.ru/encyclopedia/index.php?title=&#1056;&#1072;&#1087;&#1072;&#1085;&#1091;&#1080;" TargetMode="External"/><Relationship Id="rId4" Type="http://schemas.openxmlformats.org/officeDocument/2006/relationships/hyperlink" Target="http://www.vokrugsveta.ru/encyclopedia/index.php?title=&#1048;&#1089;&#1087;&#1072;&#1085;&#1089;&#1082;&#1080;&#1081;_&#1103;&#1079;&#1099;&#1082;" TargetMode="External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30728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ef7f0"/>
                </a:solidFill>
                <a:latin typeface="Trebuchet MS"/>
              </a:rPr>
              <a:t>Тайны острова Пасха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6095520"/>
            <a:ext cx="806292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езентация Литвиновой Оль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42674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603432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ef7f0"/>
                </a:solidFill>
                <a:latin typeface="Trebuchet MS"/>
              </a:rPr>
              <a:t>Как делались моаи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0" y="3733920"/>
            <a:ext cx="8469360" cy="2666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Эти фигуры вырезались в одном из самых известных уголков острова, возле вулкана Рано Рара-ку. Здесь же остались несколько незавершенных фигур, включая одну, почти готовую. Статуи вырезались из скал, перевозились на берег острова и устанавливались спиной к открытому мор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fef7f0"/>
                </a:solidFill>
                <a:latin typeface="Trebuchet MS"/>
              </a:rPr>
              <a:t>Спасибо за просмотр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045280" cy="54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8153280" cy="3200400"/>
          </a:xfrm>
          <a:prstGeom prst="rect">
            <a:avLst/>
          </a:prstGeom>
          <a:solidFill>
            <a:srgbClr val="bfbfbf"/>
          </a:solidFill>
          <a:ln w="39960">
            <a:solidFill>
              <a:srgbClr val="882d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стров Пасхи – это маленький участок суши среди бескрайних просторов Тихого океана. Принадлежит он Чили, его площадь чуть больше 165 квадратных километров, а формой остров напоминает треугольник. Население, численность которого около двух тысяч человек, занимаются овцеводством, рыболов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457200"/>
            <a:ext cx="62546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ef7f0"/>
                </a:solidFill>
                <a:latin typeface="Trebuchet MS"/>
              </a:rPr>
              <a:t>Краткая информация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066680"/>
            <a:ext cx="61786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.Столица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— город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Ханга-Роа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Площадь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 163,6 км²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Население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4660 чел. (2008)</a:t>
            </a:r>
            <a:r>
              <a:rPr b="0" lang="en-US" sz="2000" spc="-1" strike="noStrike" u="sng" baseline="30000">
                <a:solidFill>
                  <a:srgbClr val="ccccff"/>
                </a:solidFill>
                <a:uFillTx/>
                <a:latin typeface="Trebuchet MS"/>
                <a:hlinkClick r:id="rId2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53% —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горожане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4. Основные народы: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рапануи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Государственный язык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испанский язык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рапануйский язык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095880" cy="4008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0"/>
            <a:ext cx="8153280" cy="2362320"/>
          </a:xfrm>
          <a:prstGeom prst="rect">
            <a:avLst/>
          </a:prstGeom>
          <a:solidFill>
            <a:srgbClr val="bfbfbf"/>
          </a:solidFill>
          <a:ln w="39960">
            <a:solidFill>
              <a:srgbClr val="882d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татуи называются моаи. Общее количество моаи - 88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940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3962520"/>
            <a:ext cx="4572000" cy="533160"/>
          </a:xfrm>
          <a:prstGeom prst="rect">
            <a:avLst/>
          </a:prstGeom>
          <a:solidFill>
            <a:srgbClr val="bfbfbf"/>
          </a:solidFill>
          <a:ln w="39960">
            <a:solidFill>
              <a:srgbClr val="882d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ближенна стату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45000" y="0"/>
            <a:ext cx="4599000" cy="3444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95680" y="3429000"/>
            <a:ext cx="4648320" cy="1143000"/>
          </a:xfrm>
          <a:prstGeom prst="rect">
            <a:avLst/>
          </a:prstGeom>
          <a:solidFill>
            <a:srgbClr val="bfbfbf"/>
          </a:solidFill>
          <a:ln w="39960">
            <a:solidFill>
              <a:srgbClr val="882d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яд Стату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8153280" cy="1371600"/>
          </a:xfrm>
          <a:prstGeom prst="rect">
            <a:avLst/>
          </a:prstGeom>
          <a:solidFill>
            <a:srgbClr val="bfbfbf"/>
          </a:solidFill>
          <a:ln w="39960">
            <a:solidFill>
              <a:srgbClr val="882d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ес иногда достигает более 20 тонн, а высота — более 6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1533600"/>
            <a:ext cx="2960640" cy="5324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486400" y="1481040"/>
            <a:ext cx="264312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3962520" cy="3124080"/>
          </a:xfrm>
          <a:prstGeom prst="rect">
            <a:avLst/>
          </a:prstGeom>
          <a:solidFill>
            <a:srgbClr val="a34b73"/>
          </a:solidFill>
          <a:ln w="39960">
            <a:solidFill>
              <a:srgbClr val="a34b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По всем трем углам размещены вулканы. Да и сам остров вулканического происхождения, а почва появилась благодаря эрозии склонов вулк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0"/>
            <a:ext cx="3733560" cy="3200400"/>
          </a:xfrm>
          <a:prstGeom prst="rect">
            <a:avLst/>
          </a:prstGeom>
          <a:solidFill>
            <a:srgbClr val="b83d68"/>
          </a:solidFill>
          <a:ln w="39960">
            <a:solidFill>
              <a:srgbClr val="882d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оренные жители называют свой остров Рапа-Нуи. А известное всему миру название он получил потому, что был открыт в Пасхальное воскресенье 1722 года голландцем Якобом Роггеве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8991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8153280" cy="3200400"/>
          </a:xfrm>
          <a:prstGeom prst="rect">
            <a:avLst/>
          </a:prstGeom>
          <a:solidFill>
            <a:srgbClr val="bfbfbf"/>
          </a:solidFill>
          <a:ln w="39960">
            <a:solidFill>
              <a:srgbClr val="882d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о самая известная загадка острова Пасхи, которую уже сотни лет пытаются разгадать исследователи –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гигантские каменные статуи, моаи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. Эти таинственные монолиты были вырезаны из окаменевшего вулканического пепла. Моаи представляют собой стилизованные человеческие фигуры с большими продолговатыми головами на коротких туловищах. Они стоят вдоль побережья, обращенные лицом к острову, безмолвно наблюдая за его жителям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943600"/>
            <a:ext cx="1981080" cy="914400"/>
          </a:xfrm>
          <a:custGeom>
            <a:avLst/>
            <a:gdLst/>
            <a:ahLst/>
            <a:rect l="l" t="t" r="r" b="b"/>
            <a:pathLst>
              <a:path w="9590" h="121416">
                <a:moveTo>
                  <a:pt x="0" y="61978"/>
                </a:moveTo>
                <a:lnTo>
                  <a:pt x="-4087" y="61978"/>
                </a:lnTo>
                <a:lnTo>
                  <a:pt x="-4087" y="0"/>
                </a:lnTo>
                <a:lnTo>
                  <a:pt x="5503" y="1270"/>
                </a:lnTo>
                <a:lnTo>
                  <a:pt x="-4087" y="2540"/>
                </a:lnTo>
                <a:lnTo>
                  <a:pt x="-4087" y="-59438"/>
                </a:lnTo>
                <a:lnTo>
                  <a:pt x="0" y="-59438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82d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Фото на следу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12:55:59Z</dcterms:created>
  <dc:creator>User</dc:creator>
  <dc:description/>
  <dc:language>en-US</dc:language>
  <cp:lastModifiedBy>User</cp:lastModifiedBy>
  <dcterms:modified xsi:type="dcterms:W3CDTF">2013-12-22T11:02:11Z</dcterms:modified>
  <cp:revision>17</cp:revision>
  <dc:subject/>
  <dc:title>Тайны острова Пасх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2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1</vt:r8>
  </property>
</Properties>
</file>