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140-620F-4861-AE40-7C8E7E87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CE8-D846-48CE-A57E-A31026A3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100-D485-480F-B2FC-F187537A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90F-3421-44A3-BF01-F3F0A004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C2D6-4E88-4E01-86AB-4B6EE699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A37F-BFD1-4379-BFBB-21CB0160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0A37-8AFD-446D-9110-792E7250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BD2A-7173-4BAB-938A-25DBC5A9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F073-F443-4483-8B35-24F2068B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5CE8-5F7E-47F6-B535-6E51E14B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8689-8A15-4545-94C8-8D82441C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F4D-5B47-4AAB-A1A7-F41BB4F8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D019-009D-4C5F-AE2E-0506C428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84B1-3109-44E1-80F2-AA5BFC11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C348-79F8-4E8E-8242-882841D2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E35C-76BC-40D6-AC83-58FBAFAD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A4FC-579F-44A9-BC8B-63DAA8F1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F02-55F4-4AF5-9D49-471AC1F0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935-FA20-40B0-B0D9-449ECCAE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26D-B202-4C60-89F8-C9545A54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A1C-3AE1-4CDC-9EF1-C4100E9E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F83-4584-4C86-9577-AC9F4E9D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6D3-7CC8-4678-8CB8-A6423D4E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09F-8FE8-41D6-BB52-97458754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F6B1-D2C7-4D22-859C-3368C3A87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2C06-5E5E-4950-AF04-2BED44F59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Растительный мир Африки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7640" y="429264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 презентацией работала ученица 7 «Б» класса Колесников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8880" y="602136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Масленичная пальма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8880" y="5950080"/>
            <a:ext cx="8385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Баобаб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09264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Баобаб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8880" y="602136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онтичная акация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8880" y="609264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онтичная акация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482436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50:06Z</dcterms:created>
  <dc:creator>Microsoft</dc:creator>
  <dc:description/>
  <dc:language>en-US</dc:language>
  <cp:lastModifiedBy>Microsoft</cp:lastModifiedBy>
  <dcterms:modified xsi:type="dcterms:W3CDTF">2002-12-31T23:22:53Z</dcterms:modified>
  <cp:revision>2</cp:revision>
  <dc:subject/>
  <dc:title>Растительный мир Африки</dc:title>
</cp:coreProperties>
</file>