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551-53F5-4CF4-8209-4B4625C4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8EB-64A0-4825-A241-FCAD0564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C9B-16BC-4F75-B0B7-85E88941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866-F683-4AE2-96FE-D71C11F1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131E-99B9-42BC-9006-EEA2A3ED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3FA-A55E-4BC8-A005-5563559B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16C5-4904-4820-8FCE-502624C1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654D-7A02-4EB9-BD1C-ADF66EC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F16B-0228-46D9-872C-7F7F1DA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95E8-32D7-4D26-B5B1-127DAE0B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C8FD-CB85-4B7E-81F9-AA4EEC38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EFAE-42C5-4A4C-87B9-EDAB991E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0DBE-077A-4691-9A73-3B155C37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8415-424E-46D8-8AC5-2FD32A1E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0C78-5FAC-47D0-9E5F-68D4AD7A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3B1F-039D-4453-B8DE-1CFECD92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116D-7B8F-4590-9B46-9982AEB3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5C4-64C6-4AD1-AAEF-629B1DF2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C15-9D1A-436C-B48D-EAF8B555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A3A-CC3E-4BF2-9D84-77262B89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826-E982-4DE9-BC7C-E6698BE4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B4C-E4FE-4580-A3FA-6184ED90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0C1C-87D2-43E7-904F-173839F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2B2F-E6FC-4BFB-A6CD-477B3D2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78B0-4A4B-48E6-9037-0450F75869D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CDD6-61D1-4169-AF54-01AA955A26C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cs.dvo.ru/prognosis/photoes/Kl/kluch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03.olx.ru/ui/11/72/07/1308724019_218966507_1----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rgaki-park.ru/assets/images/mountains/kamenniy-gorodok2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6;&#1089;&#1090;&#1086;&#1095;&#1085;&#1086;-&#1045;&#1074;&#1088;&#1086;&#1087;&#1077;&#1081;&#1089;&#1082;&#1072;&#1103;_&#1088;&#1072;&#1074;&#1085;&#1080;&#1085;&#1072;" TargetMode="External"/><Relationship Id="rId2" Type="http://schemas.openxmlformats.org/officeDocument/2006/relationships/hyperlink" Target="http://ru.wikipedia.org/wiki/&#1042;&#1072;&#1083;&#1076;&#1072;&#1081;&#1089;&#1082;&#1072;&#1103;_&#1074;&#1086;&#1079;&#1074;&#1099;&#1096;&#1077;&#1085;&#1085;&#1086;&#1089;&#1090;&#1100;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1/16/&#1054;&#1089;&#1077;&#1090;&#1088;_&#1088;&#1077;&#1082;&#1072;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081.radikal.ru/1001/f4/23160f68ee84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bms.24open.ru/images/9addd835a3f8d030c8364c160ca81805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ography.kz/wp-content/uploads/2009/05/27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sankurtur.ru/upload/iblock/242/242acf5714f3bff581756d94ed4a6c83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lub.foto.ru/gallery/images/photo/2004/07/21/242595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erekati-pole.ru/images/stories/journal/2008/july/kamen/Pytoran03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21region.org/uploads/posts/2011-01/1295873855_4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авнины и горы Росс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Автор презентации Картовенкова Валентина Фёдоровна,учитель МОУ лицея №10 г.Советс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амчатка, вулкан «Ключевская сопка»(4688м)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5" descr="Картинка 8 из 1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924280"/>
            <a:ext cx="50767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мча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5" descr="Боковые фумаролы на внешнем склоне вулкана Авачинский"/>
          <p:cNvPicPr/>
          <p:nvPr/>
        </p:nvPicPr>
        <p:blipFill>
          <a:blip r:embed="rId1"/>
          <a:srcRect l="15133" t="0" r="0" b="0"/>
          <a:stretch/>
        </p:blipFill>
        <p:spPr>
          <a:xfrm>
            <a:off x="108000" y="1916280"/>
            <a:ext cx="8785080" cy="43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д на Западный Сая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0000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5" descr="Вид на Западный Саян"/>
          <p:cNvPicPr/>
          <p:nvPr/>
        </p:nvPicPr>
        <p:blipFill>
          <a:blip r:embed="rId1"/>
          <a:stretch/>
        </p:blipFill>
        <p:spPr>
          <a:xfrm>
            <a:off x="179280" y="2276640"/>
            <a:ext cx="8529840" cy="41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ая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9" descr="Картинка 12 из 43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349360"/>
            <a:ext cx="5076720" cy="3391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id210832_w300_h200"/>
          <p:cNvPicPr/>
          <p:nvPr/>
        </p:nvPicPr>
        <p:blipFill>
          <a:blip r:embed="rId3"/>
          <a:stretch/>
        </p:blipFill>
        <p:spPr>
          <a:xfrm>
            <a:off x="5292720" y="3933720"/>
            <a:ext cx="34560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Ергаки-горный хребет Сая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5" descr="Картинка 193 из 19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276640"/>
            <a:ext cx="3684600" cy="40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лтайские г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5" descr="Картинка 1 из 43153"/>
          <p:cNvPicPr/>
          <p:nvPr/>
        </p:nvPicPr>
        <p:blipFill>
          <a:blip r:embed="rId1"/>
          <a:stretch/>
        </p:blipFill>
        <p:spPr>
          <a:xfrm>
            <a:off x="755640" y="2133720"/>
            <a:ext cx="8170920" cy="43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лта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5" descr="Altai_2002%2015"/>
          <p:cNvPicPr/>
          <p:nvPr/>
        </p:nvPicPr>
        <p:blipFill>
          <a:blip r:embed="rId1"/>
          <a:stretch/>
        </p:blipFill>
        <p:spPr>
          <a:xfrm>
            <a:off x="611280" y="2349360"/>
            <a:ext cx="4962600" cy="3067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d167527_w190"/>
          <p:cNvPicPr/>
          <p:nvPr/>
        </p:nvPicPr>
        <p:blipFill>
          <a:blip r:embed="rId2"/>
          <a:stretch/>
        </p:blipFill>
        <p:spPr>
          <a:xfrm>
            <a:off x="5219640" y="3578400"/>
            <a:ext cx="331308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ора Белу́ха — наивысшая точка Горного Алтая (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4506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м)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5" descr="belukha_003"/>
          <p:cNvPicPr/>
          <p:nvPr/>
        </p:nvPicPr>
        <p:blipFill>
          <a:blip r:embed="rId1"/>
          <a:stretch/>
        </p:blipFill>
        <p:spPr>
          <a:xfrm>
            <a:off x="611280" y="1992240"/>
            <a:ext cx="799308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аян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5" descr="Картинка 2 из 1978"/>
          <p:cNvPicPr/>
          <p:nvPr/>
        </p:nvPicPr>
        <p:blipFill>
          <a:blip r:embed="rId1"/>
          <a:stretch/>
        </p:blipFill>
        <p:spPr>
          <a:xfrm>
            <a:off x="179280" y="1052640"/>
            <a:ext cx="5077080" cy="3409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артинка 3 из 1978"/>
          <p:cNvPicPr/>
          <p:nvPr/>
        </p:nvPicPr>
        <p:blipFill>
          <a:blip r:embed="rId2"/>
          <a:stretch/>
        </p:blipFill>
        <p:spPr>
          <a:xfrm>
            <a:off x="3708360" y="285264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5" descr="Картинка 6 из 1978"/>
          <p:cNvPicPr/>
          <p:nvPr/>
        </p:nvPicPr>
        <p:blipFill>
          <a:blip r:embed="rId1"/>
          <a:stretch/>
        </p:blipFill>
        <p:spPr>
          <a:xfrm>
            <a:off x="539640" y="765000"/>
            <a:ext cx="5077080" cy="2886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9 из 1978"/>
          <p:cNvPicPr/>
          <p:nvPr/>
        </p:nvPicPr>
        <p:blipFill>
          <a:blip r:embed="rId2"/>
          <a:stretch/>
        </p:blipFill>
        <p:spPr>
          <a:xfrm>
            <a:off x="4859280" y="1413000"/>
            <a:ext cx="4068720" cy="4991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Картинка 70 из 1978"/>
          <p:cNvPicPr/>
          <p:nvPr/>
        </p:nvPicPr>
        <p:blipFill>
          <a:blip r:embed="rId3"/>
          <a:stretch/>
        </p:blipFill>
        <p:spPr>
          <a:xfrm>
            <a:off x="250920" y="3933720"/>
            <a:ext cx="458316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сточно-Европейская равн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тяжённость с запада на восток достигает 1600 км, а с севера на юг — 2400 км. Бо́льшая часть территории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Восточно-Европейской равнины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ежит ниже 200 м над уровнем моря; высшая точка — 343 м — находится на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Валдайской возвышенн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ольшой и Малый Кавказ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5" descr="Caucasus.A2001306.0815.250m.jpg"/>
          <p:cNvPicPr/>
          <p:nvPr/>
        </p:nvPicPr>
        <p:blipFill>
          <a:blip r:embed="rId1"/>
          <a:stretch/>
        </p:blipFill>
        <p:spPr>
          <a:xfrm>
            <a:off x="971640" y="2349360"/>
            <a:ext cx="781344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вказские г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рное обрамление на юго-западе представлено горам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ольшого Кавказ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протянувшимися от Черного моря до Каспийского. Здесь находится высшая точка России — двухглавый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Эльбрус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(5642 м) и все остальные "пятитысячники"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Гора Эльбрус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ысота 5642 мет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5" descr="Файл:Mount Elbrus May 2008.jpg"/>
          <p:cNvPicPr/>
          <p:nvPr/>
        </p:nvPicPr>
        <p:blipFill>
          <a:blip r:embed="rId1"/>
          <a:stretch/>
        </p:blipFill>
        <p:spPr>
          <a:xfrm>
            <a:off x="900000" y="1413000"/>
            <a:ext cx="7620120" cy="47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51640" y="40536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ка Осёт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Файл:Осетр река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41360"/>
            <a:ext cx="81234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падно-Сибирская равн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ти половина территории лежит ниже 100 м над уровнем моря. Средняя высота равнин всего 120 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5" descr="hanti_m_o_2"/>
          <p:cNvPicPr/>
          <p:nvPr/>
        </p:nvPicPr>
        <p:blipFill>
          <a:blip r:embed="rId1"/>
          <a:stretch/>
        </p:blipFill>
        <p:spPr>
          <a:xfrm>
            <a:off x="1042920" y="3933720"/>
            <a:ext cx="76201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ральские г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точно-Европейская и Западно-Сибирская равнины разделены невысокими и неширокими (до 150 км)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ральскими горами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лишь отдельные вершины которых превышают 1500 м. Высшая точка Урала — гора Народная (1895 м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5" descr="skalu"/>
          <p:cNvPicPr/>
          <p:nvPr/>
        </p:nvPicPr>
        <p:blipFill>
          <a:blip r:embed="rId1"/>
          <a:stretch/>
        </p:blipFill>
        <p:spPr>
          <a:xfrm>
            <a:off x="3708360" y="3357720"/>
            <a:ext cx="511344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ральские г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Картинка 27 из 177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44640"/>
            <a:ext cx="5221440" cy="3525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Картинка 33 из 177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3024360"/>
            <a:ext cx="4429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ральские г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Картинка 77 из 177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89000"/>
            <a:ext cx="3030480" cy="4457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Картинка 119 из 177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2276640"/>
            <a:ext cx="50770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сибирское плоскогорь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еждуречье Енисея и Лены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сположен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реднесибирское плоскогорь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Средняя высота плоскогорья — 480 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5" descr="Картинка 4 из 3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3645000"/>
            <a:ext cx="4680000" cy="286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d7e55d9cdeb6"/>
          <p:cNvPicPr/>
          <p:nvPr/>
        </p:nvPicPr>
        <p:blipFill>
          <a:blip r:embed="rId3"/>
          <a:stretch/>
        </p:blipFill>
        <p:spPr>
          <a:xfrm>
            <a:off x="4427640" y="3645000"/>
            <a:ext cx="45846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сибирское плоскогорь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5" descr="Картинка 199 из 3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916280"/>
            <a:ext cx="5076720" cy="3552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krasnoyarsk%201"/>
          <p:cNvPicPr/>
          <p:nvPr/>
        </p:nvPicPr>
        <p:blipFill>
          <a:blip r:embed="rId3"/>
          <a:stretch/>
        </p:blipFill>
        <p:spPr>
          <a:xfrm>
            <a:off x="5508720" y="2044800"/>
            <a:ext cx="3190680" cy="1993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Картинка 191 из 3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5840" y="3986280"/>
            <a:ext cx="4467240" cy="2247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2:42:32Z</dcterms:created>
  <dc:creator>1</dc:creator>
  <dc:description/>
  <dc:language>en-US</dc:language>
  <cp:lastModifiedBy>Николай</cp:lastModifiedBy>
  <dcterms:modified xsi:type="dcterms:W3CDTF">2012-12-26T11:10:42Z</dcterms:modified>
  <cp:revision>9</cp:revision>
  <dc:subject/>
  <dc:title>Равнины и горы России</dc:title>
</cp:coreProperties>
</file>