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EBD0-733C-4287-A71A-033F5CC79D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C7D3-7500-4A00-A206-AA8A239D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285A-E14D-4186-BA0F-A5467773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A9ED8-E571-465D-BE2C-18E505DD54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ED846-2666-4435-A7B5-A0A6427E4F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FD03C-44AD-469C-8D45-AAC9B7C6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2C973-A3D2-4ED1-9DBB-CEEA3F8E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CD27F-EB5E-4124-B279-B177D757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B3659-B587-4C2E-BA31-6BF03C04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AFC33-9BF1-4BCD-AF8E-C4855A96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6057E-D747-4247-8EAC-A7EB0B3C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02CA-62E7-45E7-BA28-C039F667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1D967-46EC-4170-99A8-36299D27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6D5AC-31DC-4BF9-B0E9-5A67E771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A9F63-61BB-458E-AF9B-DB957E2E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F1218-6ABC-4255-AD74-A8036012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D16B1-C1D4-4423-B526-F7C5966F31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7CD80-8B3C-4E3F-94B8-BA6A9AF9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5D3C3-B8C3-49D8-94CF-F0100BF3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D8AE0-3E51-4BA2-A850-C42AC08A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B0A7D-5C10-4574-8158-4201E3F7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46F5-44F6-4A93-8B86-71F41CE9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74710-738D-4FE2-B70D-2BE145BF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980A-3B66-4CD0-A44C-277E0408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 flipH="1">
            <a:off x="8151840" y="0"/>
            <a:ext cx="9907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2665440" y="0"/>
            <a:ext cx="64771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2666880" y="-1440"/>
            <a:ext cx="1800" cy="686088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160"/>
            <a:ext cx="5103720" cy="286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052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  <a:ea typeface="Segoe UI"/>
              </a:rPr>
              <a:t>17.6.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7880040" y="6555960"/>
            <a:ext cx="5857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3ED341B-B1FF-40DE-AC47-7A1BA97D2CE2}" type="slidenum">
              <a:rPr b="0" lang="ru-RU" sz="1100" spc="-1" strike="noStrike">
                <a:solidFill>
                  <a:srgbClr val="ffffff"/>
                </a:solidFill>
                <a:latin typeface="Trebuchet MS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104000"/>
              </a:lnSpc>
              <a:spcBef>
                <a:spcPts val="1137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4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600200" indent="-228600">
              <a:lnSpc>
                <a:spcPct val="104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104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flipH="1">
            <a:off x="8151840" y="0"/>
            <a:ext cx="9907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  <a:ea typeface="Segoe UI"/>
              </a:rPr>
              <a:t>17.6.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6251400" y="6555960"/>
            <a:ext cx="58608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6491FE0-BEC1-4634-BF69-6C3755F6E983}" type="slidenum">
              <a:rPr b="0" lang="ru-RU" sz="1100" spc="-1" strike="noStrike">
                <a:solidFill>
                  <a:srgbClr val="b13f9a"/>
                </a:solidFill>
                <a:latin typeface="Trebuchet MS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fef7f0"/>
                </a:solidFill>
                <a:latin typeface="Trebuchet MS"/>
              </a:rPr>
              <a:t>Наследственная изменчивость человека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Биология 11 клас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7920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2360" y="189000"/>
            <a:ext cx="777564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56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189000"/>
            <a:ext cx="770436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05636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799308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77564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920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920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6T10:45:22Z</dcterms:created>
  <dc:creator>home</dc:creator>
  <dc:description/>
  <dc:language>en-US</dc:language>
  <cp:lastModifiedBy>home</cp:lastModifiedBy>
  <dcterms:modified xsi:type="dcterms:W3CDTF">2015-11-06T10:51:56Z</dcterms:modified>
  <cp:revision>1</cp:revision>
  <dc:subject/>
  <dc:title>Наследственная изменчивость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0</vt:r8>
  </property>
</Properties>
</file>