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4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DB34-C75A-45D7-8E68-446EEB98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C3F5-6841-405E-813C-5BA21B8C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9019D-30CE-458A-9447-6A9E56CD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D69E9-1925-4CEF-9A5C-97205F13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C9197-7246-4845-B25D-298E7FEF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526E5-4638-4DE4-B0F8-747B40E0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8A435-EFA8-456B-B633-405604B2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5146E-3245-4B68-BA49-10D2555C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A7F09-6959-403B-B49F-E929FCBF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221FB-65FE-4AF3-B658-D9022E639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932F5-C0DD-4124-932B-4C210F2D8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C11A-C722-404C-ABE6-1136AC0C9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7314-ED53-427B-A362-A136AD98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2377-A62E-4B78-BEC0-A8329455C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A239-A752-44CD-A494-8106A306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9A45-CDE1-4334-A2D6-520006E9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3450-CC4A-4F08-A9DD-57830CFF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B968-5364-42BC-91D4-7C3F3506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FC2B-6132-4429-A4AB-584075FF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DD28-663C-4CD0-B757-FE165E2A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8FDB-1A3B-470A-B497-F1FD41B1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20AA-C757-44E2-8E7C-6767D891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66B2-8B9E-4F3C-BD37-19294D50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A07C-B401-4C64-A27D-FD662E1B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FF16-E748-4EEB-9FA8-D1763B55C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DA0F-9687-4E64-951C-F06D97850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86A57-074A-4563-A081-3E1C7444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5F05F-9C64-4A78-8982-5890FFEC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6DB4E-6DF6-4B99-B481-3214B7AB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D7AA7-6B50-4F5E-8BE0-198CF64F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B5EBF-FFFE-4371-83F5-69666DEA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4E4C-7D52-4DF6-845B-2EBEBB79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43242-5949-441E-ABD9-D6C1DC97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9FF4F-D142-4097-AB16-6FA8F8FE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EBA60-F3E5-4230-B2F6-FF8C4C5D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7A67A-9E54-40EA-A6E8-D3332AE6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45318-E332-4214-A607-EE408D32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7E3B7-03ED-4326-A11F-8EFC04324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53A46-3524-44DF-9BBB-1F3BC7C55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4F5D9-8606-4894-B950-7EA84F150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FC21B-5E4C-40A7-A5EC-F8F19650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D91A3-B93F-44B2-A485-F649A0F0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9AF1-0EA9-4EAB-A218-E39E4A7F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32F84-8A5E-4AB0-88C1-2B06BD46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9DFEA-38ED-4594-8F44-E89F6E93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8CB80-6AD1-4CA4-B312-AEA63E61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06107-2798-46DA-B25C-67DD3BB8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25FBD-4AEF-428E-A67C-BFD509F2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76416-B0BE-48F5-B9F7-E10FAA2B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C3366-70D8-4DED-8546-1D344D3F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3F5DE-48EB-4C69-A479-AD954EEC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6BEC3-4CDC-47FD-9EB2-1DC30881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FAE7D-5D44-48D6-8AB9-BD0D2D26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4DA8-53AE-4037-9EDA-FF64BA79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4CC7F-A35D-4D4A-8C28-13D319EA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1D410-D0DC-490A-ABD3-B452EEFD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8EC8B-0C3C-4E01-B912-E7E289AE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3B53F-83A2-436A-B4D8-20E98A55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608A0-EF27-4A48-9064-AC7A370E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4446E-C908-4937-8583-3621B914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AE07A-3DC6-4F45-AB06-2BE67382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49CB3-5056-4261-8A2B-1C370E88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5A567-6B95-447F-B52A-214F8F06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A929C-921D-491A-8507-F80B8BE6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8F68-CB91-4B48-8769-3D60A319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E8EBA-C01A-4C52-9E95-E0141D6C5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54474-21B2-4ACA-8783-C8C96E65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71588-3C46-4CAE-B39B-BFC7C622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3A436-B70A-42AF-B6EB-7D803215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11B8C-C222-4F03-A521-66BB84D5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CD47D-5C26-4698-9927-2472E016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9D614-C401-4E25-9195-9DCA8830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28A96-43A8-4CF8-A832-8C136E72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40381-D776-4519-9E6D-3D8CBE65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B600E-0AB1-4750-8FD4-D21273A5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7A3A-A3A8-47C7-BD93-1EFCFB83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2A119-6667-478F-9315-6957DF6D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D5C8A-73BE-4C03-B3EB-EB431C4F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C08C2-2BE3-43B7-82D6-5F625B1A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47B8D-ED3A-4284-9131-D77D8D08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DDA8E-A8A0-4C4E-9603-301DBFA2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787CB-C4FC-4593-9F53-8446BA34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4682C-5AE7-494A-B042-2319255C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7A6CD-0515-489B-B20A-FB194336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661A4-A73F-4100-9A82-4ED6C9AF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3450B-E583-4316-AA80-3D1BC9F7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238E-05E6-44D5-984D-9456DA61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EFE50-8D98-44B8-885E-66C2DA91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87F65-84A1-4CAB-B870-871D019A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10C4D-45F7-4CB8-A2B8-6341B6DD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6FE61-C450-466E-B038-7D55CBE5E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A4BE4-EC6E-4496-A9C1-64031988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A42F3-97B9-4218-AFAD-0040E204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5FB84-0749-4194-A574-09326A52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88637-C2F6-4639-A006-B4CBEB97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6A3CF-8D66-4EC4-A39B-76BC3229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DF2BE-A8E7-4D3E-AA84-4295FC61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82D7-AE6C-42A5-B8F6-3CEA7AF2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A9910-E35B-45C0-B4FF-CF8DBB7E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B907D-227A-412D-A8B9-01430F9A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6CE98-9F9B-427C-88E9-28AF7D81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A0DE5-6589-44D9-B989-15308FF6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0F4B6-A275-4EF0-B2DC-133B1E94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656DF-B070-42C8-BFF9-41FAD8116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16728-0914-4295-AB22-C96A657DE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F96FA-3651-4047-95CA-EB82DBC5D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4D395-1C36-4ED3-866E-CB0B3354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524F0-1FA9-4A19-8531-DFF19B37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A967-FECF-4DDD-911D-3D5FE0B1348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99B9-C23F-4060-A69F-81CB19515D3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AEA1-082C-436C-BD9C-6A2AF2F7B91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1DB9-7CB1-4BFA-BCE2-AB621D7DC2F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9970-36A7-48D8-9C77-739BC04AB99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54B7-F8E5-4CA8-9598-D405E103035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A99B-B133-4814-8E57-FC45EFFC729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919B-230D-4AC4-93AC-60E09C00741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834D-B97A-4AD6-B02D-1E56254ED93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60360" y="2286000"/>
            <a:ext cx="8454960" cy="19447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285480" y="64296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Урок  литературы  в 7 классе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TextBox 4"/>
          <p:cNvSpPr/>
          <p:nvPr/>
        </p:nvSpPr>
        <p:spPr>
          <a:xfrm>
            <a:off x="1000080" y="535788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МОУ СОШ с. Базарная Кеньша Савенкова Елена Дмитри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219240" y="-30240"/>
            <a:ext cx="8772480" cy="6825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4647960" y="428400"/>
            <a:ext cx="43434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03b14"/>
                </a:solidFill>
                <a:uFillTx/>
                <a:latin typeface="Franklin Gothic Book"/>
              </a:rPr>
              <a:t>Вопросы по образу Пимена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03b14"/>
                </a:solidFill>
                <a:latin typeface="Franklin Gothic Book"/>
              </a:rPr>
              <a:t>- С помощью каких средств автор рисует образ летописца?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03b14"/>
                </a:solidFill>
                <a:latin typeface="Franklin Gothic Book"/>
              </a:rPr>
              <a:t>- Как характеризуют Пимена его собственные слова?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03b14"/>
                </a:solidFill>
                <a:latin typeface="Franklin Gothic Book"/>
              </a:rPr>
              <a:t>- Как Пимен относится к своему труду летописца?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03b14"/>
                </a:solidFill>
                <a:latin typeface="Franklin Gothic Book"/>
              </a:rPr>
              <a:t>- Свойственны ли были Пимену в молодости грехи?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03b14"/>
                </a:solidFill>
                <a:latin typeface="Franklin Gothic Book"/>
              </a:rPr>
              <a:t>-  Можем ли мы кратко восстановить биографию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03b14"/>
                </a:solidFill>
                <a:latin typeface="Franklin Gothic Book"/>
              </a:rPr>
              <a:t>Пимена?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03b14"/>
                </a:solidFill>
                <a:latin typeface="Franklin Gothic Book"/>
              </a:rPr>
              <a:t>- Какое событие изменило судьбу Пимена?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03b14"/>
                </a:solidFill>
                <a:latin typeface="Franklin Gothic Book"/>
              </a:rPr>
              <a:t>- Как Пимен относится к Григорию?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03b14"/>
                </a:solidFill>
                <a:latin typeface="Franklin Gothic Book"/>
              </a:rPr>
              <a:t>- Как характеризует Пимена отношение к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03b14"/>
                </a:solidFill>
                <a:latin typeface="Franklin Gothic Book"/>
              </a:rPr>
              <a:t>Григорию?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03b14"/>
                </a:solidFill>
                <a:latin typeface="Franklin Gothic Book"/>
              </a:rPr>
              <a:t>- Как характеризуют Пимена раздумья и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03b14"/>
                </a:solidFill>
                <a:latin typeface="Franklin Gothic Book"/>
              </a:rPr>
              <a:t>размышления Григория?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03b14"/>
                </a:solidFill>
                <a:latin typeface="Franklin Gothic Book"/>
              </a:rPr>
              <a:t>- Прав ли Григорий, сравнивая Пимена с дьяком,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03b14"/>
                </a:solidFill>
                <a:latin typeface="Franklin Gothic Book"/>
              </a:rPr>
              <a:t>который «не ведает ни жалости, ни гнева»?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03b14"/>
                </a:solidFill>
                <a:latin typeface="Franklin Gothic Book"/>
              </a:rPr>
              <a:t>- Каковы особенности речи летописца?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03b14"/>
                </a:solidFill>
                <a:latin typeface="Franklin Gothic Book"/>
              </a:rPr>
              <a:t>- Только ли царей винит в преступлениях Пимен? 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03b14"/>
                </a:solidFill>
                <a:latin typeface="Franklin Gothic Book"/>
              </a:rPr>
              <a:t>- Чем для вас интересен облик и характер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03b14"/>
                </a:solidFill>
                <a:latin typeface="Franklin Gothic Book"/>
              </a:rPr>
              <a:t>летописца?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9" name="Содержимое 4" descr="«Борис Годунов». Сцена 5. Ночь. Келья в Чудовом монастыре. Художник А. Земцов. 1895"/>
          <p:cNvPicPr/>
          <p:nvPr/>
        </p:nvPicPr>
        <p:blipFill>
          <a:blip r:embed="rId2"/>
          <a:stretch/>
        </p:blipFill>
        <p:spPr>
          <a:xfrm>
            <a:off x="214200" y="1071720"/>
            <a:ext cx="4357800" cy="4572000"/>
          </a:xfrm>
          <a:prstGeom prst="rect">
            <a:avLst/>
          </a:prstGeom>
          <a:ln w="0">
            <a:noFill/>
          </a:ln>
        </p:spPr>
      </p:pic>
      <p:sp>
        <p:nvSpPr>
          <p:cNvPr id="430" name="TextBox 5"/>
          <p:cNvSpPr/>
          <p:nvPr/>
        </p:nvSpPr>
        <p:spPr>
          <a:xfrm>
            <a:off x="214200" y="5786280"/>
            <a:ext cx="42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Ночь. Келья в Чудовом монастыре. Художник А. Земцов. 18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647960" y="1071360"/>
            <a:ext cx="43434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603b14"/>
                </a:solidFill>
                <a:uFillTx/>
                <a:latin typeface="Franklin Gothic Book"/>
              </a:rPr>
              <a:t>Вопросы по образу Отрепьева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Franklin Gothic Book"/>
              </a:rPr>
              <a:t>- Можно ли назвать сон Григория вещим?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Franklin Gothic Book"/>
              </a:rPr>
              <a:t>- Как сон Григория раскрывает его честолюбивые замыслы?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Franklin Gothic Book"/>
              </a:rPr>
              <a:t>- Что послужило причиной решения Григория выдать себя за наследника престола Димитрия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Franklin Gothic Book"/>
              </a:rPr>
              <a:t>- Какими чувствами проникнуто его отношение к прошлой блестящей жизни Пимена при дворе Ивана Грозного?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Franklin Gothic Book"/>
              </a:rPr>
              <a:t>- Какие слова Григория говорят о том, что он готов продолжать цепь преступлений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Franklin Gothic Book"/>
              </a:rPr>
              <a:t>- Как Григорий оправдывает своё желание стать самозванцем?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Franklin Gothic Book"/>
              </a:rPr>
              <a:t> 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772480" cy="682560"/>
          </a:xfrm>
          <a:prstGeom prst="rect">
            <a:avLst/>
          </a:prstGeom>
          <a:ln w="0">
            <a:noFill/>
          </a:ln>
        </p:spPr>
      </p:pic>
      <p:pic>
        <p:nvPicPr>
          <p:cNvPr id="433" name="Содержимое 5" descr="«Борис Годунов». Сцена 5. Ночь. Келья в Чудовом монастыре. Григорий. Художник В. Фаворский. 1944–1955"/>
          <p:cNvPicPr/>
          <p:nvPr/>
        </p:nvPicPr>
        <p:blipFill>
          <a:blip r:embed="rId2"/>
          <a:stretch/>
        </p:blipFill>
        <p:spPr>
          <a:xfrm>
            <a:off x="304920" y="1000080"/>
            <a:ext cx="4338360" cy="4357800"/>
          </a:xfrm>
          <a:prstGeom prst="rect">
            <a:avLst/>
          </a:prstGeom>
          <a:ln w="0">
            <a:noFill/>
          </a:ln>
        </p:spPr>
      </p:pic>
      <p:sp>
        <p:nvSpPr>
          <p:cNvPr id="434" name="TextBox 6"/>
          <p:cNvSpPr/>
          <p:nvPr/>
        </p:nvSpPr>
        <p:spPr>
          <a:xfrm>
            <a:off x="357120" y="564372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Григор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Художник В. Фаворский. 1944–19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7621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ИМЕН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имен воспринимает свой  труд как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«…долг, завещанный от Бога»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нимает необходимость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охранения памяти: «Да ведают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томки православных/ Земл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родной минувшую судьбу…»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 тех пор как Пимен ста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видетелем «злого дела, кровавого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греха» – убийства царевич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Димитрия, он «мало вникал в дел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мирские»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ГРИГОРИЙ ОТРЕПЬЕВ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Во сне Григорий видит Москву «с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высоты», людей он воспринимает как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битателей «муравейника». Кроме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столюбивых помыслов, причиной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 которой Григорий решил выдать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ебя за наследника престол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служили слова Пимена о том, что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царевич Димитрий – ровесник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Григория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280800" y="6663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0761f"/>
                </a:solidFill>
                <a:latin typeface="Franklin Gothic Medium"/>
              </a:rPr>
              <a:t>VIII</a:t>
            </a:r>
            <a:r>
              <a:rPr b="1" lang="ru-RU" sz="1800" spc="-1" strike="noStrike">
                <a:solidFill>
                  <a:srgbClr val="b0761f"/>
                </a:solidFill>
                <a:latin typeface="Franklin Gothic Medium"/>
              </a:rPr>
              <a:t>.   БЕСЕДА ПО ВОПРОСАМ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280800" y="1071720"/>
            <a:ext cx="42908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Franklin Gothic Book"/>
              </a:rPr>
              <a:t>Ответим  на вопросы №№ 1-4 учебника (стр. 94)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603b14"/>
                </a:solidFill>
                <a:uFillTx/>
                <a:latin typeface="Franklin Gothic Book"/>
              </a:rPr>
              <a:t>Задание</a:t>
            </a:r>
            <a:r>
              <a:rPr b="1" lang="ru-RU" sz="1600" spc="-1" strike="noStrike">
                <a:solidFill>
                  <a:srgbClr val="603b14"/>
                </a:solidFill>
                <a:latin typeface="Franklin Gothic Book"/>
              </a:rPr>
              <a:t>: подтвердите текстом те черты, которые Пушкин хотел подчеркнуть в летописце: «простодушие», «умилительная кротость», мудрость и усердие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Franklin Gothic Book"/>
              </a:rPr>
              <a:t>- Какие черты мы замечаем в Григории? Подтвердите текстом.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Franklin Gothic Book"/>
              </a:rPr>
              <a:t>- Мог ли, по-вашему, автор симпатизировать им?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Franklin Gothic Book"/>
              </a:rPr>
              <a:t>- Как выражается отношение автора к своим героям и самозванству?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Franklin Gothic Book"/>
              </a:rPr>
              <a:t>- Иллюстрации к каким эпизодам видите вы на экране, прокомментируйте их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0" name="Содержимое 6" descr="«Борис Годунов». Сцена 5. Ночь. Келья в Чудовом монастыре. Пимен и Григорий. Художник В. Фаворский. 1944–1955"/>
          <p:cNvPicPr/>
          <p:nvPr/>
        </p:nvPicPr>
        <p:blipFill>
          <a:blip r:embed="rId1"/>
          <a:stretch/>
        </p:blipFill>
        <p:spPr>
          <a:xfrm>
            <a:off x="4775040" y="428760"/>
            <a:ext cx="4035600" cy="5572080"/>
          </a:xfrm>
          <a:prstGeom prst="rect">
            <a:avLst/>
          </a:prstGeom>
          <a:ln w="0">
            <a:noFill/>
          </a:ln>
        </p:spPr>
      </p:pic>
      <p:sp>
        <p:nvSpPr>
          <p:cNvPr id="441" name="TextBox 7"/>
          <p:cNvSpPr/>
          <p:nvPr/>
        </p:nvSpPr>
        <p:spPr>
          <a:xfrm>
            <a:off x="7000920" y="5572080"/>
            <a:ext cx="178596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Заголовок 1" descr=""/>
          <p:cNvPicPr/>
          <p:nvPr/>
        </p:nvPicPr>
        <p:blipFill>
          <a:blip r:embed="rId1"/>
          <a:stretch/>
        </p:blipFill>
        <p:spPr>
          <a:xfrm>
            <a:off x="268200" y="4784760"/>
            <a:ext cx="8650440" cy="154944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280800" y="6663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0761f"/>
                </a:solidFill>
                <a:latin typeface="Franklin Gothic Medium"/>
              </a:rPr>
              <a:t>IX</a:t>
            </a:r>
            <a:r>
              <a:rPr b="1" lang="ru-RU" sz="1800" spc="-1" strike="noStrike">
                <a:solidFill>
                  <a:srgbClr val="b0761f"/>
                </a:solidFill>
                <a:latin typeface="Franklin Gothic Medium"/>
              </a:rPr>
              <a:t>.   ИТОГ УРОКА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280800" y="1315800"/>
            <a:ext cx="4290840" cy="33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Борис Годунов» - пьеса не только о личной трагедии царя. Но и народа. Ввергнутого по его вине в пучину бед и испытаний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ослушаем музыкальную иллюстрацию – фрагмент оперы Мусоргского «Борис Годунов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(сведения о композиторе на следующей странице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5" name="Содержимое 7" descr="«Борис Годунов». Сцена 5. Ночь. Келья в Чудовом монастыре. Художник В. Шухаев. 1924"/>
          <p:cNvPicPr/>
          <p:nvPr/>
        </p:nvPicPr>
        <p:blipFill>
          <a:blip r:embed="rId2"/>
          <a:stretch/>
        </p:blipFill>
        <p:spPr>
          <a:xfrm>
            <a:off x="5167440" y="642960"/>
            <a:ext cx="3251160" cy="4286160"/>
          </a:xfrm>
          <a:prstGeom prst="rect">
            <a:avLst/>
          </a:prstGeom>
          <a:ln w="0">
            <a:noFill/>
          </a:ln>
        </p:spPr>
      </p:pic>
      <p:sp>
        <p:nvSpPr>
          <p:cNvPr id="446" name="TextBox 8"/>
          <p:cNvSpPr/>
          <p:nvPr/>
        </p:nvSpPr>
        <p:spPr>
          <a:xfrm>
            <a:off x="5214960" y="428616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Келья в Чудовом монастыре. Художник В. Шухаев. 19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575160" y="609120"/>
            <a:ext cx="534024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УСОРГСКИЙ, МОДЕСТ ПЕТРОВИЧ</a:t>
            </a:r>
            <a:r>
              <a:rPr b="0" lang="ru-RU" sz="1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(1839–1881), русский композитор. Родился 9 (21) марта 1839 в селе Карево Торопецкого уезда Псковской губернии. Мусоргский рано проявил музыкальные способности.. Однако, следуя семейной традиции, поступил в петербургскую Школу гвардейских подпрапорщиков и кавалерийских юнкеров, которую окончил в 1856. Став офицером гвардии, приобрел известность и как талантливый музыкант-любитель – пианист и композитор; вскоре Мусоргский познакомился с М.А.Балакиревым и начал брать у него уроки композиции . В 1858 Мусоргский вышел в отставку, чтобы полностью посвятить себя музыке. В течение 1860-х годов появился ряд его выдающихся произведений – замечательные песни и романсы для голоса с фортепиано. Крупным сочинением Мусоргского, законченным в 1869, стали семь сцен по трагедии Пушкина Борис Годунов. Эта первая редакция Бориса Годунова была отвергнута императорской сценой, что побудило Мусоргского радикально переделать оперу, введя в нее целый «польский» акт и новый финал – народный бунт, а также во многом изменить и другие сцены. Вторая редакция Бориса Годунова (1872) была поставлена в Мариинском театре 8 февраля 1874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9" name="Рисунок 4" descr="МУСОРГСКИЙ"/>
          <p:cNvPicPr/>
          <p:nvPr/>
        </p:nvPicPr>
        <p:blipFill>
          <a:blip r:embed="rId1"/>
          <a:stretch/>
        </p:blipFill>
        <p:spPr>
          <a:xfrm>
            <a:off x="500040" y="642960"/>
            <a:ext cx="3000240" cy="4429080"/>
          </a:xfrm>
          <a:prstGeom prst="rect">
            <a:avLst/>
          </a:prstGeom>
          <a:ln w="0">
            <a:noFill/>
          </a:ln>
        </p:spPr>
      </p:pic>
      <p:pic>
        <p:nvPicPr>
          <p:cNvPr id="450" name="Монолог Пимена фонограмма.mp3" descr=""/>
          <p:cNvPicPr/>
          <p:nvPr/>
        </p:nvPicPr>
        <p:blipFill>
          <a:blip r:embed="rId2"/>
          <a:stretch/>
        </p:blipFill>
        <p:spPr>
          <a:xfrm>
            <a:off x="2143080" y="5214960"/>
            <a:ext cx="71460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4439" fill="hold"/>
                                        <p:tgtEl>
                                          <p:spTgt spid="4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208080" y="457200"/>
            <a:ext cx="8783640" cy="8780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920" y="1553760"/>
            <a:ext cx="868680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Цели: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дать обзор драмы «Борис Годунов»; познакомить учеников с фрагментом драмы;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углубить представление о драматических жанрах;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развивать навыки анализа поэтического текста, сопоставительного анализа текста, навыки выразительного чтения, развивать творческие способности учеников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Методические приёмы: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рассказ учителя, реализация межпредметных связей с историей, выразительное чтение, словарная работа, работа с иллюстрациями, элементы анализа текста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Оборудование урока: иллюстрации к драме «Борис Годунов», словари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TextBox 4"/>
          <p:cNvSpPr/>
          <p:nvPr/>
        </p:nvSpPr>
        <p:spPr>
          <a:xfrm>
            <a:off x="642960" y="6072120"/>
            <a:ext cx="814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МОУ СОШ с. Базарная Кеньш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Савенкова Елена Дмитриев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030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I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. Проверка домашнего зада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. Выразительное чтение баллады и чтение фрагмента баллады «Песнь о вещем Олеге» наизусть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. Устный рассказ на тему: «Памятник одному из героев «Песни…»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TextBox 3"/>
          <p:cNvSpPr/>
          <p:nvPr/>
        </p:nvSpPr>
        <p:spPr>
          <a:xfrm>
            <a:off x="1285920" y="6143760"/>
            <a:ext cx="721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МОУ СОШ с. Базарная Кеньш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Савенкова Елена Дмитриев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3" descr=""/>
          <p:cNvPicPr/>
          <p:nvPr/>
        </p:nvPicPr>
        <p:blipFill>
          <a:blip r:embed="rId1"/>
          <a:stretch/>
        </p:blipFill>
        <p:spPr>
          <a:xfrm>
            <a:off x="304920" y="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Борис Годунов. Портрет работы неизвестного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художника из книги XVII века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Корень Российских государей»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366800" y="1071360"/>
            <a:ext cx="4776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Трагедия «Борис Годунов» </a:t>
            </a: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оздавалась как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оплощение мысли Пушкина об «истинном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омантизме», т.е. о таком описании жизни, которое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егодня принято называть реализмом. Пушкин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оплотил себя не только как поэт, но и как историк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1584 году умер русский царь Иван Грозный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 престол взошёл его сын Фёдор, отличавшийся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ротким нравом, благочестием, не обладавший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большими интеллектуальными способностями и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чень мало походивший на роль правителя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громной страны, разорённой опричным террором и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одолжавшейся четверть века войной за земли в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ибалтике. Подлинным правителем стал царский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шурин (брат жены) Борис Годунов, на сестре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торого был женат Фёдор Иоаннович. После Ивана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Грозного остался ещё один сын, маленький царевич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имитрий, который вместе с матерью был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тправлен в горд Углич на Волге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Рисунок 6" descr="Борис Годунов. Портрет работы неизвестного художника из книги XVII века «Корень Российских государей»"/>
          <p:cNvPicPr/>
          <p:nvPr/>
        </p:nvPicPr>
        <p:blipFill>
          <a:blip r:embed="rId2"/>
          <a:stretch/>
        </p:blipFill>
        <p:spPr>
          <a:xfrm>
            <a:off x="642960" y="1071720"/>
            <a:ext cx="3429000" cy="4214520"/>
          </a:xfrm>
          <a:prstGeom prst="rect">
            <a:avLst/>
          </a:prstGeom>
          <a:ln w="0">
            <a:noFill/>
          </a:ln>
        </p:spPr>
      </p:pic>
      <p:sp>
        <p:nvSpPr>
          <p:cNvPr id="412" name="TextBox 7"/>
          <p:cNvSpPr/>
          <p:nvPr/>
        </p:nvSpPr>
        <p:spPr>
          <a:xfrm>
            <a:off x="2143080" y="6429240"/>
            <a:ext cx="571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МОУ СОШ с. Базарная Кеньш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Franklin Gothic Book"/>
              </a:rPr>
              <a:t>Савенкова Елена Дмитриев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304920" y="0"/>
            <a:ext cx="8686800" cy="9208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285920"/>
            <a:ext cx="86868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Здесь в 1591 г. произошли страшные события. тайна которых не разгадана до сих пор. Восьмилетний царевич, страдавший от припадков эпилепсии (или, как тогда говорили «падучей»), играя с ребятишками в «ножички». неожиданно стал биться, кататься по земле – и сам себя убил ножом. По крайней мере так гласила официальная версия. По стране поползли слухи, будто в смерти Димитрия повинен Борис Годунов, подославший к нему убийц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сле того, как в 1598 г. царь Фёдор Иоаннович скончался, царская династия Рюриковичей пресеклась. Годунов, показавший себя как искушенный и умелый правитель, был избран на  царство. Многие сильные люди оказались, однако, недовольны его избранием. Среди них бояре Романовы, князья Шуйские. К тому же царствование Бориса Годунова оказалось несчастливым. Из-за трёх неурожайных лет на страну обрушился страшный голод, там и тут вспыхивали крестьянские мятежи, устраивались боярские заговоры. Не прекращались слухи об убийстве царевича людьми Годунова.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1603 году до Москвы дошёл новый слух. вскоре подтвердившийся. что в Польше объявился человек, выдающий себя за чудом спасшегося Димитрия. Проведённое расследование показало, что человеком этим был беглый инок Чудова монастыря Григорий Отрепьев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Чудов монастырь  находился прямо на территории Московского Кремля (ныне разрушен).  Находясь здесь, Григорий Отрепьев мог хорошо  сориентироваться в политической обстановке.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304920" y="414360"/>
            <a:ext cx="8686800" cy="7444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429080" y="1285920"/>
            <a:ext cx="456264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4e3b30"/>
                </a:solidFill>
                <a:latin typeface="Franklin Gothic Book"/>
              </a:rPr>
              <a:t>            </a:t>
            </a:r>
            <a:endParaRPr b="0" lang="en-US" sz="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03b14"/>
                </a:solidFill>
                <a:latin typeface="Franklin Gothic Book"/>
              </a:rPr>
              <a:t>                            </a:t>
            </a:r>
            <a:r>
              <a:rPr b="0" lang="ru-RU" sz="14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Возможно. он имел какие-то связи с оппозицией Годунову в боярской среде. Известно, во всяком случае, что он был как-то близок к Романовым. Как написал В.О. Ключевский, «Лжедмитрий был только испечён в польской печке, а заквашен в Москве»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4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С начала XIX века в России резко возрос интерес к собственной истории, стимулированный появлением «Истории Государства Российского» Н.М. Карамзина, старшего друга А.С. Пушкина. Его многотомный труд Пушкин хорошо знал и высоко ценил. Он не смог  пройти мимо такого сюжета, как Смутное время. Это был период гражданских войн и иностранных вторжений, начавшихся, по сути, с появления в Польше Самозванца, который вступил с войском в Московское государство, взошёл после неожиданной смерти Бориса Годунова на русский трон, а спустя год был убит восставшими жителями Москвы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             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14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Трагедия «Борис Годунов» посвящена последним годам правления Бориса Годунова. Нам предстоит прочесть одну из сцен этого произведения, в которой мы познакомимся с двумя персонажами трагедии: Григорием Отрепьевым, будущим Димитрием Самозванцем, и старцем Пименом, монастырским летописцем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Содержимое 4" descr="«Борис Годунов». Сцена 5. Ночь. Келья в Чудовом монастыре. Григорий. Художник Е. Кибрик. 1959–1963"/>
          <p:cNvPicPr/>
          <p:nvPr/>
        </p:nvPicPr>
        <p:blipFill>
          <a:blip r:embed="rId2"/>
          <a:stretch/>
        </p:blipFill>
        <p:spPr>
          <a:xfrm>
            <a:off x="585720" y="1285920"/>
            <a:ext cx="3843360" cy="5072040"/>
          </a:xfrm>
          <a:prstGeom prst="rect">
            <a:avLst/>
          </a:prstGeom>
          <a:ln w="0">
            <a:noFill/>
          </a:ln>
        </p:spPr>
      </p:pic>
      <p:sp>
        <p:nvSpPr>
          <p:cNvPr id="418" name="TextBox 5"/>
          <p:cNvSpPr/>
          <p:nvPr/>
        </p:nvSpPr>
        <p:spPr>
          <a:xfrm>
            <a:off x="642960" y="5643720"/>
            <a:ext cx="35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Григор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Художник Е. Кибрик. 1959–19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208080" y="457200"/>
            <a:ext cx="8783640" cy="7984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642680"/>
            <a:ext cx="868680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Прочитайте статью учебника «Пушкин – драматург»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Ответьте на вопросы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К какой теме обращается А.С. Пушкин в драме «Борис Годунов»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Почему слова Пимена о Борисе воспринимаются как отзвук грозного «мнения народного»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Что пишет о Борисе Годунове литературовед  Г. Фридлендер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Какие черты характеры положены у Пушкина в основу образа Самозванца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Кто такой патриарх? ( запишите в словари толкование этого слов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304920" y="420840"/>
            <a:ext cx="8686800" cy="10969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357200"/>
            <a:ext cx="8686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Прочитайте статью </a:t>
            </a:r>
            <a:r>
              <a:rPr b="1" lang="ru-RU" sz="16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теоретического справочного раздела учебника (стр.287-288)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Сопоставьте определения трагедии в словаре литературоведческих терминов, в словаре юного филолога, в словаре учебника (стр.284). Выпишите определения   драмы, драматургии и  трагедии в словарик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1581f"/>
                </a:solidFill>
                <a:uFillTx/>
                <a:latin typeface="Times New Roman"/>
                <a:ea typeface="Times New Roman"/>
              </a:rPr>
              <a:t>ДРАМА</a:t>
            </a:r>
            <a:r>
              <a:rPr b="1" lang="ru-RU" sz="16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 – ( гр. </a:t>
            </a:r>
            <a:r>
              <a:rPr b="1" lang="en-US" sz="16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drama</a:t>
            </a:r>
            <a:r>
              <a:rPr b="1" lang="ru-RU" sz="16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 -  действие) – один из четырёх литературных родов, предполагающий создание художественного мира литературных произведений в форме сценического воплощения (спектакля). В другом значении термин  «драма»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        </a:t>
            </a:r>
            <a:r>
              <a:rPr b="1" lang="ru-RU" sz="16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обозначает один из жанров драматургии (в отличие от комедии и трагедии)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1581f"/>
                </a:solidFill>
                <a:uFillTx/>
                <a:latin typeface="Times New Roman"/>
                <a:ea typeface="Times New Roman"/>
              </a:rPr>
              <a:t>ДРАМАТУРГИЯ </a:t>
            </a:r>
            <a:r>
              <a:rPr b="1" lang="ru-RU" sz="16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– собирательное название всех литературных произведений, предназначенных для сценического воплощения в театре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1581f"/>
                </a:solidFill>
                <a:uFillTx/>
                <a:latin typeface="Times New Roman"/>
                <a:ea typeface="Times New Roman"/>
              </a:rPr>
              <a:t>ТРАГЕДИЯ </a:t>
            </a:r>
            <a:r>
              <a:rPr b="1" lang="ru-RU" sz="16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– ( гр. </a:t>
            </a:r>
            <a:r>
              <a:rPr b="1" lang="en-US" sz="16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tragodia </a:t>
            </a:r>
            <a:r>
              <a:rPr b="1" lang="ru-RU" sz="16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- </a:t>
            </a:r>
            <a:r>
              <a:rPr b="1" lang="en-US" sz="16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буквально «козлиная песнь») – вид драмы, противоположный комедии. Драматический жанр, который строится на трагическом (изначально неразрешимом) конфликте между героем и обстоятельствами или на столь  же неразрешимом конфликте внутренних побуждений в душе героя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280800" y="428760"/>
            <a:ext cx="4290840" cy="87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3b14"/>
                </a:solidFill>
                <a:latin typeface="Franklin Gothic Medium"/>
              </a:rPr>
              <a:t>V</a:t>
            </a:r>
            <a:r>
              <a:rPr b="1" lang="ru-RU" sz="1800" spc="-1" strike="noStrike">
                <a:solidFill>
                  <a:srgbClr val="603b14"/>
                </a:solidFill>
                <a:latin typeface="Franklin Gothic Medium"/>
              </a:rPr>
              <a:t>. ЧТЕНИЕ ФРАГМЕНТА «СЦЕНА В ЧУДОВОМ МОНАСТЫРЕ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645080" y="428760"/>
            <a:ext cx="4292640" cy="87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3b14"/>
                </a:solidFill>
                <a:latin typeface="Franklin Gothic Medium"/>
              </a:rPr>
              <a:t>VI</a:t>
            </a:r>
            <a:r>
              <a:rPr b="1" lang="ru-RU" sz="1800" spc="-1" strike="noStrike">
                <a:solidFill>
                  <a:srgbClr val="603b14"/>
                </a:solidFill>
                <a:latin typeface="Franklin Gothic Medium"/>
              </a:rPr>
              <a:t>. СЛОВАРНАЯ РАБОТА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647960" y="1071720"/>
            <a:ext cx="428940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ХАРТИЯ</a:t>
            </a:r>
            <a:r>
              <a:rPr b="0" lang="ru-RU" sz="15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 – старинная рукопись, документ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ВЕЧЕ</a:t>
            </a:r>
            <a:r>
              <a:rPr b="0" lang="ru-RU" sz="15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 – в Древней Руси собрание горожан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ДЬЯК – в Древней Руси должностное лицо,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ведущее дела какого-нибудь учреждения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ПРИКАЗ </a:t>
            </a:r>
            <a:r>
              <a:rPr b="0" lang="ru-RU" sz="15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– в Московском государстве 16-17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веков   учреждение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КРОМЕШНИКИ </a:t>
            </a:r>
            <a:r>
              <a:rPr b="0" lang="ru-RU" sz="15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– здесь опричники. (по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старинным понятиям, грешники, чьи души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после смерти будут помещены в ад)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ИГУМЕН </a:t>
            </a:r>
            <a:r>
              <a:rPr b="0" lang="ru-RU" sz="15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– настоятель монастыря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АЛКАТЬ </a:t>
            </a:r>
            <a:r>
              <a:rPr b="0" lang="ru-RU" sz="15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– сильно желать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ОБЕТ</a:t>
            </a:r>
            <a:r>
              <a:rPr b="0" lang="ru-RU" sz="15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 – торжественное обещание,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обязательство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СХИМА </a:t>
            </a:r>
            <a:r>
              <a:rPr b="0" lang="ru-RU" sz="15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– монашеский чин, налагающий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самые строгие правила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ЗАНЕ </a:t>
            </a:r>
            <a:r>
              <a:rPr b="0" lang="ru-RU" sz="15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– потому что, так как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03b14"/>
                </a:solidFill>
                <a:latin typeface="Franklin Gothic Book"/>
              </a:rPr>
              <a:t>Найдите в словаре (Даля или Ожегова) или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03b14"/>
                </a:solidFill>
                <a:latin typeface="Franklin Gothic Book"/>
              </a:rPr>
              <a:t>вспомните определение архаизмов</a:t>
            </a:r>
            <a:r>
              <a:rPr b="0" i="1" lang="ru-RU" sz="1500" spc="-1" strike="noStrike">
                <a:solidFill>
                  <a:srgbClr val="603b14"/>
                </a:solidFill>
                <a:latin typeface="Franklin Gothic Book"/>
              </a:rPr>
              <a:t>: днесь,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603b14"/>
                </a:solidFill>
                <a:latin typeface="Franklin Gothic Book"/>
              </a:rPr>
              <a:t>присно, смирять, отрок, инок, келья, сетовать,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603b14"/>
                </a:solidFill>
                <a:latin typeface="Franklin Gothic Book"/>
              </a:rPr>
              <a:t>ратный, блаженство, клобук, чернец,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603b14"/>
                </a:solidFill>
                <a:latin typeface="Franklin Gothic Book"/>
              </a:rPr>
              <a:t>послушанье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6" name="Содержимое 6" descr="«Борис Годунов». Сцена 5. Ночь. Келья в Чудовом монастыре. Пимен и Григорий. Художник Б. Зворыкин. 1925"/>
          <p:cNvPicPr/>
          <p:nvPr/>
        </p:nvPicPr>
        <p:blipFill>
          <a:blip r:embed="rId1"/>
          <a:stretch/>
        </p:blipFill>
        <p:spPr>
          <a:xfrm>
            <a:off x="357120" y="1000080"/>
            <a:ext cx="407196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06:34:50Z</dcterms:created>
  <dc:creator>Савенкова</dc:creator>
  <dc:description/>
  <dc:language>en-US</dc:language>
  <cp:lastModifiedBy>RePack by Diakov</cp:lastModifiedBy>
  <dcterms:modified xsi:type="dcterms:W3CDTF">2018-09-19T05:33:19Z</dcterms:modified>
  <cp:revision>38</cp:revision>
  <dc:subject/>
  <dc:title>Слайд 1</dc:title>
</cp:coreProperties>
</file>